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5.wmf" ContentType="image/x-wmf"/>
  <Override PartName="/ppt/media/image17.png" ContentType="image/png"/>
  <Override PartName="/ppt/media/image64.wmf" ContentType="image/x-wmf"/>
  <Override PartName="/ppt/media/image24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1.wmf" ContentType="image/x-wmf"/>
  <Override PartName="/ppt/media/image26.png" ContentType="image/png"/>
  <Override PartName="/ppt/media/image6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4FE-57C5-4BA5-8712-27AACA61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733-B892-4184-B180-F6624D0D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7A0-768B-4401-B985-875BBE4E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119-1996-4BC8-8DE3-E841029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C9C-35C2-4FB3-8A11-CE9C9066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82C-3B54-4A41-AD7C-7E50B73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9E0-E8CE-42D8-BD06-EC77B257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76E-7237-4893-AF33-E0F7E25A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AF2-E9BB-459A-B90F-F5BFBDBC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478-7AB0-4951-B02F-F05DA526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71F-F586-4E32-A4F2-3DDB9EBF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554-EC60-4E25-B2FF-AF79619E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041-6500-4EF2-AB1A-43432D3AB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1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9.png"/><Relationship Id="rId10" Type="http://schemas.openxmlformats.org/officeDocument/2006/relationships/image" Target="../media/image1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3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Agents in Distributed Compu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rge Cybenko and Bob Gr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yer School of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george.cybenko,robert.gray}@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PS/SPDP ‘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2-16, San Juan,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0240" y="22208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440" y="304164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388476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" y="471636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18D-70D8-4BCC-8ACD-D9FD9B4C7BC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25520" y="27036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765440" y="1982880"/>
            <a:ext cx="811080" cy="635040"/>
          </a:xfrm>
          <a:prstGeom prst="cloudCallout">
            <a:avLst>
              <a:gd name="adj1" fmla="val -85226"/>
              <a:gd name="adj2" fmla="val 18999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87480" y="338760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to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l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8360" y="1959120"/>
            <a:ext cx="46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s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locations of candidate servi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latenc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bandwidth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machine l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5240" y="1311120"/>
            <a:ext cx="2998800" cy="3510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69720" y="518796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s an infrastructure for supplying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A53-73A8-43A7-ACD7-3564E801AF65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962280" y="1600200"/>
            <a:ext cx="600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measured by “p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widths measured by “b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y services to locat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hierarchical network 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NMP, et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machine load metr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132-2578-48FF-9EC7-734B66095096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FAC-E126-4D6A-8BC1-8AC7C6FB4D0A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9528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ing of Sentinel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0760" y="15289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84360" y="4119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2400" y="1984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872400" y="22892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2400" y="2593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72400" y="2898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059280" y="2593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259680" y="221256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6335640" y="244152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59680" y="26701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335640" y="259380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87600" y="25970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75880" y="2048040"/>
            <a:ext cx="11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49756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3680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>
            <a:off x="849240" y="216684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237348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1272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72080" y="367524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limited bandwidth/capacity be al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222920" y="4540320"/>
            <a:ext cx="70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ulated model using data resour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optimal scheduling using efficient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with look-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18960" y="1527120"/>
            <a:ext cx="861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9AE-FF5A-45E7-844A-7ED3C6220435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2361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2362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3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2365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6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2368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I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2378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1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ove entire agent onto the Palm, so that it can return through a different pro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617-B3B8-462D-8189-0AB99B5FDF4E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3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384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2385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2388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2391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2406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2413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FA1-0637-4738-94FD-CAA64F21CFE5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2431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391-FFAD-44DF-A8A0-275C1C948E03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3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2434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1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2442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81D-0A55-4DBB-BF9D-61126767EDFF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8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2449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71A-5554-4DD2-A929-2564D6F26AAC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1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2452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3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2454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2455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1C1-8120-42E9-8E5E-3561AB32AC66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1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22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22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3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9A7-EDD6-485A-9AB3-E66B54D616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395-6A18-4126-B55F-17833DD601B1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-generation mobile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19640" y="1413000"/>
            <a:ext cx="770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mass market technology - browser plu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lightweight devices - Palm devi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ni- and CORBA-based global directo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 “patterns”….what are they? 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support for mobile agents from within 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ECD-11E1-4636-BEDF-525CDBB91834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ill it take to get ther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087200" y="1203480"/>
            <a:ext cx="564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re people trying mobile-code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ome, but not too many,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bracing the mobile-code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6" name="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1852560" cy="1263600"/>
          </a:xfrm>
          <a:prstGeom prst="rect">
            <a:avLst/>
          </a:prstGeom>
          <a:ln w="0">
            <a:noFill/>
          </a:ln>
        </p:spPr>
      </p:pic>
      <p:pic>
        <p:nvPicPr>
          <p:cNvPr id="2477" name="" descr=""/>
          <p:cNvPicPr/>
          <p:nvPr/>
        </p:nvPicPr>
        <p:blipFill>
          <a:blip r:embed="rId2"/>
          <a:stretch/>
        </p:blipFill>
        <p:spPr>
          <a:xfrm>
            <a:off x="2084400" y="3222720"/>
            <a:ext cx="3867120" cy="71424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3"/>
          <a:stretch/>
        </p:blipFill>
        <p:spPr>
          <a:xfrm>
            <a:off x="5083200" y="3951360"/>
            <a:ext cx="1981080" cy="47448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4"/>
          <a:stretch/>
        </p:blipFill>
        <p:spPr>
          <a:xfrm>
            <a:off x="2436840" y="169236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480" name="" descr=""/>
          <p:cNvPicPr/>
          <p:nvPr/>
        </p:nvPicPr>
        <p:blipFill>
          <a:blip r:embed="rId5"/>
          <a:stretch/>
        </p:blipFill>
        <p:spPr>
          <a:xfrm>
            <a:off x="4572000" y="5016600"/>
            <a:ext cx="380988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FC0-3F51-4614-9430-04901ABC29E5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cala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85800" y="157464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 Scal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  - Company - (approximately 600 agents required per comp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 - Battalion - (approximately 1,400 agents required per batta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D - Command - (approximately 2,400 agents required per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838080" y="233676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3676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149-2E8D-453C-A7A6-89F9EA73B72E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pull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96760" y="1600200"/>
            <a:ext cx="736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 build on firm cryptographic basis i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questions:  How to protect code from ma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s?  What if an “intruder” or “enemy”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v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global, heterogeneous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link is still weak, especially with PDA’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11B-C142-416F-8F0F-309153DFC907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issue: Monitoring and contr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9" name="" descr=""/>
          <p:cNvPicPr/>
          <p:nvPr/>
        </p:nvPicPr>
        <p:blipFill>
          <a:blip r:embed="rId1"/>
          <a:stretch/>
        </p:blipFill>
        <p:spPr>
          <a:xfrm>
            <a:off x="222120" y="1719360"/>
            <a:ext cx="5888160" cy="3838320"/>
          </a:xfrm>
          <a:prstGeom prst="rect">
            <a:avLst/>
          </a:prstGeom>
          <a:ln w="0">
            <a:noFill/>
          </a:ln>
        </p:spPr>
      </p:pic>
      <p:sp>
        <p:nvSpPr>
          <p:cNvPr id="2490" name=""/>
          <p:cNvSpPr/>
          <p:nvPr/>
        </p:nvSpPr>
        <p:spPr>
          <a:xfrm>
            <a:off x="6367320" y="1584360"/>
            <a:ext cx="262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we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ea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,000’s of no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000,000’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ca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de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F8E-0824-4D73-BB92-FAB7C16229B5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9680" y="1536840"/>
            <a:ext cx="4533840" cy="363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Application Sui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132000" y="2028960"/>
            <a:ext cx="97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4" name="smart" descr=""/>
          <p:cNvPicPr/>
          <p:nvPr/>
        </p:nvPicPr>
        <p:blipFill>
          <a:blip r:embed="rId2"/>
          <a:stretch/>
        </p:blipFill>
        <p:spPr>
          <a:xfrm>
            <a:off x="857160" y="2084400"/>
            <a:ext cx="1173240" cy="720720"/>
          </a:xfrm>
          <a:prstGeom prst="rect">
            <a:avLst/>
          </a:prstGeom>
          <a:ln w="0">
            <a:noFill/>
          </a:ln>
        </p:spPr>
      </p:pic>
      <p:pic>
        <p:nvPicPr>
          <p:cNvPr id="2495" name="list" descr=""/>
          <p:cNvPicPr/>
          <p:nvPr/>
        </p:nvPicPr>
        <p:blipFill>
          <a:blip r:embed="rId3"/>
          <a:stretch/>
        </p:blipFill>
        <p:spPr>
          <a:xfrm>
            <a:off x="812880" y="2616120"/>
            <a:ext cx="407880" cy="43488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2120760" y="4048200"/>
            <a:ext cx="682920" cy="212760"/>
          </a:xfrm>
          <a:prstGeom prst="parallelogram">
            <a:avLst>
              <a:gd name="adj" fmla="val 9877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7" name="agentred" descr=""/>
          <p:cNvPicPr/>
          <p:nvPr/>
        </p:nvPicPr>
        <p:blipFill>
          <a:blip r:embed="rId4"/>
          <a:stretch/>
        </p:blipFill>
        <p:spPr>
          <a:xfrm>
            <a:off x="2214720" y="395604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2498" name=""/>
          <p:cNvSpPr/>
          <p:nvPr/>
        </p:nvSpPr>
        <p:spPr>
          <a:xfrm>
            <a:off x="1243080" y="2631960"/>
            <a:ext cx="199800" cy="2127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0559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89240" y="3209760"/>
            <a:ext cx="79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506400" y="4322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375000" y="4103640"/>
            <a:ext cx="684360" cy="212760"/>
          </a:xfrm>
          <a:prstGeom prst="parallelogram">
            <a:avLst>
              <a:gd name="adj" fmla="val 989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603600" y="401940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507480" y="3043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381480" y="2828880"/>
            <a:ext cx="684000" cy="212760"/>
          </a:xfrm>
          <a:prstGeom prst="parallelogram">
            <a:avLst>
              <a:gd name="adj" fmla="val 989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610080" y="275112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2470320" y="2971440"/>
            <a:ext cx="1122120" cy="1017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467080" y="4011480"/>
            <a:ext cx="1112760" cy="14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757600" y="3657600"/>
            <a:ext cx="77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198520" y="2981160"/>
            <a:ext cx="5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223000" y="427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60320" y="3044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27240" y="3070080"/>
            <a:ext cx="966600" cy="93672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444680" y="2814480"/>
            <a:ext cx="900000" cy="11080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85880" y="4226040"/>
            <a:ext cx="744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3976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95320" y="3832200"/>
            <a:ext cx="12528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90324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96760" y="4226040"/>
            <a:ext cx="12564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7" idx="3"/>
            <a:endCxn id="2516" idx="1"/>
          </p:cNvCxnSpPr>
          <p:nvPr/>
        </p:nvCxnSpPr>
        <p:spPr>
          <a:xfrm>
            <a:off x="1025640" y="3903840"/>
            <a:ext cx="11016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8" idx="3"/>
            <a:endCxn id="2516" idx="1"/>
          </p:cNvCxnSpPr>
          <p:nvPr/>
        </p:nvCxnSpPr>
        <p:spPr>
          <a:xfrm>
            <a:off x="1033560" y="4106520"/>
            <a:ext cx="102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519" idx="3"/>
            <a:endCxn id="2516" idx="1"/>
          </p:cNvCxnSpPr>
          <p:nvPr/>
        </p:nvCxnSpPr>
        <p:spPr>
          <a:xfrm flipV="1">
            <a:off x="1027080" y="4106160"/>
            <a:ext cx="10872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3" name=""/>
          <p:cNvSpPr/>
          <p:nvPr/>
        </p:nvSpPr>
        <p:spPr>
          <a:xfrm flipV="1">
            <a:off x="1276200" y="4100040"/>
            <a:ext cx="928800" cy="3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380960" y="411012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221800" y="1292400"/>
            <a:ext cx="38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ing for a “killer app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ts of mobile ag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are based on sh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many application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improv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pplication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o be develop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roups, s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tak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87840" y="54910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BE9-52BB-4655-AD09-AC3B3111A811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C92-1BC2-423F-B19F-2028B98E5E5B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2563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2572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2573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3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2585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1C0-4FA0-4488-9FC2-40DB2A89EC2F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ercial fu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53720" y="1617840"/>
            <a:ext cx="70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ftware industry is evolving toward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predic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Java, JDK, free to users and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pen systems must be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evelopment of applications based on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ollow Web and Java 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3AD-8EE2-435B-A4FC-862BBACE7DBD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2520" y="5175360"/>
            <a:ext cx="24134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8904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094-61CE-4442-A46E-41B47243661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240" y="1177920"/>
            <a:ext cx="8488080" cy="48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’s Information Technology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ITAC) report is full of agent-type applic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s, new ideas for global compu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hpcc.gov/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F - KDI and advanced networking and comput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 - Strategic Simulation Initiative (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PA - several agent programs, perhaps mor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- Information Power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679-8175-4DBD-BC90-832F2EE68746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79240" y="1360440"/>
            <a:ext cx="76874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start something new…just evolve exis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not invente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8CA-23E1-4F10-8D4F-C7B610038F26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912960" y="1565280"/>
            <a:ext cx="7589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computing paradigm, lots to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ystems are evolving there anyway…get ou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745-B326-46A2-8DC9-0310087D32F3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B9D-C5A4-4B34-ACF3-0B4F9AF8E387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2668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62400" y="569124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ing so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940-F55A-4658-BDEF-501AF465F5EE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67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7" idx="6"/>
              <a:endCxn id="268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67" idx="2"/>
              <a:endCxn id="269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74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75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77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79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288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295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04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13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39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CB5-E181-49BC-BC76-4350A7CCC1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3200" y="1546200"/>
            <a:ext cx="8330040" cy="4041360"/>
            <a:chOff x="403200" y="1546200"/>
            <a:chExt cx="8330040" cy="4041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5240" y="2952360"/>
              <a:ext cx="14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70280" y="4727160"/>
              <a:ext cx="125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200" y="1546200"/>
              <a:ext cx="97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n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A10-B6D8-4136-8531-48B0E0332F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tion: Distributed simu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70880" y="1158840"/>
            <a:ext cx="8230320" cy="5073480"/>
            <a:chOff x="470880" y="1158840"/>
            <a:chExt cx="8230320" cy="50734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679400" y="3344760"/>
              <a:ext cx="6051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284560" y="223848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2246400"/>
              <a:ext cx="420516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13000" y="2255760"/>
              <a:ext cx="417348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0280" y="2268360"/>
              <a:ext cx="413892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6480" y="227952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3760" y="2292480"/>
              <a:ext cx="407196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230184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97240" y="2314440"/>
              <a:ext cx="400500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14520" y="2325600"/>
              <a:ext cx="397044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8920" y="2338560"/>
              <a:ext cx="3941640" cy="271296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6200" y="2349360"/>
              <a:ext cx="390708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62040" y="2359080"/>
              <a:ext cx="387540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9680" y="2371680"/>
              <a:ext cx="384012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2382840"/>
              <a:ext cx="380844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13160" y="239544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9000" y="2405160"/>
              <a:ext cx="3741480" cy="257976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6280" y="2417760"/>
              <a:ext cx="370692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3920" y="2428920"/>
              <a:ext cx="367164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77960" y="2441520"/>
              <a:ext cx="3643560" cy="25084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3800" y="2451240"/>
              <a:ext cx="3611880" cy="248760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11440" y="2462040"/>
              <a:ext cx="357660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9080" y="247500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44920" y="2484360"/>
              <a:ext cx="350964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2200" y="2496960"/>
              <a:ext cx="347508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8040" y="2508120"/>
              <a:ext cx="344340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5680" y="2521080"/>
              <a:ext cx="340812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9720" y="2530440"/>
              <a:ext cx="338004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7360" y="2543040"/>
              <a:ext cx="334476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2554200"/>
              <a:ext cx="331308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60840" y="2563920"/>
              <a:ext cx="3278160" cy="226224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8120" y="2576520"/>
              <a:ext cx="324324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3960" y="2587680"/>
              <a:ext cx="321156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1600" y="2600280"/>
              <a:ext cx="317628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27440" y="2611440"/>
              <a:ext cx="314460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720" y="2622600"/>
              <a:ext cx="311004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9120" y="2633760"/>
              <a:ext cx="3081240" cy="212256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6400" y="2646360"/>
              <a:ext cx="304668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92600" y="265752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9880" y="2666880"/>
              <a:ext cx="297972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25720" y="2679840"/>
              <a:ext cx="2948040" cy="203040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3360" y="2690640"/>
              <a:ext cx="291276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0640" y="2703600"/>
              <a:ext cx="287820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6480" y="2712960"/>
              <a:ext cx="284652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0880" y="2725560"/>
              <a:ext cx="281772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08160" y="2736720"/>
              <a:ext cx="278316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25800" y="2749680"/>
              <a:ext cx="274788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1640" y="2759040"/>
              <a:ext cx="271620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9280" y="277020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75120" y="2782800"/>
              <a:ext cx="264924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2792520"/>
              <a:ext cx="2614680" cy="180504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10040" y="2805120"/>
              <a:ext cx="257940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25880" y="2816280"/>
              <a:ext cx="254772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9920" y="2828880"/>
              <a:ext cx="2519640" cy="173376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57560" y="2838600"/>
              <a:ext cx="2484360" cy="171288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4840" y="2851200"/>
              <a:ext cx="244980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91040" y="2862360"/>
              <a:ext cx="2417760" cy="166536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8320" y="2873520"/>
              <a:ext cx="2382840" cy="164448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24160" y="2884320"/>
              <a:ext cx="235116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1800" y="2895480"/>
              <a:ext cx="231588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7640" y="2908440"/>
              <a:ext cx="2284200" cy="157320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3480" y="2919240"/>
              <a:ext cx="225252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9320" y="2932200"/>
              <a:ext cx="222084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06600" y="2941560"/>
              <a:ext cx="218628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4240" y="295416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0080" y="2965320"/>
              <a:ext cx="211932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7720" y="2975040"/>
              <a:ext cx="208728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73560" y="298764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0840" y="299880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06680" y="301140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2520" y="3021120"/>
              <a:ext cx="195768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38360" y="3033720"/>
              <a:ext cx="192420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56000" y="304488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1840" y="305748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480" y="3067200"/>
              <a:ext cx="1822320" cy="125712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06760" y="3078000"/>
              <a:ext cx="178920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22600" y="309096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40240" y="3100320"/>
              <a:ext cx="172224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54280" y="311292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1920" y="312408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760" y="3137040"/>
              <a:ext cx="1625760" cy="111888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5040" y="3146400"/>
              <a:ext cx="1592280" cy="109872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21240" y="315900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8520" y="317016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6160" y="3181320"/>
              <a:ext cx="149040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2000" y="319392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9280" y="3203640"/>
              <a:ext cx="142416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3680" y="321624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0960" y="3227400"/>
              <a:ext cx="136080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6800" y="3240000"/>
              <a:ext cx="132732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54440" y="324972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70280" y="326232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87920" y="327348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3760" y="328284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21040" y="3295800"/>
              <a:ext cx="1158840" cy="79992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35440" y="330660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2720" y="331956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3328920"/>
              <a:ext cx="106380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334152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3840" y="3352680"/>
              <a:ext cx="99504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19680" y="3365640"/>
              <a:ext cx="961920" cy="66168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6960" y="3375000"/>
              <a:ext cx="928800" cy="64152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0" y="338616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70440" y="339876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84480" y="340992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02120" y="342108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7960" y="3432240"/>
              <a:ext cx="76500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5600" y="344484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2880" y="345600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8720" y="346716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6360" y="3478320"/>
              <a:ext cx="63000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02200" y="34894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18040" y="3502080"/>
              <a:ext cx="56664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3880" y="351144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51160" y="3524400"/>
              <a:ext cx="500040" cy="34416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7360" y="353520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84640" y="3548160"/>
              <a:ext cx="43164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0480" y="355752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18120" y="3570120"/>
              <a:ext cx="365040" cy="25272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5400" y="3581280"/>
              <a:ext cx="33192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51240" y="359100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7080" y="3603600"/>
              <a:ext cx="268560" cy="18432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82920" y="361476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00560" y="362736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6400" y="3637080"/>
              <a:ext cx="16812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34040" y="3649680"/>
              <a:ext cx="13464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9880" y="366084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67160" y="367344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84800" y="3683160"/>
              <a:ext cx="33120" cy="2520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000" y="3241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1752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360" y="32418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624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8552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596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648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664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6808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52800" y="372420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79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18480" y="372420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336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52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241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350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5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75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9120" y="3724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4920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88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97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4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2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6013440" y="4651200"/>
              <a:ext cx="6048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2486160" y="1633680"/>
              <a:ext cx="80640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>
              <a:off x="6518160" y="153360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5"/>
            <a:stretch/>
          </p:blipFill>
          <p:spPr>
            <a:xfrm>
              <a:off x="2798640" y="4853160"/>
              <a:ext cx="90828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511360" y="3646440"/>
              <a:ext cx="452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84280" y="3578400"/>
              <a:ext cx="13032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0640" y="358128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664080" y="4656240"/>
              <a:ext cx="6480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70200" y="45514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4240" y="4708440"/>
              <a:ext cx="12852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13320" y="4518000"/>
              <a:ext cx="39708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8560" y="445140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67560" y="47260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603760" y="2517840"/>
              <a:ext cx="517680" cy="444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75360" y="2438280"/>
              <a:ext cx="139680" cy="1368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10160" y="290664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70400" y="2435400"/>
              <a:ext cx="247680" cy="309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92640" y="2338560"/>
              <a:ext cx="13464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840" y="2698920"/>
              <a:ext cx="13500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0880" y="1512720"/>
              <a:ext cx="144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SF 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97800" y="2925720"/>
              <a:ext cx="200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bile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nk weak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up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0560" y="1292400"/>
              <a:ext cx="16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uou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86240" y="1158840"/>
              <a:ext cx="1425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mitte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1240" y="521352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395460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95560" y="5651640"/>
              <a:ext cx="23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expected (such as emergency relief) 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052-DE23-4112-80F9-55BD548D79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540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543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553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010-75F8-46ED-BA87-7EFF6B343A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83E-31F1-494A-A7EF-27DF92DCC3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EEB-137C-4DE0-9118-FD01188E91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3EA-97FE-4A35-B552-6042F4978F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Kotz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da Wilson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27880" y="36338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4329000"/>
            <a:ext cx="2238480" cy="1733400"/>
            <a:chOff x="228600" y="4329000"/>
            <a:chExt cx="2238480" cy="1733400"/>
          </a:xfrm>
        </p:grpSpPr>
        <p:pic>
          <p:nvPicPr>
            <p:cNvPr id="49" name="darpa" descr=""/>
            <p:cNvPicPr/>
            <p:nvPr/>
          </p:nvPicPr>
          <p:blipFill>
            <a:blip r:embed="rId1"/>
            <a:stretch/>
          </p:blipFill>
          <p:spPr>
            <a:xfrm>
              <a:off x="433440" y="4329000"/>
              <a:ext cx="18288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28600" y="541980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RPA con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30602-98-2-0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11680" y="4172040"/>
            <a:ext cx="3113280" cy="2047680"/>
            <a:chOff x="5611680" y="4172040"/>
            <a:chExt cx="3113280" cy="2047680"/>
          </a:xfrm>
        </p:grpSpPr>
        <p:pic>
          <p:nvPicPr>
            <p:cNvPr id="52" name="muri-dod" descr=""/>
            <p:cNvPicPr/>
            <p:nvPr/>
          </p:nvPicPr>
          <p:blipFill>
            <a:blip r:embed="rId2"/>
            <a:stretch/>
          </p:blipFill>
          <p:spPr>
            <a:xfrm>
              <a:off x="6483240" y="4172040"/>
              <a:ext cx="1371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11680" y="5577120"/>
              <a:ext cx="311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D MURI (AFOSR contract F49620-97-1-0382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51000" y="4498920"/>
            <a:ext cx="2155680" cy="1395000"/>
            <a:chOff x="3051000" y="4498920"/>
            <a:chExt cx="2155680" cy="1395000"/>
          </a:xfrm>
        </p:grpSpPr>
        <p:pic>
          <p:nvPicPr>
            <p:cNvPr id="55" name="nsf" descr=""/>
            <p:cNvPicPr/>
            <p:nvPr/>
          </p:nvPicPr>
          <p:blipFill>
            <a:blip r:embed="rId3"/>
            <a:stretch/>
          </p:blipFill>
          <p:spPr>
            <a:xfrm>
              <a:off x="3051000" y="4498920"/>
              <a:ext cx="2155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063600" y="525132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SF KDI Grant 9873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362-E5B9-4AD0-ACD4-881AB69FE4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6CD-77C8-4E4E-BF62-C9BD8AB54C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479-B59E-4F15-B329-99ECEF79D4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E3C-63FA-411C-AE30-125DDC77ABD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31840" y="26035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connected operations - 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justif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01400" y="139392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nts are persistent objects within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55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511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64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417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73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326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31840" y="41274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555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511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464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417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373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326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0960" y="2146320"/>
            <a:ext cx="7467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0960" y="3822840"/>
            <a:ext cx="74674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31840" y="53197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55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11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464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417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373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326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5760" y="5243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5732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9724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34800" y="26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3200" y="31021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51600" y="38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38760" y="50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5732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972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34800" y="420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7560" y="4086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067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023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213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249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431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4312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3076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8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1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929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00680" y="5803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027320" y="275580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3494160" y="428004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4408560" y="54720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808360" y="43560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65760" y="557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E53-251B-49AB-A282-1C7EEF23E0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5AD-6152-4CE3-BE42-7DB48D50295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D25-DC8E-48E4-BCED-A7CF258AA2F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6560" y="1165320"/>
            <a:ext cx="7405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 we will take a quick look at the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587-38AB-4082-99BA-C42EFD2D8CC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79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81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81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509-8594-48A5-9CA6-6ACCEDBBCD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3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2CD-FCE5-4BB8-B3CB-3F7508C41D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87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87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A3E-F7A8-492F-8D6F-95577C82B8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CCA-6781-4B4F-8794-9016F2D706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DFA-F51E-4362-96DD-9324F289FDC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68E-2A1B-4616-9AA9-253E1F961F6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92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93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94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94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15D-8183-4A92-BB72-C7FDF83EE33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ulation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72320" y="1638360"/>
            <a:ext cx="5455800" cy="4379400"/>
            <a:chOff x="3172320" y="1638360"/>
            <a:chExt cx="5455800" cy="4379400"/>
          </a:xfrm>
        </p:grpSpPr>
        <p:pic>
          <p:nvPicPr>
            <p:cNvPr id="962" name="" descr=""/>
            <p:cNvPicPr/>
            <p:nvPr/>
          </p:nvPicPr>
          <p:blipFill>
            <a:blip r:embed="rId1"/>
            <a:stretch/>
          </p:blipFill>
          <p:spPr>
            <a:xfrm>
              <a:off x="3254400" y="3449520"/>
              <a:ext cx="604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3859200" y="234324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71800" y="2351160"/>
              <a:ext cx="420552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87640" y="2360520"/>
              <a:ext cx="417384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05280" y="2373120"/>
              <a:ext cx="413856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921120" y="238428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38760" y="2397240"/>
              <a:ext cx="407160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56040" y="240660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71880" y="2419200"/>
              <a:ext cx="400536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89520" y="2430360"/>
              <a:ext cx="397008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03560" y="2442960"/>
              <a:ext cx="3942000" cy="27133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21200" y="2454120"/>
              <a:ext cx="390672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7040" y="2463840"/>
              <a:ext cx="387504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4320" y="2476440"/>
              <a:ext cx="384048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0520" y="2487600"/>
              <a:ext cx="380808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250020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03640" y="2509920"/>
              <a:ext cx="3741840" cy="257940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21280" y="2522520"/>
              <a:ext cx="370656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38560" y="2533680"/>
              <a:ext cx="367200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52960" y="2546280"/>
              <a:ext cx="3643200" cy="250812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68800" y="2555640"/>
              <a:ext cx="3611520" cy="248796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6080" y="2566800"/>
              <a:ext cx="357696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3720" y="257976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2589120"/>
              <a:ext cx="351000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37200" y="2601720"/>
              <a:ext cx="347472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3040" y="2612880"/>
              <a:ext cx="344304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70320" y="2625840"/>
              <a:ext cx="340848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84720" y="2635200"/>
              <a:ext cx="337968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2000" y="2647800"/>
              <a:ext cx="334512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17840" y="2658960"/>
              <a:ext cx="331344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5480" y="2668680"/>
              <a:ext cx="3278160" cy="226188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52760" y="2681280"/>
              <a:ext cx="324360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68960" y="2692440"/>
              <a:ext cx="321120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386240" y="2705040"/>
              <a:ext cx="317664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02080" y="2716200"/>
              <a:ext cx="314496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2727360"/>
              <a:ext cx="310968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33760" y="2738520"/>
              <a:ext cx="3081600" cy="212220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51400" y="2751120"/>
              <a:ext cx="304632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7240" y="276228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4520" y="2771640"/>
              <a:ext cx="298008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0720" y="2784240"/>
              <a:ext cx="2947680" cy="203076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18000" y="2795400"/>
              <a:ext cx="291312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35640" y="2808360"/>
              <a:ext cx="287784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1480" y="2817720"/>
              <a:ext cx="284616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65520" y="2830320"/>
              <a:ext cx="281808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841480"/>
              <a:ext cx="278280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00440" y="2854440"/>
              <a:ext cx="274824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16280" y="2863800"/>
              <a:ext cx="271656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33920" y="287496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49760" y="2887560"/>
              <a:ext cx="264960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67400" y="2897280"/>
              <a:ext cx="2614320" cy="18046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84680" y="2909880"/>
              <a:ext cx="257976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00520" y="2921040"/>
              <a:ext cx="254808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14920" y="2933640"/>
              <a:ext cx="2519280" cy="173340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32200" y="2943000"/>
              <a:ext cx="2484720" cy="171324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49840" y="2955960"/>
              <a:ext cx="244944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65680" y="2967120"/>
              <a:ext cx="2417760" cy="166500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82960" y="2977920"/>
              <a:ext cx="2382840" cy="164484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99160" y="2989080"/>
              <a:ext cx="235080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16440" y="3000240"/>
              <a:ext cx="231624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32280" y="3012840"/>
              <a:ext cx="2284560" cy="157356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48120" y="3024000"/>
              <a:ext cx="225288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863960" y="3036960"/>
              <a:ext cx="222120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81600" y="3046320"/>
              <a:ext cx="218592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98880" y="305892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15080" y="3070080"/>
              <a:ext cx="211896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32360" y="3079800"/>
              <a:ext cx="208764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48200" y="309240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65840" y="310356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81680" y="311616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97520" y="3125880"/>
              <a:ext cx="195732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3360" y="3138480"/>
              <a:ext cx="192384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30640" y="314964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46840" y="316224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64120" y="3171600"/>
              <a:ext cx="1822320" cy="125748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81760" y="3182760"/>
              <a:ext cx="178884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97600" y="319572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4880" y="3205080"/>
              <a:ext cx="172260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29280" y="321768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46560" y="322884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62400" y="3241440"/>
              <a:ext cx="1625760" cy="111924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251160"/>
              <a:ext cx="1592280" cy="109836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95880" y="326376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13520" y="327492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0800" y="3286080"/>
              <a:ext cx="149076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46640" y="329868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64280" y="3308400"/>
              <a:ext cx="142380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78320" y="332100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95960" y="3332160"/>
              <a:ext cx="136044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1800" y="3344760"/>
              <a:ext cx="132696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29080" y="335448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45280" y="336708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62560" y="337824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338760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96040" y="3400200"/>
              <a:ext cx="1158840" cy="80028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10080" y="341136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27720" y="342432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43560" y="3433680"/>
              <a:ext cx="106344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60840" y="344628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78480" y="3457440"/>
              <a:ext cx="99540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94320" y="3470040"/>
              <a:ext cx="961920" cy="66204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479760"/>
              <a:ext cx="928440" cy="64116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27800" y="349092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5080" y="350352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9480" y="351468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76760" y="352584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92600" y="3537000"/>
              <a:ext cx="76536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10240" y="354960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7520" y="356076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43720" y="357192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61000" y="3583080"/>
              <a:ext cx="63036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76840" y="35938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92680" y="3606840"/>
              <a:ext cx="56700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08520" y="361620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6160" y="3628800"/>
              <a:ext cx="500040" cy="34452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2000" y="363996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59280" y="3652920"/>
              <a:ext cx="43200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75480" y="366228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92760" y="3674880"/>
              <a:ext cx="365040" cy="25236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10400" y="3686040"/>
              <a:ext cx="33156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26240" y="369576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42080" y="3708360"/>
              <a:ext cx="268200" cy="18396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57920" y="371952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5200" y="373212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91040" y="3741840"/>
              <a:ext cx="16848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8680" y="3754440"/>
              <a:ext cx="13500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24520" y="376560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42160" y="377820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59440" y="3787560"/>
              <a:ext cx="33480" cy="2556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01640" y="33465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16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70360" y="33465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8124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6052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6060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2398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414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4308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27440" y="38289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8296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93480" y="38289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632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0828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1916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9880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100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20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21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24120" y="3828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2420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038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43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159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17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6" name="" descr=""/>
            <p:cNvPicPr/>
            <p:nvPr/>
          </p:nvPicPr>
          <p:blipFill>
            <a:blip r:embed="rId2"/>
            <a:stretch/>
          </p:blipFill>
          <p:spPr>
            <a:xfrm>
              <a:off x="7588080" y="4755960"/>
              <a:ext cx="605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"/>
            <a:stretch/>
          </p:blipFill>
          <p:spPr>
            <a:xfrm>
              <a:off x="4060800" y="173808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4"/>
            <a:stretch/>
          </p:blipFill>
          <p:spPr>
            <a:xfrm>
              <a:off x="8093160" y="163836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5"/>
            <a:stretch/>
          </p:blipFill>
          <p:spPr>
            <a:xfrm>
              <a:off x="4362480" y="4957560"/>
              <a:ext cx="9079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4967280" y="181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6376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036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0452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47360" y="18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8444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575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2592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98280" y="18162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58760" y="1816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9260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671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3336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7800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6656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256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9328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2820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6492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360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2280" y="1977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2512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2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28800" y="197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5040" y="18050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5616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2888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7316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3184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90160" y="18050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01400" y="1805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3812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8276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2560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8644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5880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205400" y="1966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40320" y="1966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1340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79640" y="1966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428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0504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640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3176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36668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0340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6208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20760" y="212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56504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006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7280" y="212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07880" y="54277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1192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78608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4476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0380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70040" y="5427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1432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4996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1800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9108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5696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08240" y="558792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65864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5000" y="558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069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793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1640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2640" y="5587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269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625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91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03680" y="55879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371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72320" y="42195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7636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052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40920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6824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34480" y="421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8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1440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8280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5552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21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72680" y="438156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2308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59800" y="43815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140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437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12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7440" y="4381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913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270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9396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8480" y="4381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16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91360" y="55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8748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6200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21040" y="55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764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60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1904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7720" y="55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22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140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390280" y="5689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3492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8604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87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178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9232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2580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204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316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62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34600" y="5689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4620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048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392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319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910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372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2276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90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4932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0764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400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79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796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8260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27240" y="58500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60720" y="585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34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8420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86360" y="3751200"/>
              <a:ext cx="45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59280" y="3682800"/>
              <a:ext cx="129960" cy="13356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238360" y="4761000"/>
              <a:ext cx="6516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45200" y="4656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8880" y="481320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88320" y="4622760"/>
              <a:ext cx="39672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83560" y="45561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42200" y="4830840"/>
              <a:ext cx="146160" cy="12672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178400" y="2622600"/>
              <a:ext cx="517320" cy="444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50000" y="2543040"/>
              <a:ext cx="140040" cy="1364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85160" y="301140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45040" y="2539800"/>
              <a:ext cx="247680" cy="309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67280" y="244296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5480" y="280332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90080" y="1441440"/>
            <a:ext cx="3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, ident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s, loa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l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beginn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ex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and how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ht have to evol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efficient and rob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87D-954F-46E9-A40E-FFC28B06BA3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0A1-3305-434D-8302-0C75662231E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937-9868-487F-A393-660EB02A6B0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82F-485C-4FD8-A0CF-FB357ECB22C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58840" y="1905120"/>
            <a:ext cx="4902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0720" y="2514600"/>
            <a:ext cx="990360" cy="60948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2DA-F7CE-4ABD-8E71-4383AEB92BD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134720" y="1832040"/>
            <a:ext cx="6885360" cy="3139920"/>
            <a:chOff x="1134720" y="1832040"/>
            <a:chExt cx="6885360" cy="3139920"/>
          </a:xfrm>
        </p:grpSpPr>
        <p:sp>
          <p:nvSpPr>
            <p:cNvPr id="1285" name=""/>
            <p:cNvSpPr/>
            <p:nvPr/>
          </p:nvSpPr>
          <p:spPr>
            <a:xfrm>
              <a:off x="1134720" y="183204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Java-based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52440" y="2633400"/>
              <a:ext cx="247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th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ingle-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67840" y="4146480"/>
              <a:ext cx="26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ultiple-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03800" y="1861920"/>
              <a:ext cx="37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glets, Voyager, Jumping Be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60040" y="3028680"/>
              <a:ext cx="34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Messengers, Obliq, Tele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80800" y="4360680"/>
              <a:ext cx="27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ra, Tacoma, D’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6E1-BB45-46BE-9708-7E0385E3F36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121400" y="1281240"/>
            <a:ext cx="6903360" cy="4892760"/>
            <a:chOff x="1121400" y="1281240"/>
            <a:chExt cx="6903360" cy="4892760"/>
          </a:xfrm>
        </p:grpSpPr>
        <p:sp>
          <p:nvSpPr>
            <p:cNvPr id="1293" name=""/>
            <p:cNvSpPr/>
            <p:nvPr/>
          </p:nvSpPr>
          <p:spPr>
            <a:xfrm>
              <a:off x="2973240" y="1281240"/>
              <a:ext cx="41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Procedure Call (R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77920" y="203652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 Command Language (NC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4680" y="2816280"/>
              <a:ext cx="36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Evaluation (R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71080" y="352908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lescript (rele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75760" y="425124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’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c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17760" y="128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517760" y="2814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519560" y="3527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21400" y="425124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 -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17760" y="2036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E7A-210D-482D-A583-7DF2A2FEABF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7000" y="1233360"/>
            <a:ext cx="490212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“big pict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1A1-29C4-4EFA-B709-F3F6D6A7C7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95F-D7FA-424F-AAB1-379862AAA9B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67840" y="1255680"/>
            <a:ext cx="8580600" cy="1194840"/>
            <a:chOff x="267840" y="1255680"/>
            <a:chExt cx="8580600" cy="1194840"/>
          </a:xfrm>
        </p:grpSpPr>
        <p:sp>
          <p:nvSpPr>
            <p:cNvPr id="1312" name=""/>
            <p:cNvSpPr/>
            <p:nvPr/>
          </p:nvSpPr>
          <p:spPr>
            <a:xfrm>
              <a:off x="267840" y="1255680"/>
              <a:ext cx="18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ort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31040" y="1990800"/>
              <a:ext cx="78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iled into bytecodes for a stack-based virtual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268560" y="39258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033560" y="3365640"/>
            <a:ext cx="7442280" cy="2390760"/>
            <a:chOff x="1033560" y="3365640"/>
            <a:chExt cx="7442280" cy="2390760"/>
          </a:xfrm>
        </p:grpSpPr>
        <p:sp>
          <p:nvSpPr>
            <p:cNvPr id="1316" name=""/>
            <p:cNvSpPr/>
            <p:nvPr/>
          </p:nvSpPr>
          <p:spPr>
            <a:xfrm>
              <a:off x="1033560" y="4764240"/>
              <a:ext cx="1104840" cy="992160"/>
            </a:xfrm>
            <a:prstGeom prst="foldedCorner">
              <a:avLst>
                <a:gd name="adj" fmla="val 2054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38680" y="4851360"/>
              <a:ext cx="128880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62680" y="4851360"/>
              <a:ext cx="128916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86680" y="4851360"/>
              <a:ext cx="1289160" cy="8175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02520" y="3365640"/>
              <a:ext cx="1422360" cy="952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187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1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310160" y="4293720"/>
              <a:ext cx="314280" cy="5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32480" y="5259600"/>
              <a:ext cx="70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E5F-D3B2-41E7-A6DE-4D39C62D29B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1440" y="2478240"/>
            <a:ext cx="62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1328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B29-A005-4E1F-82A6-D78184E50F4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mping Bea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164880" y="1252440"/>
            <a:ext cx="4340520" cy="4560840"/>
            <a:chOff x="164880" y="1252440"/>
            <a:chExt cx="4340520" cy="4560840"/>
          </a:xfrm>
        </p:grpSpPr>
        <p:sp>
          <p:nvSpPr>
            <p:cNvPr id="1333" name=""/>
            <p:cNvSpPr/>
            <p:nvPr/>
          </p:nvSpPr>
          <p:spPr>
            <a:xfrm>
              <a:off x="1893960" y="3049560"/>
              <a:ext cx="1255680" cy="1030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79680" y="1852560"/>
              <a:ext cx="2106360" cy="601560"/>
            </a:xfrm>
            <a:prstGeom prst="parallelogram">
              <a:avLst>
                <a:gd name="adj" fmla="val 1005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6720" y="174600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4880" y="1554120"/>
              <a:ext cx="172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i-serve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16200" y="1825560"/>
              <a:ext cx="3697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9760" y="5211720"/>
              <a:ext cx="2106720" cy="601560"/>
            </a:xfrm>
            <a:prstGeom prst="parallelogram">
              <a:avLst>
                <a:gd name="adj" fmla="val 100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6800" y="510516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98680" y="5194080"/>
              <a:ext cx="2106720" cy="601920"/>
            </a:xfrm>
            <a:prstGeom prst="parallelogram">
              <a:avLst>
                <a:gd name="adj" fmla="val 10049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25720" y="5087880"/>
              <a:ext cx="1108080" cy="56016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720" y="4601880"/>
              <a:ext cx="534960" cy="594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3" name="agentred" descr=""/>
            <p:cNvPicPr/>
            <p:nvPr/>
          </p:nvPicPr>
          <p:blipFill>
            <a:blip r:embed="rId1"/>
            <a:stretch/>
          </p:blipFill>
          <p:spPr>
            <a:xfrm>
              <a:off x="2390760" y="1252440"/>
              <a:ext cx="522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 flipV="1">
              <a:off x="1603440" y="4089240"/>
              <a:ext cx="347760" cy="48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495520" y="2314440"/>
              <a:ext cx="57240" cy="65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60400" y="274464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Jump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hrough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central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4695840" y="1071720"/>
            <a:ext cx="4331160" cy="4961160"/>
            <a:chOff x="4695840" y="1071720"/>
            <a:chExt cx="4331160" cy="4961160"/>
          </a:xfrm>
        </p:grpSpPr>
        <p:sp>
          <p:nvSpPr>
            <p:cNvPr id="1348" name=""/>
            <p:cNvSpPr/>
            <p:nvPr/>
          </p:nvSpPr>
          <p:spPr>
            <a:xfrm>
              <a:off x="4695840" y="2251080"/>
              <a:ext cx="432576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eak mo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entral serv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or tracking, managing and authenticating agents (but also failure point and bottlenec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istent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 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jumpingbean" descr=""/>
            <p:cNvPicPr/>
            <p:nvPr/>
          </p:nvPicPr>
          <p:blipFill>
            <a:blip r:embed="rId2"/>
            <a:stretch/>
          </p:blipFill>
          <p:spPr>
            <a:xfrm>
              <a:off x="4752720" y="113652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5348520" y="1468440"/>
              <a:ext cx="36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JumpingBeans.co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96280" y="10717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d Astra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AB8-A0F7-4047-8672-66F51E7BAC5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01720" y="2544840"/>
            <a:ext cx="7542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1357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212-2C31-471B-9CCA-D47F60623C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4A6-C94E-4D54-BB98-3A3122CD2E9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1365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446040" y="2533680"/>
            <a:ext cx="8258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, but work on fine-grained resource control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628-48E4-45B1-B646-A20C12E6C85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20840" y="1130400"/>
            <a:ext cx="8318880" cy="1369800"/>
            <a:chOff x="420840" y="1130400"/>
            <a:chExt cx="8318880" cy="1369800"/>
          </a:xfrm>
        </p:grpSpPr>
        <p:pic>
          <p:nvPicPr>
            <p:cNvPr id="1372" name="obliq" descr=""/>
            <p:cNvPicPr/>
            <p:nvPr/>
          </p:nvPicPr>
          <p:blipFill>
            <a:blip r:embed="rId1"/>
            <a:stretch/>
          </p:blipFill>
          <p:spPr>
            <a:xfrm>
              <a:off x="420840" y="1130400"/>
              <a:ext cx="1992600" cy="136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3" name=""/>
            <p:cNvGrpSpPr/>
            <p:nvPr/>
          </p:nvGrpSpPr>
          <p:grpSpPr>
            <a:xfrm>
              <a:off x="2517840" y="1398240"/>
              <a:ext cx="6221880" cy="834840"/>
              <a:chOff x="2517840" y="1398240"/>
              <a:chExt cx="6221880" cy="834840"/>
            </a:xfrm>
          </p:grpSpPr>
          <p:sp>
            <p:nvSpPr>
              <p:cNvPr id="1374" name=""/>
              <p:cNvSpPr/>
              <p:nvPr/>
            </p:nvSpPr>
            <p:spPr>
              <a:xfrm>
                <a:off x="2526120" y="1398240"/>
                <a:ext cx="29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DEC Research (Compaq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517840" y="1834200"/>
                <a:ext cx="622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research.digital.com/SRC/Obliq/Obliq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23760" y="2689200"/>
            <a:ext cx="728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liq (interpreted, lexically scoped, object-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ull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 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 (access checks in Visual Obli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BB6-2206-49D0-9F90-0937B111F41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escri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12840" y="2467080"/>
            <a:ext cx="8516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lescript (object-oriented language similar to Java and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script is compiled into “Low” Telescript, bytecodes for a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longe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16480" y="1197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41400" y="16336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ttp://www.genmagic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C43-85CA-44BC-A0DE-AE832A850BB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4120" y="2556000"/>
            <a:ext cx="5495760" cy="137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8B7-EE6A-4CD3-AA12-9BF1AD60C55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760" y="1074600"/>
            <a:ext cx="506664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A43-82D1-4A9D-96CC-9B7B763D2B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151640" y="1157400"/>
            <a:ext cx="6838920" cy="895320"/>
            <a:chOff x="1151640" y="1157400"/>
            <a:chExt cx="6838920" cy="895320"/>
          </a:xfrm>
        </p:grpSpPr>
        <p:pic>
          <p:nvPicPr>
            <p:cNvPr id="1385" name="ara" descr=""/>
            <p:cNvPicPr/>
            <p:nvPr/>
          </p:nvPicPr>
          <p:blipFill>
            <a:blip r:embed="rId1"/>
            <a:stretch/>
          </p:blipFill>
          <p:spPr>
            <a:xfrm>
              <a:off x="2450880" y="1157400"/>
              <a:ext cx="42386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1151640" y="1549440"/>
              <a:ext cx="68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uni-kl.de/AG-Nehmer/Projekte/Ara/index_e.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101600" y="2467080"/>
            <a:ext cx="69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/C++, Java and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/C++ compiled into bytecodes for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ver plus all agents inside one Unix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2A6-A66B-4A38-972E-E7A38B7F2050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39760" y="2773440"/>
            <a:ext cx="686916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1391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1392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4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380-E708-44DD-8BDB-FBD3357BF7F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94840" y="1981080"/>
            <a:ext cx="4934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77840" y="25970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337-8533-4434-9E38-DD94E995155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1402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1405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410-BD7D-442D-92B1-45C406EA881C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42280" y="1138320"/>
            <a:ext cx="50878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1418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1419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902-E81D-4CCD-93E8-D28E2D1210E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6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7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1438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AB1-045C-4F77-B4A1-22F191E9241F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45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50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1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1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54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4CC-997F-493B-89DD-4EC96C831AB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8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9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590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1595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1597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9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1606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1607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9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7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622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4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9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0C2-99A9-4E32-8E2C-B8252A29970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638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639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4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645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647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9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657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658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0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673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5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3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EFB-5B78-4AA4-9EDE-88DB64BD164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668920" y="11523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tutorial.ppt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059-0B76-468D-99EA-EA1082921F59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985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9800" y="13032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tributed Comput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0240" y="1147680"/>
            <a:ext cx="7826400" cy="2273040"/>
            <a:chOff x="660240" y="1147680"/>
            <a:chExt cx="7826400" cy="2273040"/>
          </a:xfrm>
        </p:grpSpPr>
        <p:sp>
          <p:nvSpPr>
            <p:cNvPr id="73" name=""/>
            <p:cNvSpPr/>
            <p:nvPr/>
          </p:nvSpPr>
          <p:spPr>
            <a:xfrm>
              <a:off x="66024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184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872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3480" y="22856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7464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140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300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988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920" y="182844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580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51560" y="114768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1560" y="236664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994360" y="12999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94360" y="221436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71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85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57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9760" y="175716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3960" y="2900160"/>
              <a:ext cx="64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ditional” Parallel Computing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36417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4720" y="4048200"/>
            <a:ext cx="8139600" cy="2057400"/>
            <a:chOff x="504720" y="4048200"/>
            <a:chExt cx="8139600" cy="2057400"/>
          </a:xfrm>
        </p:grpSpPr>
        <p:sp>
          <p:nvSpPr>
            <p:cNvPr id="94" name=""/>
            <p:cNvSpPr/>
            <p:nvPr/>
          </p:nvSpPr>
          <p:spPr>
            <a:xfrm>
              <a:off x="733320" y="40482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5600" y="481032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720" y="49626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2280" y="404820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95080" y="572472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2120" y="45817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2120" y="541980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4200" y="420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5600" y="44290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875960" y="442908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200" y="442908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647360" y="53434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28600" y="48103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876320" y="564804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503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7400" y="473400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68520" y="4168800"/>
              <a:ext cx="85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3200" y="5562720"/>
              <a:ext cx="51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stributed Information Syste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4720" y="54961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3320" y="5190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1920" y="5724720"/>
              <a:ext cx="533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77A-3C7F-4DCA-94D5-5BA80567481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D88-C639-4016-AA02-86E79C85BB6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1734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1736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7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38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1DD-1577-48D4-AFA5-D9A6B2F2A9D0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"/>
          <p:cNvGrpSpPr/>
          <p:nvPr/>
        </p:nvGrpSpPr>
        <p:grpSpPr>
          <a:xfrm>
            <a:off x="619200" y="1357200"/>
            <a:ext cx="3968640" cy="606240"/>
            <a:chOff x="619200" y="1357200"/>
            <a:chExt cx="3968640" cy="606240"/>
          </a:xfrm>
        </p:grpSpPr>
        <p:sp>
          <p:nvSpPr>
            <p:cNvPr id="1740" name=""/>
            <p:cNvSpPr/>
            <p:nvPr/>
          </p:nvSpPr>
          <p:spPr>
            <a:xfrm>
              <a:off x="619200" y="13572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3560" y="153828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019680" y="153828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9920" y="76320"/>
            <a:ext cx="8589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cl interpreter that captures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07040" y="1382760"/>
            <a:ext cx="3699000" cy="198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body ont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205240" y="4586400"/>
            <a:ext cx="3699000" cy="169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359360" y="979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836800" y="9874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19200" y="3092400"/>
            <a:ext cx="3968640" cy="606240"/>
            <a:chOff x="619200" y="3092400"/>
            <a:chExt cx="3968640" cy="606240"/>
          </a:xfrm>
        </p:grpSpPr>
        <p:sp>
          <p:nvSpPr>
            <p:cNvPr id="1749" name=""/>
            <p:cNvSpPr/>
            <p:nvPr/>
          </p:nvSpPr>
          <p:spPr>
            <a:xfrm>
              <a:off x="619200" y="30924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680" y="3273120"/>
              <a:ext cx="183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SE_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441960" y="3273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619200" y="4543560"/>
            <a:ext cx="3968640" cy="606240"/>
            <a:chOff x="619200" y="4543560"/>
            <a:chExt cx="3968640" cy="606240"/>
          </a:xfrm>
        </p:grpSpPr>
        <p:sp>
          <p:nvSpPr>
            <p:cNvPr id="1753" name=""/>
            <p:cNvSpPr/>
            <p:nvPr/>
          </p:nvSpPr>
          <p:spPr>
            <a:xfrm>
              <a:off x="619200" y="454356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5320" y="47466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019680" y="47466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19200" y="2532240"/>
            <a:ext cx="3968640" cy="606240"/>
            <a:chOff x="619200" y="2532240"/>
            <a:chExt cx="3968640" cy="606240"/>
          </a:xfrm>
        </p:grpSpPr>
        <p:sp>
          <p:nvSpPr>
            <p:cNvPr id="1757" name=""/>
            <p:cNvSpPr/>
            <p:nvPr/>
          </p:nvSpPr>
          <p:spPr>
            <a:xfrm>
              <a:off x="619200" y="253224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85320" y="27018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19680" y="27018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565520" y="1666800"/>
            <a:ext cx="77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286280" y="39164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valuate and pop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67320" y="4856040"/>
            <a:ext cx="77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31960" y="370836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631960" y="429732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-228600" y="2006640"/>
            <a:ext cx="6021360" cy="4141800"/>
          </a:xfrm>
          <a:custGeom>
            <a:avLst/>
            <a:gdLst/>
            <a:ahLst/>
            <a:rect l="l" t="t" r="r" b="b"/>
            <a:pathLst>
              <a:path w="3737" h="2624">
                <a:moveTo>
                  <a:pt x="3737" y="2534"/>
                </a:moveTo>
                <a:cubicBezTo>
                  <a:pt x="2407" y="2579"/>
                  <a:pt x="1078" y="2624"/>
                  <a:pt x="539" y="2202"/>
                </a:cubicBezTo>
                <a:cubicBezTo>
                  <a:pt x="0" y="1780"/>
                  <a:pt x="252" y="890"/>
                  <a:pt x="504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549680" y="2467080"/>
            <a:ext cx="1209600" cy="64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574-9730-4AD6-9E23-7B2A0EE3EF8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0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1788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9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1792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3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4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1800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1802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4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951-17C0-4865-B91B-0F21EAF5F35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1820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2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5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348-748B-4622-9FD5-B28BD2A1588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8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8A0-7C22-460D-A7D2-035B9E67A707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1846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0F0-F14A-403D-A7AA-8ED7D6C28900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1858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1859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1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2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1864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6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7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1871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5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CFE-DB01-46F9-9F38-94CDF19A7591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string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2D1-A879-4A3C-BE24-0F7D5E2F07F7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2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612-FFF5-4EE1-B5DF-10D296D3B568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what’s new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440" y="2263680"/>
            <a:ext cx="79290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services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different administrative domains, form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dynamically chan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ources appear and disapp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data can be one-of-a-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imulations and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ssimi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95760" y="136440"/>
            <a:ext cx="3353040" cy="228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5680" y="51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386-F0B9-4721-9509-4B66D70162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3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14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1924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6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7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1929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1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93A-B61A-488B-92B1-DA8283F5154E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parent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443-19D8-4BA4-B196-BC6DF2DBC19D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984320" y="925560"/>
            <a:ext cx="6883560" cy="538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num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; 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} -proclist searchAgent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ode partial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E86-218F-4033-B4D0-5C84BF2BA3FE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849-C06A-4E5E-B19A-2393EEDBE977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4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55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7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58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1964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6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1968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0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1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650-3AAD-488B-BDAD-F591E0473DA7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93040" y="762120"/>
            <a:ext cx="3304080" cy="5487480"/>
            <a:chOff x="293040" y="762120"/>
            <a:chExt cx="3304080" cy="5487480"/>
          </a:xfrm>
        </p:grpSpPr>
        <p:grpSp>
          <p:nvGrpSpPr>
            <p:cNvPr id="1981" name=""/>
            <p:cNvGrpSpPr/>
            <p:nvPr/>
          </p:nvGrpSpPr>
          <p:grpSpPr>
            <a:xfrm>
              <a:off x="293040" y="762120"/>
              <a:ext cx="2931480" cy="1725840"/>
              <a:chOff x="293040" y="762120"/>
              <a:chExt cx="2931480" cy="1725840"/>
            </a:xfrm>
          </p:grpSpPr>
          <p:pic>
            <p:nvPicPr>
              <p:cNvPr id="1982" name="java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6560" y="762120"/>
                <a:ext cx="783720" cy="13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3" name=""/>
              <p:cNvSpPr/>
              <p:nvPr/>
            </p:nvSpPr>
            <p:spPr>
              <a:xfrm>
                <a:off x="293040" y="2089080"/>
                <a:ext cx="293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javasoft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299880" y="2755800"/>
              <a:ext cx="329724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ilar to 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bject-ori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er-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arbage-coll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threa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iled into bytec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ck-based V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ch faster than 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4022640" y="954000"/>
            <a:ext cx="4754160" cy="518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Rectang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width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heigh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Rectangle(int w, int 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(w, 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mpute the area of the rect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area (voi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UseRectangl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tangle r = new Rectangle (10, 2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 = r.area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851-95A1-4A6D-AA72-C45D6976C50D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Java VM that captur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hre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42720" y="1789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43880" y="26989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37680" y="367992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886040" y="3573360"/>
            <a:ext cx="990360" cy="1828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188604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86040" y="144000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9080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886040" y="6240240"/>
            <a:ext cx="22860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114640" y="6240600"/>
            <a:ext cx="7596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2190600" y="608760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343240" y="6087960"/>
            <a:ext cx="152280" cy="15264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495520" y="6164280"/>
            <a:ext cx="304920" cy="763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800440" y="616428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2952720" y="6012000"/>
            <a:ext cx="228600" cy="3045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81320" y="601200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57640" y="60879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333600" y="608796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562200" y="624024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38520" y="624060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6240" y="63165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86040" y="5402160"/>
            <a:ext cx="19047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86040" y="250668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86040" y="35733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876400" y="357336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886040" y="40305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86040" y="44877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886040" y="49449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54960" y="3597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26160" y="40417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126160" y="49449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55240" y="4511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83160" y="9748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read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4000" y="4414680"/>
            <a:ext cx="146376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19360" y="4910040"/>
            <a:ext cx="648720" cy="398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91000" y="2789280"/>
            <a:ext cx="60660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459400" y="22240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02600" y="32418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491000" y="392904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884920" y="38685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884920" y="48960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02600" y="405288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9560" y="17049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04040" y="48988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675240" y="2004840"/>
            <a:ext cx="7491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652920" y="3092400"/>
            <a:ext cx="771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305320" y="974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 objects on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311640" y="5160960"/>
            <a:ext cx="2538360" cy="46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478560" y="4349880"/>
            <a:ext cx="828720" cy="58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40480" y="4189320"/>
            <a:ext cx="727200" cy="11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504120" y="3666600"/>
            <a:ext cx="804600" cy="358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4359240"/>
            <a:ext cx="838080" cy="627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5138640" y="4179600"/>
            <a:ext cx="749520" cy="44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282840" y="4248000"/>
            <a:ext cx="1141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30720" y="2046240"/>
            <a:ext cx="401760" cy="26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180960" y="3603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21120" y="4506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97480" y="1560600"/>
            <a:ext cx="266724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-and-swee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and serialize all reachabl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822-27FD-40F9-B64E-88F4F996C2E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1087560" y="4997520"/>
            <a:ext cx="6902280" cy="80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 and Agent Tc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11040" y="4157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Sam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151360" y="58323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One-to-one “command”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7520" y="3225960"/>
            <a:ext cx="2992320" cy="8618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4280" y="2577960"/>
            <a:ext cx="2992320" cy="862200"/>
          </a:xfrm>
          <a:prstGeom prst="cube">
            <a:avLst>
              <a:gd name="adj" fmla="val 230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++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17520" y="1746360"/>
            <a:ext cx="16225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738440" y="1746360"/>
            <a:ext cx="156528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7520" y="1089000"/>
            <a:ext cx="2989080" cy="86220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4383000" y="1811160"/>
            <a:ext cx="4446360" cy="1552680"/>
            <a:chOff x="4383000" y="1811160"/>
            <a:chExt cx="4446360" cy="1552680"/>
          </a:xfrm>
        </p:grpSpPr>
        <p:grpSp>
          <p:nvGrpSpPr>
            <p:cNvPr id="2054" name=""/>
            <p:cNvGrpSpPr/>
            <p:nvPr/>
          </p:nvGrpSpPr>
          <p:grpSpPr>
            <a:xfrm>
              <a:off x="7048440" y="2647800"/>
              <a:ext cx="1780920" cy="716040"/>
              <a:chOff x="7048440" y="2647800"/>
              <a:chExt cx="1780920" cy="716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704844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6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508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7" name=""/>
            <p:cNvGrpSpPr/>
            <p:nvPr/>
          </p:nvGrpSpPr>
          <p:grpSpPr>
            <a:xfrm>
              <a:off x="4383000" y="2647800"/>
              <a:ext cx="1780920" cy="716040"/>
              <a:chOff x="4383000" y="2647800"/>
              <a:chExt cx="1780920" cy="716040"/>
            </a:xfrm>
          </p:grpSpPr>
          <p:sp>
            <p:nvSpPr>
              <p:cNvPr id="2058" name=""/>
              <p:cNvSpPr/>
              <p:nvPr/>
            </p:nvSpPr>
            <p:spPr>
              <a:xfrm>
                <a:off x="438300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9" name="agent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964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0" name=""/>
            <p:cNvSpPr/>
            <p:nvPr/>
          </p:nvSpPr>
          <p:spPr>
            <a:xfrm flipV="1">
              <a:off x="5592600" y="2809440"/>
              <a:ext cx="20606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549840" y="2562120"/>
              <a:ext cx="383760" cy="184320"/>
              <a:chOff x="6549840" y="2562120"/>
              <a:chExt cx="383760" cy="184320"/>
            </a:xfrm>
          </p:grpSpPr>
          <p:sp>
            <p:nvSpPr>
              <p:cNvPr id="2062" name=""/>
              <p:cNvSpPr/>
              <p:nvPr/>
            </p:nvSpPr>
            <p:spPr>
              <a:xfrm>
                <a:off x="6552720" y="256212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3" name=""/>
              <p:cNvGrpSpPr/>
              <p:nvPr/>
            </p:nvGrpSpPr>
            <p:grpSpPr>
              <a:xfrm>
                <a:off x="6549840" y="2564280"/>
                <a:ext cx="383400" cy="82440"/>
                <a:chOff x="6549840" y="2564280"/>
                <a:chExt cx="383400" cy="824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6549840" y="256968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6741360" y="256428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4786200" y="1811160"/>
              <a:ext cx="97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 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59560" y="1850760"/>
              <a:ext cx="97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6549840" y="2031840"/>
              <a:ext cx="383760" cy="184320"/>
              <a:chOff x="6549840" y="2031840"/>
              <a:chExt cx="383760" cy="184320"/>
            </a:xfrm>
          </p:grpSpPr>
          <p:sp>
            <p:nvSpPr>
              <p:cNvPr id="2069" name=""/>
              <p:cNvSpPr/>
              <p:nvPr/>
            </p:nvSpPr>
            <p:spPr>
              <a:xfrm>
                <a:off x="6552720" y="203184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6549840" y="2034000"/>
                <a:ext cx="383400" cy="82440"/>
                <a:chOff x="6549840" y="2034000"/>
                <a:chExt cx="383400" cy="824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6549840" y="203940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6741360" y="203400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3" name=""/>
            <p:cNvGrpSpPr/>
            <p:nvPr/>
          </p:nvGrpSpPr>
          <p:grpSpPr>
            <a:xfrm>
              <a:off x="6549840" y="2295360"/>
              <a:ext cx="383760" cy="184320"/>
              <a:chOff x="6549840" y="2295360"/>
              <a:chExt cx="383760" cy="184320"/>
            </a:xfrm>
          </p:grpSpPr>
          <p:sp>
            <p:nvSpPr>
              <p:cNvPr id="2074" name=""/>
              <p:cNvSpPr/>
              <p:nvPr/>
            </p:nvSpPr>
            <p:spPr>
              <a:xfrm>
                <a:off x="6552720" y="229536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5" name=""/>
              <p:cNvGrpSpPr/>
              <p:nvPr/>
            </p:nvGrpSpPr>
            <p:grpSpPr>
              <a:xfrm>
                <a:off x="6549840" y="2297520"/>
                <a:ext cx="383400" cy="82440"/>
                <a:chOff x="6549840" y="2297520"/>
                <a:chExt cx="383400" cy="8244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6549840" y="230292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6741360" y="229752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3713040" y="2359080"/>
            <a:ext cx="704880" cy="45864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1201680" y="5094360"/>
            <a:ext cx="6745320" cy="642600"/>
            <a:chOff x="1201680" y="5094360"/>
            <a:chExt cx="6745320" cy="642600"/>
          </a:xfrm>
        </p:grpSpPr>
        <p:sp>
          <p:nvSpPr>
            <p:cNvPr id="2080" name=""/>
            <p:cNvSpPr/>
            <p:nvPr/>
          </p:nvSpPr>
          <p:spPr>
            <a:xfrm>
              <a:off x="3187440" y="5167080"/>
              <a:ext cx="704520" cy="458280"/>
            </a:xfrm>
            <a:prstGeom prst="rightArrow">
              <a:avLst>
                <a:gd name="adj1" fmla="val 50000"/>
                <a:gd name="adj2" fmla="val 3843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1680" y="5230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00120" y="5094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 agent = new Agen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.begin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AE2-2DA5-4AD5-877D-107F44F29DC3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aj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680" y="1353960"/>
            <a:ext cx="7680240" cy="482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g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an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or creates an internal C++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native int createNativeAgent 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gent() { handle = createNativeAgent 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gister and unregister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begin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end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migrate to a new machine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jump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(String machine, AgentEntryPoint newAgent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136760" y="895320"/>
            <a:ext cx="4784760" cy="149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class AgentEntry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void 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gent ag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187-F73E-4EC0-B43D-BD500FB29CF1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416880" y="1211400"/>
            <a:ext cx="8366040" cy="219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AgentI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achine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name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id;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meric id of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48080" y="2565360"/>
            <a:ext cx="3782880" cy="246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code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in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85280" y="4110120"/>
            <a:ext cx="8228880" cy="192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RecMessage extend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senderId;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ecurityVector securityInfo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curity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79C-4598-488F-90CB-B1A494FFA4C9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31880" y="3884760"/>
            <a:ext cx="17035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gentred" descr=""/>
          <p:cNvPicPr/>
          <p:nvPr/>
        </p:nvPicPr>
        <p:blipFill>
          <a:blip r:embed="rId1"/>
          <a:stretch/>
        </p:blipFill>
        <p:spPr>
          <a:xfrm>
            <a:off x="201312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08600" y="3884760"/>
            <a:ext cx="17017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1032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1032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086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9720" y="319896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9144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gentred" descr=""/>
          <p:cNvPicPr/>
          <p:nvPr/>
        </p:nvPicPr>
        <p:blipFill>
          <a:blip r:embed="rId2"/>
          <a:stretch/>
        </p:blipFill>
        <p:spPr>
          <a:xfrm>
            <a:off x="527040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32480" y="257976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2080" y="25034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189840" y="297504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2400" y="27320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41560" y="33415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3880" y="34941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0160" y="1219320"/>
            <a:ext cx="74836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2400" indent="-1022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rogram that acts autonomously on behalf of a user (usually communicating with other ag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5029200"/>
            <a:ext cx="748368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8CF-F346-48E5-B365-87718C0314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: Parent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61880" y="971640"/>
            <a:ext cx="8215560" cy="530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machines = new V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“A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”B")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childAgent = new ChildAgent (machin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child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83C-031C-426F-9794-C765A34AE1EA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who” agent: Child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440" y="74916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hild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ector m_machines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chin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(Vector machin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m_machines = machines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ring executeWhoCommand 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igrate through all the machines i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m_machine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achine = (String) m_machines.elementAt 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jump (machine, 1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a.getRootId()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A4E-3981-468A-9090-503A06D7C30B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ecuting  the “who” comma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50920" y="782640"/>
            <a:ext cx="8651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String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: enclosing try-catch, check for non-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it code, etc., are no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 runtime = Runtime.getRunti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process = runtime.exec("/usr/bin/wh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exitCode = process.waitF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Stream whoOutputStream = process.getInputStrea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InputStream whoOutp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DataInputStream (whoOutputStre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users = ""; boolean done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!don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line = whoOutput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line == null) { done = true } else {users =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use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B66-D7A3-4F2A-92BE-F5D618CDF191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5008680" y="68400"/>
            <a:ext cx="40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09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0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61120" y="11318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778040" y="3027240"/>
            <a:ext cx="21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40320" y="41511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en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query and receiv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944880" y="24573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00896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920" y="260676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44600" y="2678040"/>
            <a:ext cx="2587680" cy="235260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040360" y="5386320"/>
            <a:ext cx="21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irectory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121" idx="3"/>
            <a:endCxn id="2120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2" idx="3"/>
            <a:endCxn id="2120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23" idx="3"/>
            <a:endCxn id="2120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27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57520" y="5289480"/>
            <a:ext cx="16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Query yellow pages for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043640" y="4664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0F2-7E25-4DE0-AF20-719FC0537D1C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Getting star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9840" y="960480"/>
            <a:ext cx="8461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query = “…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// keyword qu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proxy = “bald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// hard-coded prox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p = “mayday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// hard-coded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Agent proxyAgent = new ProxyAgent (id, query, y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proxy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s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DD4-664E-4FC2-A040-31E85E6F6F27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Asking the yellow p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72880" y="927000"/>
            <a:ext cx="8596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Proxy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m_pa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d of parent (“front-en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query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keywor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yp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Proxy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gentId parent, String query, String y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_parent = parent; m_query = query; m_yp = yp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k the yellow pages to locate TR colle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 that method extractTrIds is not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ypId = new AgentId (m_yp, “yellow page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ypMessage = new Message (0, “locate t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ypId, yp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ypResonse = a.receive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trIds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tractTrIds(ypResponse.getMessage(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89B-2B91-4508-B41B-87CBF4F89E49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529920" y="76320"/>
            <a:ext cx="8077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 agent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3440" y="79380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a query message to all the TR 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= (AgentId) trIds.elementA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tr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Message (0, “keyword-query “ + m_que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send (trId, tr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llect the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trResponse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…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erge into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s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m_parent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9E0-0899-49B4-AC13-9A2A956FB589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660920" y="55080"/>
            <a:ext cx="44085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3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4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525840" y="1108080"/>
            <a:ext cx="237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 a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.begin(…);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6840" y="365436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.send (m_par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272200" y="44308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4. a.send (trId, …); a_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533760" y="205740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a.submit (proxy, proxyAg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265104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println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7. a.en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1" name=""/>
          <p:cNvCxnSpPr>
            <a:stCxn id="2158" idx="3"/>
            <a:endCxn id="2157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2" name=""/>
          <p:cNvCxnSpPr>
            <a:stCxn id="2159" idx="3"/>
            <a:endCxn id="2157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60" idx="3"/>
            <a:endCxn id="2157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64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952560" y="56386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3. a.send (ypId, …); a.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389240" y="2319480"/>
            <a:ext cx="2700000" cy="2487600"/>
          </a:xfrm>
          <a:custGeom>
            <a:avLst/>
            <a:gdLst/>
            <a:ahLst/>
            <a:rect l="l" t="t" r="r" b="b"/>
            <a:pathLst>
              <a:path w="1701" h="1567">
                <a:moveTo>
                  <a:pt x="1701" y="1567"/>
                </a:moveTo>
                <a:cubicBezTo>
                  <a:pt x="1617" y="1111"/>
                  <a:pt x="1534" y="656"/>
                  <a:pt x="1250" y="395"/>
                </a:cubicBezTo>
                <a:cubicBezTo>
                  <a:pt x="966" y="134"/>
                  <a:pt x="483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F53-9F58-4FC1-8660-FFC73F13B2AA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Smart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290520" y="1754280"/>
            <a:ext cx="2263680" cy="3562920"/>
            <a:chOff x="290520" y="1754280"/>
            <a:chExt cx="2263680" cy="3562920"/>
          </a:xfrm>
        </p:grpSpPr>
        <p:sp>
          <p:nvSpPr>
            <p:cNvPr id="2169" name=""/>
            <p:cNvSpPr/>
            <p:nvPr/>
          </p:nvSpPr>
          <p:spPr>
            <a:xfrm>
              <a:off x="974160" y="49183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33240" y="438012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43080" y="418788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0520" y="1754280"/>
              <a:ext cx="2263680" cy="161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tationary agent that provides an interface to Cornell’s Smart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165320" y="3402000"/>
              <a:ext cx="414360" cy="863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2903400" y="920880"/>
            <a:ext cx="6174000" cy="521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gent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name (“TR”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quest = a.receive (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curityVector secVe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.getSecurityInf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owner = secVec.getOwnerKeyna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!secVec.isOwnerAuth(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!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nAccessList(owne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request, possib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oth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161-0515-4119-97C4-B6FA444DB5DC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B29-84E2-4FC6-A1F0-80DB48D03650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5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5960" y="2819520"/>
            <a:ext cx="237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30680" y="5486400"/>
            <a:ext cx="280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342-2E84-4AB9-8384-5CBA5AF0F15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B86-2056-40AD-8889-738685E760C6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BEA-8C12-4638-851B-DEB54A04FCCD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942-1591-4DCC-BAA5-EAEAA707D2DF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F9D-C71D-459B-805D-86766B7F7A4A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219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219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219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219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220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220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221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221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222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222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C9A-F027-429E-A566-96D860F1F339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6348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osing to ju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719280" y="973080"/>
            <a:ext cx="770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should jump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has become subopti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will cease t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will jump to a new machine, M,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unique resources required by the ag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the best environment for the agen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task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a dynamic environment, this requires “plan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“control”….solving some sort of optimization problem.  Planning, in turn, requires knowledge of “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79D-BE4B-4952-9C54-38B400A9A3FC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t Planning: An 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5120" y="1512720"/>
            <a:ext cx="734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gents for plan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ning for agent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rmulate the decision to jump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where to jump as an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generically NP-Hard because it involves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problems, uncertainty about future environ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s about whether to clone or no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developed some simplifications for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al algorithmic solution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5A5-4618-4423-8301-F15E04577FD4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veling Agent Problem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oziumi and Cybenk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69760" y="1393920"/>
            <a:ext cx="7405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te j “costs”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visit and has probability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f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isit sites until none left or successfu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1042920" y="2405160"/>
            <a:ext cx="7081560" cy="2325600"/>
            <a:chOff x="1042920" y="2405160"/>
            <a:chExt cx="7081560" cy="2325600"/>
          </a:xfrm>
        </p:grpSpPr>
        <p:sp>
          <p:nvSpPr>
            <p:cNvPr id="2240" name=""/>
            <p:cNvSpPr/>
            <p:nvPr/>
          </p:nvSpPr>
          <p:spPr>
            <a:xfrm>
              <a:off x="1042920" y="4133880"/>
              <a:ext cx="66006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1175400" y="2405160"/>
              <a:ext cx="2570040" cy="2291400"/>
              <a:chOff x="1175400" y="2405160"/>
              <a:chExt cx="2570040" cy="2291400"/>
            </a:xfrm>
          </p:grpSpPr>
          <p:sp>
            <p:nvSpPr>
              <p:cNvPr id="2242" name=""/>
              <p:cNvSpPr/>
              <p:nvPr/>
            </p:nvSpPr>
            <p:spPr>
              <a:xfrm>
                <a:off x="2566800" y="2609640"/>
                <a:ext cx="368280" cy="367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265040" y="27558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01320" y="24051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75400" y="4187880"/>
                <a:ext cx="2570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Expected cost =  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2932560" y="2405160"/>
              <a:ext cx="2035440" cy="2291400"/>
              <a:chOff x="2932560" y="2405160"/>
              <a:chExt cx="2035440" cy="2291400"/>
            </a:xfrm>
          </p:grpSpPr>
          <p:grpSp>
            <p:nvGrpSpPr>
              <p:cNvPr id="2247" name=""/>
              <p:cNvGrpSpPr/>
              <p:nvPr/>
            </p:nvGrpSpPr>
            <p:grpSpPr>
              <a:xfrm>
                <a:off x="2932560" y="2405160"/>
                <a:ext cx="1614960" cy="1035720"/>
                <a:chOff x="2932560" y="2405160"/>
                <a:chExt cx="1614960" cy="103572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4005000" y="2609640"/>
                  <a:ext cx="36792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2932560" y="2680200"/>
                  <a:ext cx="1067040" cy="760680"/>
                  <a:chOff x="2932560" y="2680200"/>
                  <a:chExt cx="1067040" cy="76068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2933640" y="2680200"/>
                    <a:ext cx="106596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32560" y="2680200"/>
                    <a:ext cx="106524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2" name=""/>
                <p:cNvSpPr/>
                <p:nvPr/>
              </p:nvSpPr>
              <p:spPr>
                <a:xfrm>
                  <a:off x="4363920" y="2405160"/>
                  <a:ext cx="18360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3611160" y="4187880"/>
                <a:ext cx="1356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4248360" y="2405160"/>
              <a:ext cx="2746080" cy="2291400"/>
              <a:chOff x="4248360" y="2405160"/>
              <a:chExt cx="2746080" cy="229140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4248360" y="2405160"/>
                <a:ext cx="1813680" cy="1112040"/>
                <a:chOff x="4248360" y="2405160"/>
                <a:chExt cx="1813680" cy="111204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5321160" y="2609640"/>
                  <a:ext cx="36828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7" name=""/>
                <p:cNvGrpSpPr/>
                <p:nvPr/>
              </p:nvGrpSpPr>
              <p:grpSpPr>
                <a:xfrm>
                  <a:off x="4248360" y="2755800"/>
                  <a:ext cx="1067760" cy="761400"/>
                  <a:chOff x="4248360" y="2755800"/>
                  <a:chExt cx="1067760" cy="761400"/>
                </a:xfrm>
              </p:grpSpPr>
              <p:sp>
                <p:nvSpPr>
                  <p:cNvPr id="2258" name=""/>
                  <p:cNvSpPr/>
                  <p:nvPr/>
                </p:nvSpPr>
                <p:spPr>
                  <a:xfrm>
                    <a:off x="4249440" y="2755800"/>
                    <a:ext cx="106668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248360" y="2755800"/>
                    <a:ext cx="106596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0" name=""/>
                <p:cNvSpPr/>
                <p:nvPr/>
              </p:nvSpPr>
              <p:spPr>
                <a:xfrm>
                  <a:off x="5679000" y="2405160"/>
                  <a:ext cx="383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4861800" y="4187880"/>
                <a:ext cx="2132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5608800" y="2405160"/>
              <a:ext cx="2515680" cy="2241000"/>
              <a:chOff x="5608800" y="2405160"/>
              <a:chExt cx="2515680" cy="2241000"/>
            </a:xfrm>
          </p:grpSpPr>
          <p:grpSp>
            <p:nvGrpSpPr>
              <p:cNvPr id="2263" name=""/>
              <p:cNvGrpSpPr/>
              <p:nvPr/>
            </p:nvGrpSpPr>
            <p:grpSpPr>
              <a:xfrm>
                <a:off x="7056000" y="2755800"/>
                <a:ext cx="1068480" cy="761400"/>
                <a:chOff x="7056000" y="2755800"/>
                <a:chExt cx="1068480" cy="7614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70578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0560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5608800" y="2405160"/>
                <a:ext cx="1864440" cy="2241000"/>
                <a:chOff x="5608800" y="2405160"/>
                <a:chExt cx="1864440" cy="2241000"/>
              </a:xfrm>
            </p:grpSpPr>
            <p:grpSp>
              <p:nvGrpSpPr>
                <p:cNvPr id="2267" name=""/>
                <p:cNvGrpSpPr/>
                <p:nvPr/>
              </p:nvGrpSpPr>
              <p:grpSpPr>
                <a:xfrm>
                  <a:off x="5608800" y="2405160"/>
                  <a:ext cx="1820160" cy="1112040"/>
                  <a:chOff x="5608800" y="2405160"/>
                  <a:chExt cx="1820160" cy="1112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6681600" y="2609640"/>
                    <a:ext cx="368280" cy="367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9" name=""/>
                  <p:cNvGrpSpPr/>
                  <p:nvPr/>
                </p:nvGrpSpPr>
                <p:grpSpPr>
                  <a:xfrm>
                    <a:off x="5608800" y="2755800"/>
                    <a:ext cx="1067760" cy="761400"/>
                    <a:chOff x="5608800" y="2755800"/>
                    <a:chExt cx="1067760" cy="761400"/>
                  </a:xfrm>
                </p:grpSpPr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5609880" y="2755800"/>
                      <a:ext cx="1066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5608800" y="2755800"/>
                      <a:ext cx="106596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2" name=""/>
                  <p:cNvSpPr/>
                  <p:nvPr/>
                </p:nvSpPr>
                <p:spPr>
                  <a:xfrm>
                    <a:off x="7115760" y="2405160"/>
                    <a:ext cx="313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3" name=""/>
                <p:cNvSpPr/>
                <p:nvPr/>
              </p:nvSpPr>
              <p:spPr>
                <a:xfrm>
                  <a:off x="6811200" y="4187880"/>
                  <a:ext cx="662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 </a:t>
                  </a:r>
                  <a:r>
                    <a:rPr b="0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4" name=""/>
          <p:cNvSpPr/>
          <p:nvPr/>
        </p:nvSpPr>
        <p:spPr>
          <a:xfrm>
            <a:off x="323640" y="5072040"/>
            <a:ext cx="85428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orem:  Minimum occurs when 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are in decreas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s is a stochastic version of the Traveling Salesma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012840" y="24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455000" y="249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05280" y="249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1107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009-6094-479C-B267-7B375D5E0056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veling agent in multiple LA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85800" y="2133720"/>
            <a:ext cx="2209680" cy="1218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704960" y="3371760"/>
            <a:ext cx="122400" cy="134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2870280" y="4644720"/>
            <a:ext cx="560160" cy="45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85960" y="3121200"/>
            <a:ext cx="679680" cy="657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741040" y="1946160"/>
            <a:ext cx="285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N 1 has 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033800" y="4776840"/>
            <a:ext cx="14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112200" y="2967120"/>
            <a:ext cx="16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atency 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81560" y="2290680"/>
            <a:ext cx="2384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ul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eads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94720" y="1260360"/>
            <a:ext cx="80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constant within LAN’s, but variable across LAN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6400" y="3560760"/>
            <a:ext cx="2209680" cy="1219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62120" y="4762440"/>
            <a:ext cx="2209680" cy="1219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898640" y="5881680"/>
            <a:ext cx="15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96920" y="38815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604960" y="43243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73A-9E00-4A02-B296-8C5E971C42CB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Agent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46000" y="30132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255840" y="3024360"/>
            <a:ext cx="476280" cy="40608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080"/>
              <a:gd name="textAreaBottom" fmla="*/ 313560 h 40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67000" y="36180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60880" y="2482920"/>
            <a:ext cx="475920" cy="406440"/>
          </a:xfrm>
          <a:custGeom>
            <a:avLst/>
            <a:gdLst>
              <a:gd name="textAreaLeft" fmla="*/ 108720 w 475920"/>
              <a:gd name="textAreaRight" fmla="*/ 367200 w 47592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36760" y="120636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14520" y="1868040"/>
            <a:ext cx="600120" cy="459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344680" y="3297240"/>
            <a:ext cx="493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285920" y="2292480"/>
            <a:ext cx="811080" cy="635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334880" y="4368960"/>
            <a:ext cx="28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ag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/cl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09840" y="1370160"/>
            <a:ext cx="350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effic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lgorithm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multiple-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rob of success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-complete, for prob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vial and for p&gt;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able efficientl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096640" y="55357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prising results, much more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59120" y="5423040"/>
            <a:ext cx="5222880" cy="687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F83-6EC9-413C-A56C-901ADBB3305A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hiro</cp:lastModifiedBy>
  <cp:lastPrinted>1999-04-27T12:51:47Z</cp:lastPrinted>
  <dcterms:modified xsi:type="dcterms:W3CDTF">1999-04-27T12:57:03Z</dcterms:modified>
  <cp:revision>711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