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56C-0D43-4FDB-95CE-1E88C765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065-27A9-4684-B90D-DE0FC8B1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EF2-89E6-454B-9656-EE466E31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64B-26B5-450C-8200-6A0B4AF9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945-BC12-468A-80D3-A96F5E37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777-5D58-4C19-A2DB-7240416E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94C-9B0E-4903-A955-3DA9F32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012-3031-474A-8CE5-EA02ED8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623-F6B8-4C4B-A450-7A3390A5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F9B-CC9C-478D-A5E2-1BB2316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13A-6DD7-4979-BA3B-AEF49AE9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033-B287-4C02-BA81-B01A582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7B1A-4872-4934-9B5A-3AB05CD29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1165320"/>
            <a:ext cx="74055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4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4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6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6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12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17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18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19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19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0:38:20Z</dcterms:created>
  <dc:creator>David Kotz</dc:creator>
  <dc:description/>
  <dc:language>en-US</dc:language>
  <cp:lastModifiedBy>David Kotz</cp:lastModifiedBy>
  <dcterms:modified xsi:type="dcterms:W3CDTF">1999-09-05T20:44:51Z</dcterms:modified>
  <cp:revision>1</cp:revision>
  <dc:subject/>
  <dc:title>Alternatives to Mobile Agents</dc:title>
</cp:coreProperties>
</file>