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024-8A41-4097-A2B8-E9E14BAB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1428-061C-40F1-987F-432DBB0F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CF09-EFF6-4242-AA1D-3CD05CA0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AA3-0FCB-4BBA-8EAC-521C9DE8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88F-9AAD-46A3-835D-72D736D2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988-A730-495D-836C-9966ADA4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0D6-4A90-4C99-BE8F-AA532A83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E6D-6BE6-4206-A0EA-8755886E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4BF-4CD7-45FD-81C3-889C6ADC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46B-0FE0-4DEB-BCCD-A4B6D40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39F1-5232-49D8-A670-A9ED94F4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B183-BA29-4AB9-83E2-4FFC8706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9EE3-B6ED-4E77-9AD2-B5761371E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natives to Mobil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pendix to AFRL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Ko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6560" y="1165320"/>
            <a:ext cx="740556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4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4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6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6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9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12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12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17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18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19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19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20:38:20Z</dcterms:created>
  <dc:creator>David Kotz</dc:creator>
  <dc:description/>
  <dc:language>en-US</dc:language>
  <cp:lastModifiedBy>David Kotz</cp:lastModifiedBy>
  <dcterms:modified xsi:type="dcterms:W3CDTF">1999-09-05T20:44:51Z</dcterms:modified>
  <cp:revision>1</cp:revision>
  <dc:subject/>
  <dc:title>Alternatives to Mobile Agents</dc:title>
</cp:coreProperties>
</file>