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E26B-84BB-41C3-A7D4-034BAA72D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9983-F977-4A11-94B5-62F92F66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7D03-7218-4549-8A91-4715A7F8F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4DFF-F74C-4E65-BDEF-B0AFD5E47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E915-82BB-462F-9F1A-66EF41AD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FC69-D6FB-4944-9AC1-005A351B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A71C-4DC3-4A89-87C0-16D55DB9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F8F8-AC4A-41FC-BB29-C558C82E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EC8A-243E-4B76-BF35-F473E09F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F039-2EA7-4418-B779-7F32977F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2F73-11DE-4C87-9CA7-B67C228D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351D-B166-4070-9CAD-4B5DEA54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D376-C47D-463D-AD1A-D365A3C51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s to Mobil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ppendix to AFRL t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id Ko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51000" y="515880"/>
            <a:ext cx="84405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not extend other techniqu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16120" y="1828800"/>
            <a:ext cx="749448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I - dynamic process 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ion - checkpointing to support process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va - process serialization and state capture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ce (rumor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re these all going to end up supporting code mobil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ny different systems are heading in the direction of mobile code.  Let’s go there directl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1520" y="1479600"/>
            <a:ext cx="818496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2240" y="76320"/>
            <a:ext cx="87962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g picture: A uniform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0160" y="1090440"/>
            <a:ext cx="8131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UMMARY (so f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are several different strengths of mobile ag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code helps solve various performanc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ustness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iosyncratic solutions exist in each problem dom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agents provide a unified framework, a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 for solving m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’s go directly to where many different system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olving,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echniques work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6560" y="1165320"/>
            <a:ext cx="740556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mote Procedure Calls (R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or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ava Applets and serv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oad balancing in homogeneous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pplication-specific solutions ( eg. adaptive mesh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istributed document retri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istributed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 and queued R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99880" y="1092240"/>
            <a:ext cx="8536320" cy="1545840"/>
            <a:chOff x="299880" y="1092240"/>
            <a:chExt cx="8536320" cy="1545840"/>
          </a:xfrm>
        </p:grpSpPr>
        <p:sp>
          <p:nvSpPr>
            <p:cNvPr id="47" name=""/>
            <p:cNvSpPr/>
            <p:nvPr/>
          </p:nvSpPr>
          <p:spPr>
            <a:xfrm>
              <a:off x="299880" y="16365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R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1389240" y="1092240"/>
              <a:ext cx="7446960" cy="1545840"/>
              <a:chOff x="1389240" y="1092240"/>
              <a:chExt cx="7446960" cy="1545840"/>
            </a:xfrm>
          </p:grpSpPr>
          <p:sp>
            <p:nvSpPr>
              <p:cNvPr id="49" name=""/>
              <p:cNvSpPr/>
              <p:nvPr/>
            </p:nvSpPr>
            <p:spPr>
              <a:xfrm>
                <a:off x="3419640" y="1092240"/>
                <a:ext cx="2032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Call to server proced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339160" y="1893960"/>
                <a:ext cx="3497040" cy="601560"/>
              </a:xfrm>
              <a:prstGeom prst="parallelogram">
                <a:avLst>
                  <a:gd name="adj" fmla="val 14118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013880" y="1490760"/>
                <a:ext cx="1087560" cy="86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atas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389240" y="1893960"/>
                <a:ext cx="2567160" cy="601560"/>
              </a:xfrm>
              <a:prstGeom prst="parallelogram">
                <a:avLst>
                  <a:gd name="adj" fmla="val 17202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251440" y="154620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l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870880" y="154764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138840" y="1784160"/>
                <a:ext cx="2690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3173760" y="2004840"/>
                <a:ext cx="2619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712200" y="1930320"/>
                <a:ext cx="304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637440" y="1995480"/>
                <a:ext cx="1595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Proced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resul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212760" y="2846520"/>
            <a:ext cx="8704080" cy="1733400"/>
            <a:chOff x="212760" y="2846520"/>
            <a:chExt cx="8704080" cy="1733400"/>
          </a:xfrm>
        </p:grpSpPr>
        <p:grpSp>
          <p:nvGrpSpPr>
            <p:cNvPr id="60" name=""/>
            <p:cNvGrpSpPr/>
            <p:nvPr/>
          </p:nvGrpSpPr>
          <p:grpSpPr>
            <a:xfrm>
              <a:off x="1469880" y="2846520"/>
              <a:ext cx="7446960" cy="1733400"/>
              <a:chOff x="1469880" y="2846520"/>
              <a:chExt cx="7446960" cy="1733400"/>
            </a:xfrm>
          </p:grpSpPr>
          <p:sp>
            <p:nvSpPr>
              <p:cNvPr id="61" name=""/>
              <p:cNvSpPr/>
              <p:nvPr/>
            </p:nvSpPr>
            <p:spPr>
              <a:xfrm>
                <a:off x="5419800" y="3860640"/>
                <a:ext cx="3497040" cy="601920"/>
              </a:xfrm>
              <a:prstGeom prst="parallelogram">
                <a:avLst>
                  <a:gd name="adj" fmla="val 141103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094520" y="3457440"/>
                <a:ext cx="1087200" cy="86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atas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69880" y="3860640"/>
                <a:ext cx="2567160" cy="601920"/>
              </a:xfrm>
              <a:prstGeom prst="parallelogram">
                <a:avLst>
                  <a:gd name="adj" fmla="val 171921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332080" y="351324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l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951520" y="351468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792840" y="3897360"/>
                <a:ext cx="304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446360" y="3317760"/>
                <a:ext cx="455760" cy="1262160"/>
              </a:xfrm>
              <a:prstGeom prst="lightningBol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217680" y="3740040"/>
                <a:ext cx="1235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" name=""/>
              <p:cNvGrpSpPr/>
              <p:nvPr/>
            </p:nvGrpSpPr>
            <p:grpSpPr>
              <a:xfrm>
                <a:off x="3268440" y="3286080"/>
                <a:ext cx="1000440" cy="378000"/>
                <a:chOff x="3268440" y="3286080"/>
                <a:chExt cx="1000440" cy="37800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3935520" y="3286080"/>
                  <a:ext cx="333360" cy="37800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268440" y="3286080"/>
                  <a:ext cx="333360" cy="37800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595680" y="3286080"/>
                  <a:ext cx="333360" cy="37800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5113080" y="3516480"/>
                <a:ext cx="665280" cy="378720"/>
                <a:chOff x="5113080" y="3516480"/>
                <a:chExt cx="665280" cy="37872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5113080" y="3517920"/>
                  <a:ext cx="333360" cy="37728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5445000" y="3516480"/>
                  <a:ext cx="333360" cy="37764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" name=""/>
              <p:cNvSpPr/>
              <p:nvPr/>
            </p:nvSpPr>
            <p:spPr>
              <a:xfrm flipH="1">
                <a:off x="4862520" y="3970440"/>
                <a:ext cx="1015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832120" y="2846520"/>
                <a:ext cx="162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Queued cal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871880" y="3098880"/>
                <a:ext cx="185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Queued resul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212760" y="3301920"/>
              <a:ext cx="132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Queu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R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793080" y="4888080"/>
            <a:ext cx="7567560" cy="125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 mobil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 constrained to server’s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l requests and results over client’s network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 latency or bandwidth reduction, and blocked if link goes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ed procedures and RE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0120" y="106668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or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57480" y="3186000"/>
            <a:ext cx="153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. Send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38240" y="1668600"/>
            <a:ext cx="3863880" cy="2952720"/>
            <a:chOff x="138240" y="1668600"/>
            <a:chExt cx="3863880" cy="2952720"/>
          </a:xfrm>
        </p:grpSpPr>
        <p:sp>
          <p:nvSpPr>
            <p:cNvPr id="85" name=""/>
            <p:cNvSpPr/>
            <p:nvPr/>
          </p:nvSpPr>
          <p:spPr>
            <a:xfrm>
              <a:off x="200160" y="2071800"/>
              <a:ext cx="3497040" cy="601920"/>
            </a:xfrm>
            <a:prstGeom prst="parallelogram">
              <a:avLst>
                <a:gd name="adj" fmla="val 141103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07920" y="1668600"/>
              <a:ext cx="1087560" cy="86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34960" y="4019760"/>
              <a:ext cx="2567160" cy="601560"/>
            </a:xfrm>
            <a:prstGeom prst="parallelogram">
              <a:avLst>
                <a:gd name="adj" fmla="val 1720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41720" y="375156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300400" y="171468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000160" y="210852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2486160" y="2779560"/>
              <a:ext cx="353880" cy="1015920"/>
              <a:chOff x="2486160" y="2779560"/>
              <a:chExt cx="353880" cy="1015920"/>
            </a:xfrm>
          </p:grpSpPr>
          <p:sp>
            <p:nvSpPr>
              <p:cNvPr id="92" name=""/>
              <p:cNvSpPr/>
              <p:nvPr/>
            </p:nvSpPr>
            <p:spPr>
              <a:xfrm flipV="1">
                <a:off x="2486160" y="2785320"/>
                <a:ext cx="2880" cy="998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flipV="1">
                <a:off x="2651040" y="2779560"/>
                <a:ext cx="7920" cy="989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35360" y="2807640"/>
                <a:ext cx="4680" cy="987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2363760" y="2259360"/>
              <a:ext cx="677880" cy="53496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5240" y="2822760"/>
              <a:ext cx="203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. Send procedure code to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8240" y="35244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2. Call proced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2095560" y="3079800"/>
              <a:ext cx="392040" cy="88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2006640" y="3483000"/>
              <a:ext cx="649080" cy="22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835360" y="3281760"/>
              <a:ext cx="257040" cy="1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168960" y="10666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21320" y="2071800"/>
            <a:ext cx="3497040" cy="601560"/>
          </a:xfrm>
          <a:prstGeom prst="parallelogram">
            <a:avLst>
              <a:gd name="adj" fmla="val 1411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29080" y="1668600"/>
            <a:ext cx="1087560" cy="86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56120" y="4019400"/>
            <a:ext cx="2567160" cy="601920"/>
          </a:xfrm>
          <a:prstGeom prst="parallelogram">
            <a:avLst>
              <a:gd name="adj" fmla="val 17192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62880" y="3751200"/>
            <a:ext cx="841320" cy="750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21560" y="1714680"/>
            <a:ext cx="841320" cy="750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21320" y="210816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6765840" y="2752560"/>
            <a:ext cx="152640" cy="1020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88040" y="2739960"/>
            <a:ext cx="308160" cy="708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72160" y="223668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61040" y="345276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10120" y="2778120"/>
            <a:ext cx="255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 Send procedure cod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and arguments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to server - procedure called immediat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42360" y="2378160"/>
            <a:ext cx="1579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. Send results (and maybe a server proced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388200" y="3230280"/>
            <a:ext cx="447480" cy="13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7250040" y="3017880"/>
            <a:ext cx="515880" cy="123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1920" y="4989600"/>
            <a:ext cx="8493120" cy="125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fect if accessing on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fficulties if accessing more than on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71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edures usually can not communicate with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71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edures usually can not send out their own procedures (e.g., no prox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ets and servl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1920" y="5167440"/>
            <a:ext cx="8493120" cy="100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me limitations as stored procedures and R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lementations pay more attention to security than stored procedures and R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00160" y="1119240"/>
            <a:ext cx="8910000" cy="3665520"/>
            <a:chOff x="200160" y="1119240"/>
            <a:chExt cx="8910000" cy="3665520"/>
          </a:xfrm>
        </p:grpSpPr>
        <p:sp>
          <p:nvSpPr>
            <p:cNvPr id="120" name=""/>
            <p:cNvSpPr/>
            <p:nvPr/>
          </p:nvSpPr>
          <p:spPr>
            <a:xfrm>
              <a:off x="1581120" y="112068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ppl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200160" y="1712880"/>
              <a:ext cx="4647960" cy="3053880"/>
              <a:chOff x="200160" y="1712880"/>
              <a:chExt cx="4647960" cy="3053880"/>
            </a:xfrm>
          </p:grpSpPr>
          <p:sp>
            <p:nvSpPr>
              <p:cNvPr id="122" name=""/>
              <p:cNvSpPr/>
              <p:nvPr/>
            </p:nvSpPr>
            <p:spPr>
              <a:xfrm>
                <a:off x="2763720" y="2869920"/>
                <a:ext cx="2084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2. Receive page and “embedded” applet; execute applet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00160" y="2182680"/>
                <a:ext cx="3497040" cy="601200"/>
              </a:xfrm>
              <a:prstGeom prst="parallelogram">
                <a:avLst>
                  <a:gd name="adj" fmla="val 141272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07920" y="1712880"/>
                <a:ext cx="1087560" cy="930240"/>
              </a:xfrm>
              <a:prstGeom prst="can">
                <a:avLst>
                  <a:gd name="adj" fmla="val 2013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e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ag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1520" y="4165200"/>
                <a:ext cx="2566800" cy="601560"/>
              </a:xfrm>
              <a:prstGeom prst="parallelogram">
                <a:avLst>
                  <a:gd name="adj" fmla="val 17200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96760" y="3662280"/>
                <a:ext cx="1143000" cy="10170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rows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255760" y="1780920"/>
                <a:ext cx="955800" cy="8521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e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000160" y="2219040"/>
                <a:ext cx="2494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1724040" y="2537640"/>
                <a:ext cx="743040" cy="1177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2436480" y="2636640"/>
                <a:ext cx="252360" cy="1301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992240" y="3928680"/>
                <a:ext cx="946080" cy="53460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ppl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20680" y="2922480"/>
                <a:ext cx="1600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1. Request Web pag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568520" y="3192120"/>
                <a:ext cx="403200" cy="134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2532240" y="3450960"/>
                <a:ext cx="482400" cy="10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124240" y="2178000"/>
              <a:ext cx="3497040" cy="601560"/>
            </a:xfrm>
            <a:prstGeom prst="parallelogram">
              <a:avLst>
                <a:gd name="adj" fmla="val 14118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32360" y="1708200"/>
              <a:ext cx="1087200" cy="930240"/>
            </a:xfrm>
            <a:prstGeom prst="can">
              <a:avLst>
                <a:gd name="adj" fmla="val 2013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19600" y="4183200"/>
              <a:ext cx="2566800" cy="601560"/>
            </a:xfrm>
            <a:prstGeom prst="parallelogram">
              <a:avLst>
                <a:gd name="adj" fmla="val 172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45200" y="3679920"/>
              <a:ext cx="1142640" cy="1017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row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57880" y="1776240"/>
              <a:ext cx="955440" cy="85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24600" y="2214720"/>
              <a:ext cx="248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927840" y="3047760"/>
              <a:ext cx="406080" cy="663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7110360" y="3024360"/>
              <a:ext cx="509040" cy="798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119720" y="2511360"/>
              <a:ext cx="945720" cy="53496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l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02000" y="3030480"/>
              <a:ext cx="159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. Send servl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43800" y="3530520"/>
              <a:ext cx="156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2. Get resu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24520" y="3271680"/>
              <a:ext cx="291600" cy="13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96120" y="3495600"/>
              <a:ext cx="267840" cy="157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9680" y="111924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ervl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ad balan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31760" y="1260360"/>
            <a:ext cx="732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I, Condor and Legion: Load balancing can be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 statically (for a heterogeneous network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 dynamically through data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ch programmer effort required to achieve even limited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much security sup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ten pre-loaded code or homogeneous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-specific sol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20960" y="3862440"/>
            <a:ext cx="971640" cy="828720"/>
          </a:xfrm>
          <a:prstGeom prst="cube">
            <a:avLst>
              <a:gd name="adj" fmla="val 25000"/>
            </a:avLst>
          </a:prstGeom>
          <a:solidFill>
            <a:srgbClr val="00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67160" y="4665600"/>
            <a:ext cx="971640" cy="828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19440" y="2808360"/>
            <a:ext cx="971640" cy="828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31040" y="3678120"/>
            <a:ext cx="971640" cy="8287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04760" y="3720960"/>
            <a:ext cx="971640" cy="8287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0480" y="4775040"/>
            <a:ext cx="189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nen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87520" y="4699080"/>
            <a:ext cx="187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Grid/m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62800" y="3722760"/>
            <a:ext cx="221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omposi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08880" y="4651200"/>
            <a:ext cx="23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Visualiz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94040" y="4056120"/>
            <a:ext cx="722160" cy="230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827520" y="3668760"/>
            <a:ext cx="882720" cy="511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4427640"/>
            <a:ext cx="1341720" cy="757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10240" y="3139920"/>
            <a:ext cx="1693800" cy="635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332400" y="4303800"/>
            <a:ext cx="900360" cy="635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7720" y="1407960"/>
            <a:ext cx="84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:  Modeling of complex mechanical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60640" y="2446200"/>
            <a:ext cx="273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defined, 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ted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07360" y="5745240"/>
            <a:ext cx="58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rdwired” approach….nothing dynam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 without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smart" descr=""/>
          <p:cNvPicPr/>
          <p:nvPr/>
        </p:nvPicPr>
        <p:blipFill>
          <a:blip r:embed="rId1"/>
          <a:stretch/>
        </p:blipFill>
        <p:spPr>
          <a:xfrm>
            <a:off x="277920" y="1130400"/>
            <a:ext cx="2246040" cy="15699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070520" y="188136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24120" y="2367000"/>
            <a:ext cx="254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re-installed application-specific prox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7054920" y="2019240"/>
            <a:ext cx="1828800" cy="703080"/>
            <a:chOff x="7054920" y="2019240"/>
            <a:chExt cx="1828800" cy="703080"/>
          </a:xfrm>
        </p:grpSpPr>
        <p:sp>
          <p:nvSpPr>
            <p:cNvPr id="174" name=""/>
            <p:cNvSpPr/>
            <p:nvPr/>
          </p:nvSpPr>
          <p:spPr>
            <a:xfrm>
              <a:off x="7054920" y="218880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20120" y="20192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7679880" y="1571760"/>
            <a:ext cx="729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554200" y="1862280"/>
            <a:ext cx="1941480" cy="648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35640" y="1512720"/>
            <a:ext cx="896760" cy="7844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list" descr=""/>
          <p:cNvPicPr/>
          <p:nvPr/>
        </p:nvPicPr>
        <p:blipFill>
          <a:blip r:embed="rId2"/>
          <a:stretch/>
        </p:blipFill>
        <p:spPr>
          <a:xfrm>
            <a:off x="949320" y="1911240"/>
            <a:ext cx="1281240" cy="128448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7124760" y="849240"/>
            <a:ext cx="1828800" cy="703080"/>
            <a:chOff x="7124760" y="849240"/>
            <a:chExt cx="1828800" cy="703080"/>
          </a:xfrm>
        </p:grpSpPr>
        <p:sp>
          <p:nvSpPr>
            <p:cNvPr id="181" name=""/>
            <p:cNvSpPr/>
            <p:nvPr/>
          </p:nvSpPr>
          <p:spPr>
            <a:xfrm>
              <a:off x="7124760" y="101916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689960" y="8492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6735600" y="2724120"/>
            <a:ext cx="229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igher-level database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361120" y="1184040"/>
            <a:ext cx="2523960" cy="6267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560" y="1930320"/>
            <a:ext cx="2535120" cy="4492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09960" y="12016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76960" y="15112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smart" descr=""/>
          <p:cNvPicPr/>
          <p:nvPr/>
        </p:nvPicPr>
        <p:blipFill>
          <a:blip r:embed="rId3"/>
          <a:stretch/>
        </p:blipFill>
        <p:spPr>
          <a:xfrm>
            <a:off x="222120" y="4114800"/>
            <a:ext cx="2246400" cy="15699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48120" y="49100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02080" y="5396040"/>
            <a:ext cx="25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6999120" y="5003640"/>
            <a:ext cx="1828800" cy="703080"/>
            <a:chOff x="6999120" y="5003640"/>
            <a:chExt cx="1828800" cy="703080"/>
          </a:xfrm>
        </p:grpSpPr>
        <p:sp>
          <p:nvSpPr>
            <p:cNvPr id="192" name=""/>
            <p:cNvSpPr/>
            <p:nvPr/>
          </p:nvSpPr>
          <p:spPr>
            <a:xfrm>
              <a:off x="6999120" y="517320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64320" y="50036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7624440" y="4556160"/>
            <a:ext cx="729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79840" y="4497480"/>
            <a:ext cx="897120" cy="78408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list" descr=""/>
          <p:cNvPicPr/>
          <p:nvPr/>
        </p:nvPicPr>
        <p:blipFill>
          <a:blip r:embed="rId4"/>
          <a:stretch/>
        </p:blipFill>
        <p:spPr>
          <a:xfrm>
            <a:off x="893880" y="4917960"/>
            <a:ext cx="1280880" cy="1284480"/>
          </a:xfrm>
          <a:prstGeom prst="rect">
            <a:avLst/>
          </a:prstGeom>
          <a:ln w="0">
            <a:noFill/>
          </a:ln>
        </p:spPr>
      </p:pic>
      <p:grpSp>
        <p:nvGrpSpPr>
          <p:cNvPr id="197" name=""/>
          <p:cNvGrpSpPr/>
          <p:nvPr/>
        </p:nvGrpSpPr>
        <p:grpSpPr>
          <a:xfrm>
            <a:off x="7068960" y="3833640"/>
            <a:ext cx="1828800" cy="703080"/>
            <a:chOff x="7068960" y="3833640"/>
            <a:chExt cx="1828800" cy="703080"/>
          </a:xfrm>
        </p:grpSpPr>
        <p:sp>
          <p:nvSpPr>
            <p:cNvPr id="198" name=""/>
            <p:cNvSpPr/>
            <p:nvPr/>
          </p:nvSpPr>
          <p:spPr>
            <a:xfrm>
              <a:off x="7068960" y="400356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34160" y="38336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 flipV="1">
            <a:off x="2563920" y="4974840"/>
            <a:ext cx="1638360" cy="126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54480" y="482436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97560" y="393372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259760" y="510552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300640" y="4184640"/>
            <a:ext cx="1974960" cy="6364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15040" y="5005440"/>
            <a:ext cx="1896840" cy="3031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4160" y="3686040"/>
            <a:ext cx="69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Much less work, but now try extending the TR ap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4040" y="700200"/>
            <a:ext cx="17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Lot of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11240" y="432288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13440" y="453240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takes several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81520" y="1635120"/>
            <a:ext cx="67752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is, the research community is develop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different approaches to deal with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efficiency, robustness, adaptability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exibility for distributed computing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propose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ingl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, mobile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d on strong code mobility, to solve m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s in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unified framewor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5T20:38:20Z</dcterms:created>
  <dc:creator>David Kotz</dc:creator>
  <dc:description/>
  <dc:language>en-US</dc:language>
  <cp:lastModifiedBy>David Kotz</cp:lastModifiedBy>
  <dcterms:modified xsi:type="dcterms:W3CDTF">1999-09-05T20:44:51Z</dcterms:modified>
  <cp:revision>1</cp:revision>
  <dc:subject/>
  <dc:title>Alternatives to Mobile Agents</dc:title>
</cp:coreProperties>
</file>