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1A0-4942-487C-AEAD-9969559A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023-3CAD-4996-A2CD-222A8049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EE3-7A9D-41AE-88CF-7EB07871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3AC-CA0F-4E88-8183-ACA94212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1E7-20A3-4E3E-A21B-D840E8A3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A31-5352-4C83-B8E5-DB8AFBAA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A0CD-323B-4481-9E0A-DBB76A2F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DF5-AB5E-4EFB-8C9B-2B869C0F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212-EF89-43CB-A489-84CD8C39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72B-4667-4820-97D8-82B5389C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7A1-6270-4EBF-8332-C4A89FE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2C2-C9C2-4C13-A0CF-1D30C15E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D7D8-741C-4B1F-B783-A43B97C34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55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79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90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91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06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22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29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41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42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57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7480" y="11523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(tutorial.ppt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4:24:33Z</dcterms:created>
  <dc:creator>David Kotz</dc:creator>
  <dc:description/>
  <dc:language>en-US</dc:language>
  <cp:lastModifiedBy>David Kotz</cp:lastModifiedBy>
  <dcterms:modified xsi:type="dcterms:W3CDTF">1999-09-06T04:25:30Z</dcterms:modified>
  <cp:revision>1</cp:revision>
  <dc:subject/>
  <dc:title>No Slide Title</dc:title>
</cp:coreProperties>
</file>