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BCA-8268-4919-864F-B7C37276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703-E8C2-4395-B54D-7F1310A4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D4D-A422-4C70-8080-E0329E80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11B-E87E-4CFA-A563-BC3E09B2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6D8-4359-4A13-9AD9-C61DB146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04A-7F40-4AEF-8BE6-E67E623E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425-C940-4666-9A63-CC57A0E6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C1F-B57A-4DD7-BDCE-42E0A9FB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8F2-30C6-43D0-9928-7E0DBBDC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5E4-AFF7-470A-9C02-F48D6210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D7D-A236-4B8E-ABDE-39A8498A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B7D-5FF3-4274-BB0A-5E7B5DF0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CF84-1A8F-44EF-B65F-1A3D1CA05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3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55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79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90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91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06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22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29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41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42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2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57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7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67480" y="11523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(tutorial.ppt,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4:24:33Z</dcterms:created>
  <dc:creator>David Kotz</dc:creator>
  <dc:description/>
  <dc:language>en-US</dc:language>
  <cp:lastModifiedBy>David Kotz</cp:lastModifiedBy>
  <dcterms:modified xsi:type="dcterms:W3CDTF">1999-09-06T04:25:30Z</dcterms:modified>
  <cp:revision>1</cp:revision>
  <dc:subject/>
  <dc:title>No Slide Title</dc:title>
</cp:coreProperties>
</file>