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16.png" ContentType="image/png"/>
  <Override PartName="/ppt/media/image27.png" ContentType="image/png"/>
  <Override PartName="/ppt/media/image8.png" ContentType="image/png"/>
  <Override PartName="/ppt/media/image5.pct" ContentType="image/x-pict"/>
  <Override PartName="/ppt/media/image38.png" ContentType="image/png"/>
  <Override PartName="/ppt/media/image33.png" ContentType="image/png"/>
  <Override PartName="/ppt/media/image30.pct" ContentType="image/x-pict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14.png" ContentType="image/png"/>
  <Override PartName="/ppt/media/image28.pct" ContentType="image/x-pict"/>
  <Override PartName="/ppt/media/image2.png" ContentType="image/png"/>
  <Override PartName="/ppt/media/image62.pct" ContentType="image/x-pict"/>
  <Override PartName="/ppt/media/image61.pct" ContentType="image/x-pict"/>
  <Override PartName="/ppt/media/image17.png" ContentType="image/png"/>
  <Override PartName="/ppt/media/image11.jpeg" ContentType="image/jpeg"/>
  <Override PartName="/ppt/media/image24.png" ContentType="image/png"/>
  <Override PartName="/ppt/media/image25.png" ContentType="image/png"/>
  <Override PartName="/ppt/media/image21.png" ContentType="image/png"/>
  <Override PartName="/ppt/media/image58.png" ContentType="image/png"/>
  <Override PartName="/ppt/media/image57.png" ContentType="image/png"/>
  <Override PartName="/ppt/media/image20.png" ContentType="image/png"/>
  <Override PartName="/ppt/media/image60.png" ContentType="image/png"/>
  <Override PartName="/ppt/media/image23.png" ContentType="image/png"/>
  <Override PartName="/ppt/media/image31.png" ContentType="image/png"/>
  <Override PartName="/ppt/media/image22.png" ContentType="image/png"/>
  <Override PartName="/ppt/media/image59.png" ContentType="image/png"/>
  <Override PartName="/ppt/media/image10.pct" ContentType="image/x-pict"/>
  <Override PartName="/ppt/media/image1.png" ContentType="image/png"/>
  <Override PartName="/ppt/media/image13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9.pct" ContentType="image/x-pict"/>
  <Override PartName="/ppt/media/image35.png" ContentType="image/png"/>
  <Override PartName="/ppt/media/image39.png" ContentType="image/png"/>
  <Override PartName="/ppt/media/image54.pct" ContentType="image/x-pict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48.jpeg" ContentType="image/jpeg"/>
  <Override PartName="/ppt/media/image49.png" ContentType="image/png"/>
  <Override PartName="/ppt/media/image50.png" ContentType="image/png"/>
  <Override PartName="/ppt/media/image51.png" ContentType="image/png"/>
  <Override PartName="/ppt/media/image5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379E-09F7-4C25-8EBC-9DD5F2993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B4E3-1A92-470B-9C01-86D43135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3606-C891-4DF3-85E5-695C904FD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19AD-0B06-406C-A80E-C2F2EBA3F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68A7-4426-423A-856E-F9EFCA71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E62B-5A16-4E9A-A574-BF8F1D44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3DA3-89AF-443A-855D-B7B66B02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03C8-8146-40FC-A0F8-EA61D632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356A-58F0-4578-A6A0-CCB8BBF0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3954-3B63-4997-A362-A34051F2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687D-9710-4893-B9F3-8D354EE3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9FB5-D4A0-4B1B-BF7A-7E8D022A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05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EE6B-26C0-4725-8482-D9FD9D03E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28.pct"/><Relationship Id="rId1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ct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0.pct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7.png"/><Relationship Id="rId3" Type="http://schemas.openxmlformats.org/officeDocument/2006/relationships/image" Target="../media/image11.jpe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1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31.png"/><Relationship Id="rId4" Type="http://schemas.openxmlformats.org/officeDocument/2006/relationships/image" Target="../media/image22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1.png"/><Relationship Id="rId10" Type="http://schemas.openxmlformats.org/officeDocument/2006/relationships/image" Target="../media/image22.png"/><Relationship Id="rId11" Type="http://schemas.openxmlformats.org/officeDocument/2006/relationships/image" Target="../media/image40.png"/><Relationship Id="rId12" Type="http://schemas.openxmlformats.org/officeDocument/2006/relationships/image" Target="../media/image40.png"/><Relationship Id="rId1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1.png"/><Relationship Id="rId3" Type="http://schemas.openxmlformats.org/officeDocument/2006/relationships/image" Target="../media/image16.png"/><Relationship Id="rId4" Type="http://schemas.openxmlformats.org/officeDocument/2006/relationships/image" Target="../media/image42.png"/><Relationship Id="rId5" Type="http://schemas.openxmlformats.org/officeDocument/2006/relationships/image" Target="../media/image3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4.pct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2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7.png"/><Relationship Id="rId3" Type="http://schemas.openxmlformats.org/officeDocument/2006/relationships/image" Target="../media/image56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1.pct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2.pct"/><Relationship Id="rId3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almond.srv.cs.cmu.edu/afs/cs.cmu.edu/project/oz/web/overview2.html" TargetMode="Externa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gents, Mobile Agents,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nd D’Agen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avid Kotz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partment of Computer Scie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artmouth Colle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fk@cs.dartmouth.ed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546732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FRL, Rome 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ptember 7,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485040" y="5043600"/>
            <a:ext cx="2658960" cy="1814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4600" y="5076720"/>
            <a:ext cx="1579680" cy="1631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at is an agent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41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rogram (“software agent”), e.g.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al assistant (mail filter, scheduling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agent (tactical picture agent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-commerce agent (stock trader, bidder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ommendation agent (Firefly, Amazon.com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rogram that ca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act with users, applications, and agen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llaborate with the us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ftware agents help with repetitive task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6F0B-3D7A-424D-972D-587FDF3C517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Is everything an “agent”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 all programs are ag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ents ar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stomize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sisten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onomou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aptiv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566040" y="1987560"/>
            <a:ext cx="1638000" cy="394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0967-F61D-4B6E-A97F-DF44166752A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obile agen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984400" y="1460520"/>
          <a:ext cx="3175200" cy="39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0" y="1460520"/>
                    <a:ext cx="317520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3CBF-A6B9-40DF-ADA2-3757386FED5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at is a mobile agent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9400" y="3267000"/>
            <a:ext cx="1703520" cy="51444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382920" y="258084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382920" y="309528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679400" y="258084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60520" y="2581200"/>
            <a:ext cx="17035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064040" y="2580840"/>
            <a:ext cx="0" cy="5144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82920" y="258084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382920" y="309528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679400" y="258084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60520" y="2581200"/>
            <a:ext cx="17035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064040" y="2580840"/>
            <a:ext cx="0" cy="5144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agentred" descr=""/>
          <p:cNvPicPr/>
          <p:nvPr/>
        </p:nvPicPr>
        <p:blipFill>
          <a:blip r:embed="rId1"/>
          <a:stretch/>
        </p:blipFill>
        <p:spPr>
          <a:xfrm>
            <a:off x="2060640" y="2224080"/>
            <a:ext cx="88416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956120" y="3267000"/>
            <a:ext cx="1701720" cy="51444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657840" y="258084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657840" y="309528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956120" y="258084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7240" y="2581200"/>
            <a:ext cx="17017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338960" y="2580840"/>
            <a:ext cx="0" cy="5144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agentred" descr=""/>
          <p:cNvPicPr/>
          <p:nvPr/>
        </p:nvPicPr>
        <p:blipFill>
          <a:blip r:embed="rId2"/>
          <a:stretch/>
        </p:blipFill>
        <p:spPr>
          <a:xfrm>
            <a:off x="5318280" y="2224080"/>
            <a:ext cx="884160" cy="914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480000" y="196200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39600" y="1886040"/>
            <a:ext cx="93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237360" y="2356920"/>
            <a:ext cx="60948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9920" y="211464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89440" y="2724120"/>
            <a:ext cx="228600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51400" y="2876400"/>
            <a:ext cx="182880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2960" y="4376880"/>
            <a:ext cx="748332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6960" indent="-966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obile agent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71880" indent="-225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grates from machine to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71880" indent="-225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heterogeneous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71880" indent="-225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times of its own choosing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808F-58B9-4D54-832D-A70D920E016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ifferent kinds of mobility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1143000"/>
            <a:ext cx="0" cy="4952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00240" y="2438280"/>
            <a:ext cx="2152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data and contr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57040" y="1457280"/>
            <a:ext cx="4038480" cy="914400"/>
            <a:chOff x="257040" y="1457280"/>
            <a:chExt cx="4038480" cy="914400"/>
          </a:xfrm>
        </p:grpSpPr>
        <p:sp>
          <p:nvSpPr>
            <p:cNvPr id="121" name=""/>
            <p:cNvSpPr/>
            <p:nvPr/>
          </p:nvSpPr>
          <p:spPr>
            <a:xfrm>
              <a:off x="257040" y="183816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466720" y="183816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9760" y="1457280"/>
              <a:ext cx="685800" cy="762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47600" y="1457280"/>
              <a:ext cx="685800" cy="762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66520" y="1990800"/>
              <a:ext cx="22860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592640" y="5326200"/>
            <a:ext cx="1366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data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7040" y="464040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67080" y="464040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0120" y="425916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47960" y="425916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66880" y="3865680"/>
            <a:ext cx="2209680" cy="939600"/>
          </a:xfrm>
          <a:custGeom>
            <a:avLst/>
            <a:gdLst/>
            <a:ahLst/>
            <a:rect l="l" t="t" r="r" b="b"/>
            <a:pathLst>
              <a:path w="1392" h="592">
                <a:moveTo>
                  <a:pt x="0" y="584"/>
                </a:moveTo>
                <a:cubicBezTo>
                  <a:pt x="144" y="584"/>
                  <a:pt x="288" y="584"/>
                  <a:pt x="384" y="584"/>
                </a:cubicBezTo>
                <a:cubicBezTo>
                  <a:pt x="480" y="584"/>
                  <a:pt x="504" y="584"/>
                  <a:pt x="576" y="584"/>
                </a:cubicBezTo>
                <a:cubicBezTo>
                  <a:pt x="648" y="584"/>
                  <a:pt x="760" y="592"/>
                  <a:pt x="816" y="584"/>
                </a:cubicBezTo>
                <a:cubicBezTo>
                  <a:pt x="872" y="576"/>
                  <a:pt x="880" y="560"/>
                  <a:pt x="912" y="536"/>
                </a:cubicBezTo>
                <a:cubicBezTo>
                  <a:pt x="944" y="512"/>
                  <a:pt x="984" y="472"/>
                  <a:pt x="1008" y="440"/>
                </a:cubicBezTo>
                <a:cubicBezTo>
                  <a:pt x="1032" y="408"/>
                  <a:pt x="1048" y="384"/>
                  <a:pt x="1056" y="344"/>
                </a:cubicBezTo>
                <a:cubicBezTo>
                  <a:pt x="1064" y="304"/>
                  <a:pt x="1048" y="248"/>
                  <a:pt x="1056" y="200"/>
                </a:cubicBezTo>
                <a:cubicBezTo>
                  <a:pt x="1064" y="152"/>
                  <a:pt x="1080" y="88"/>
                  <a:pt x="1104" y="56"/>
                </a:cubicBezTo>
                <a:cubicBezTo>
                  <a:pt x="1128" y="24"/>
                  <a:pt x="1168" y="16"/>
                  <a:pt x="1200" y="8"/>
                </a:cubicBezTo>
                <a:cubicBezTo>
                  <a:pt x="1232" y="0"/>
                  <a:pt x="1272" y="0"/>
                  <a:pt x="1296" y="8"/>
                </a:cubicBezTo>
                <a:cubicBezTo>
                  <a:pt x="1320" y="16"/>
                  <a:pt x="1328" y="24"/>
                  <a:pt x="1344" y="56"/>
                </a:cubicBezTo>
                <a:cubicBezTo>
                  <a:pt x="1360" y="88"/>
                  <a:pt x="1376" y="144"/>
                  <a:pt x="1392" y="20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36160" y="2819520"/>
            <a:ext cx="2596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emote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“system” st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15080" y="167652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24760" y="167652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129528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05640" y="129528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45040" y="1785960"/>
            <a:ext cx="1563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133720"/>
            <a:ext cx="857520" cy="6379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91240" y="190512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720" y="0"/>
                </a:moveTo>
                <a:cubicBezTo>
                  <a:pt x="612" y="116"/>
                  <a:pt x="504" y="232"/>
                  <a:pt x="384" y="288"/>
                </a:cubicBezTo>
                <a:cubicBezTo>
                  <a:pt x="264" y="344"/>
                  <a:pt x="64" y="328"/>
                  <a:pt x="0" y="3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91240" y="1752480"/>
            <a:ext cx="1308240" cy="952560"/>
          </a:xfrm>
          <a:custGeom>
            <a:avLst/>
            <a:gdLst/>
            <a:ahLst/>
            <a:rect l="l" t="t" r="r" b="b"/>
            <a:pathLst>
              <a:path w="824" h="600">
                <a:moveTo>
                  <a:pt x="816" y="0"/>
                </a:moveTo>
                <a:cubicBezTo>
                  <a:pt x="820" y="144"/>
                  <a:pt x="824" y="288"/>
                  <a:pt x="768" y="384"/>
                </a:cubicBezTo>
                <a:cubicBezTo>
                  <a:pt x="712" y="480"/>
                  <a:pt x="608" y="552"/>
                  <a:pt x="480" y="576"/>
                </a:cubicBezTo>
                <a:cubicBezTo>
                  <a:pt x="352" y="600"/>
                  <a:pt x="176" y="564"/>
                  <a:pt x="0" y="5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4720" y="5486400"/>
            <a:ext cx="2960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o remote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no “system” st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15080" y="43243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24760" y="43243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3943440"/>
            <a:ext cx="68580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05640" y="3943440"/>
            <a:ext cx="68580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5040" y="4433760"/>
            <a:ext cx="1563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591240" y="4552920"/>
            <a:ext cx="304920" cy="83808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19840" y="4552920"/>
            <a:ext cx="914400" cy="38088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576" y="0"/>
                </a:moveTo>
                <a:cubicBezTo>
                  <a:pt x="528" y="76"/>
                  <a:pt x="480" y="152"/>
                  <a:pt x="384" y="192"/>
                </a:cubicBezTo>
                <a:cubicBezTo>
                  <a:pt x="288" y="232"/>
                  <a:pt x="144" y="236"/>
                  <a:pt x="0" y="24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67360" y="4400640"/>
            <a:ext cx="1067040" cy="863640"/>
          </a:xfrm>
          <a:custGeom>
            <a:avLst/>
            <a:gdLst/>
            <a:ahLst/>
            <a:rect l="l" t="t" r="r" b="b"/>
            <a:pathLst>
              <a:path w="672" h="544">
                <a:moveTo>
                  <a:pt x="624" y="0"/>
                </a:moveTo>
                <a:cubicBezTo>
                  <a:pt x="648" y="148"/>
                  <a:pt x="672" y="296"/>
                  <a:pt x="624" y="384"/>
                </a:cubicBezTo>
                <a:cubicBezTo>
                  <a:pt x="576" y="472"/>
                  <a:pt x="440" y="512"/>
                  <a:pt x="336" y="528"/>
                </a:cubicBezTo>
                <a:cubicBezTo>
                  <a:pt x="232" y="544"/>
                  <a:pt x="116" y="512"/>
                  <a:pt x="0" y="48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95920" y="4724280"/>
            <a:ext cx="857160" cy="6382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5431-18C2-4A73-875D-B2A66F3BC86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ifferent kinds of mobility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68480" y="1989000"/>
            <a:ext cx="4492800" cy="338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360" y="1965240"/>
            <a:ext cx="148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trong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Remote re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2876400"/>
            <a:ext cx="179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trong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No remote re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0360" y="3789360"/>
            <a:ext cx="148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Weak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Remote re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4702320"/>
            <a:ext cx="179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Weak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No remote re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17640" y="148752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16600" y="14875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52680" y="14860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52760" y="1998720"/>
            <a:ext cx="0" cy="338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43520" y="2006640"/>
            <a:ext cx="0" cy="338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92600" y="2852640"/>
            <a:ext cx="448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67040" y="3693960"/>
            <a:ext cx="448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74960" y="4535640"/>
            <a:ext cx="448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82000" y="38847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91120" y="30416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88000" y="30416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82000" y="22208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91120" y="22208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88000" y="22208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91120" y="38847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91120" y="47163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33120" y="4716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33120" y="30416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39120" y="4716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39120" y="38847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33440" y="2098800"/>
            <a:ext cx="12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ad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la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555680" y="304164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’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92200" y="388620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li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40280" y="471636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c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60AC-DECD-40AE-A2BD-62D58A753A0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pplication: Technical repor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82" name="smart" descr=""/>
          <p:cNvPicPr/>
          <p:nvPr/>
        </p:nvPicPr>
        <p:blipFill>
          <a:blip r:embed="rId1"/>
          <a:stretch/>
        </p:blipFill>
        <p:spPr>
          <a:xfrm>
            <a:off x="1219320" y="1108080"/>
            <a:ext cx="4038480" cy="2320920"/>
          </a:xfrm>
          <a:prstGeom prst="rect">
            <a:avLst/>
          </a:prstGeom>
          <a:ln w="0">
            <a:noFill/>
          </a:ln>
        </p:spPr>
      </p:pic>
      <p:pic>
        <p:nvPicPr>
          <p:cNvPr id="183" name="list" descr=""/>
          <p:cNvPicPr/>
          <p:nvPr/>
        </p:nvPicPr>
        <p:blipFill>
          <a:blip r:embed="rId2"/>
          <a:stretch/>
        </p:blipFill>
        <p:spPr>
          <a:xfrm>
            <a:off x="152280" y="2438280"/>
            <a:ext cx="2433600" cy="24386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657600" y="508644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agentred" descr=""/>
          <p:cNvPicPr/>
          <p:nvPr/>
        </p:nvPicPr>
        <p:blipFill>
          <a:blip r:embed="rId3"/>
          <a:stretch/>
        </p:blipFill>
        <p:spPr>
          <a:xfrm>
            <a:off x="3908520" y="485784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089520" y="5603760"/>
            <a:ext cx="246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ynamically sel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55720" y="2960640"/>
            <a:ext cx="533520" cy="53352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5880" y="3440160"/>
            <a:ext cx="772920" cy="14000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80840" y="376560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 Send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9960" y="5160960"/>
            <a:ext cx="228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. Return merged and filtered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49320" y="4638600"/>
            <a:ext cx="2016360" cy="719280"/>
          </a:xfrm>
          <a:custGeom>
            <a:avLst/>
            <a:gdLst/>
            <a:ahLst/>
            <a:rect l="l" t="t" r="r" b="b"/>
            <a:pathLst>
              <a:path w="1270" h="453">
                <a:moveTo>
                  <a:pt x="1270" y="297"/>
                </a:moveTo>
                <a:cubicBezTo>
                  <a:pt x="1009" y="375"/>
                  <a:pt x="748" y="453"/>
                  <a:pt x="536" y="403"/>
                </a:cubicBezTo>
                <a:cubicBezTo>
                  <a:pt x="324" y="353"/>
                  <a:pt x="89" y="67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280" y="1297080"/>
            <a:ext cx="110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GUI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ome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015320" y="1601640"/>
            <a:ext cx="1846080" cy="4586760"/>
            <a:chOff x="7015320" y="1601640"/>
            <a:chExt cx="1846080" cy="4586760"/>
          </a:xfrm>
        </p:grpSpPr>
        <p:sp>
          <p:nvSpPr>
            <p:cNvPr id="194" name=""/>
            <p:cNvSpPr/>
            <p:nvPr/>
          </p:nvSpPr>
          <p:spPr>
            <a:xfrm>
              <a:off x="7270560" y="5789520"/>
              <a:ext cx="13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achine 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7015320" y="4791240"/>
              <a:ext cx="1828800" cy="969840"/>
              <a:chOff x="7015320" y="4791240"/>
              <a:chExt cx="1828800" cy="969840"/>
            </a:xfrm>
          </p:grpSpPr>
          <p:sp>
            <p:nvSpPr>
              <p:cNvPr id="196" name=""/>
              <p:cNvSpPr/>
              <p:nvPr/>
            </p:nvSpPr>
            <p:spPr>
              <a:xfrm>
                <a:off x="7015320" y="5227920"/>
                <a:ext cx="1828800" cy="533160"/>
              </a:xfrm>
              <a:prstGeom prst="parallelogram">
                <a:avLst>
                  <a:gd name="adj" fmla="val 105555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974360" y="4791240"/>
                <a:ext cx="684000" cy="59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98" name="agentred" descr=""/>
              <p:cNvPicPr/>
              <p:nvPr/>
            </p:nvPicPr>
            <p:blipFill>
              <a:blip r:embed="rId4"/>
              <a:stretch/>
            </p:blipFill>
            <p:spPr>
              <a:xfrm>
                <a:off x="7216920" y="5267520"/>
                <a:ext cx="430200" cy="444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9" name=""/>
            <p:cNvGrpSpPr/>
            <p:nvPr/>
          </p:nvGrpSpPr>
          <p:grpSpPr>
            <a:xfrm>
              <a:off x="7032600" y="1601640"/>
              <a:ext cx="1828800" cy="1375200"/>
              <a:chOff x="7032600" y="1601640"/>
              <a:chExt cx="1828800" cy="1375200"/>
            </a:xfrm>
          </p:grpSpPr>
          <p:sp>
            <p:nvSpPr>
              <p:cNvPr id="200" name=""/>
              <p:cNvSpPr/>
              <p:nvPr/>
            </p:nvSpPr>
            <p:spPr>
              <a:xfrm>
                <a:off x="7286040" y="2577960"/>
                <a:ext cx="1320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Machine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7032600" y="1601640"/>
                <a:ext cx="1828800" cy="960120"/>
                <a:chOff x="7032600" y="1601640"/>
                <a:chExt cx="1828800" cy="9601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7032600" y="2028600"/>
                  <a:ext cx="1828800" cy="533160"/>
                </a:xfrm>
                <a:prstGeom prst="parallelogram">
                  <a:avLst>
                    <a:gd name="adj" fmla="val 105555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8011800" y="1601640"/>
                  <a:ext cx="684360" cy="5936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04" name="agentred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254720" y="2068200"/>
                  <a:ext cx="430200" cy="444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205" name=""/>
          <p:cNvSpPr/>
          <p:nvPr/>
        </p:nvSpPr>
        <p:spPr>
          <a:xfrm>
            <a:off x="7550640" y="3429000"/>
            <a:ext cx="109476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594320" y="2521080"/>
            <a:ext cx="2644560" cy="2420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83160" y="4997520"/>
            <a:ext cx="2611440" cy="3934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49880" y="4254480"/>
            <a:ext cx="24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 Send child agents / collect partial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7710480" y="2004840"/>
            <a:ext cx="547560" cy="247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7664400" y="5198760"/>
            <a:ext cx="538200" cy="25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E8EA-3A17-488B-B737-442C43A1AF4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96920" y="1042920"/>
            <a:ext cx="4919760" cy="5214960"/>
          </a:xfrm>
          <a:custGeom>
            <a:avLst/>
            <a:gdLst/>
            <a:ahLst/>
            <a:rect l="l" t="t" r="r" b="b"/>
            <a:pathLst>
              <a:path w="3099" h="3285">
                <a:moveTo>
                  <a:pt x="2277" y="8"/>
                </a:moveTo>
                <a:cubicBezTo>
                  <a:pt x="2068" y="15"/>
                  <a:pt x="1657" y="7"/>
                  <a:pt x="1462" y="121"/>
                </a:cubicBezTo>
                <a:cubicBezTo>
                  <a:pt x="1266" y="234"/>
                  <a:pt x="1243" y="529"/>
                  <a:pt x="1103" y="689"/>
                </a:cubicBezTo>
                <a:cubicBezTo>
                  <a:pt x="962" y="848"/>
                  <a:pt x="772" y="988"/>
                  <a:pt x="617" y="1078"/>
                </a:cubicBezTo>
                <a:cubicBezTo>
                  <a:pt x="461" y="1167"/>
                  <a:pt x="250" y="1061"/>
                  <a:pt x="169" y="1227"/>
                </a:cubicBezTo>
                <a:cubicBezTo>
                  <a:pt x="88" y="1392"/>
                  <a:pt x="0" y="1891"/>
                  <a:pt x="131" y="2072"/>
                </a:cubicBezTo>
                <a:cubicBezTo>
                  <a:pt x="261" y="2252"/>
                  <a:pt x="768" y="2176"/>
                  <a:pt x="954" y="2311"/>
                </a:cubicBezTo>
                <a:cubicBezTo>
                  <a:pt x="1139" y="2445"/>
                  <a:pt x="1110" y="2730"/>
                  <a:pt x="1246" y="2880"/>
                </a:cubicBezTo>
                <a:cubicBezTo>
                  <a:pt x="1381" y="3029"/>
                  <a:pt x="1537" y="3155"/>
                  <a:pt x="1769" y="3209"/>
                </a:cubicBezTo>
                <a:cubicBezTo>
                  <a:pt x="2000" y="3262"/>
                  <a:pt x="2426" y="3285"/>
                  <a:pt x="2636" y="3201"/>
                </a:cubicBezTo>
                <a:cubicBezTo>
                  <a:pt x="2845" y="3116"/>
                  <a:pt x="2950" y="2942"/>
                  <a:pt x="3025" y="2700"/>
                </a:cubicBezTo>
                <a:cubicBezTo>
                  <a:pt x="3099" y="2457"/>
                  <a:pt x="3083" y="2120"/>
                  <a:pt x="3085" y="1743"/>
                </a:cubicBezTo>
                <a:cubicBezTo>
                  <a:pt x="3086" y="1365"/>
                  <a:pt x="3094" y="712"/>
                  <a:pt x="3032" y="435"/>
                </a:cubicBezTo>
                <a:cubicBezTo>
                  <a:pt x="2969" y="157"/>
                  <a:pt x="2836" y="145"/>
                  <a:pt x="2711" y="76"/>
                </a:cubicBezTo>
                <a:cubicBezTo>
                  <a:pt x="2585" y="6"/>
                  <a:pt x="2485" y="0"/>
                  <a:pt x="2277" y="8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: RPC vs. Mobil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3040" y="55166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chin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548160" y="4518000"/>
            <a:ext cx="1828800" cy="969840"/>
            <a:chOff x="3548160" y="4518000"/>
            <a:chExt cx="1828800" cy="969840"/>
          </a:xfrm>
        </p:grpSpPr>
        <p:sp>
          <p:nvSpPr>
            <p:cNvPr id="215" name=""/>
            <p:cNvSpPr/>
            <p:nvPr/>
          </p:nvSpPr>
          <p:spPr>
            <a:xfrm>
              <a:off x="3548160" y="495468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07200" y="451800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7" name="agentred" descr=""/>
            <p:cNvPicPr/>
            <p:nvPr/>
          </p:nvPicPr>
          <p:blipFill>
            <a:blip r:embed="rId1"/>
            <a:stretch/>
          </p:blipFill>
          <p:spPr>
            <a:xfrm>
              <a:off x="3749760" y="499428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8" name=""/>
          <p:cNvGrpSpPr/>
          <p:nvPr/>
        </p:nvGrpSpPr>
        <p:grpSpPr>
          <a:xfrm>
            <a:off x="3565440" y="1328760"/>
            <a:ext cx="1828800" cy="1374840"/>
            <a:chOff x="3565440" y="1328760"/>
            <a:chExt cx="1828800" cy="1374840"/>
          </a:xfrm>
        </p:grpSpPr>
        <p:sp>
          <p:nvSpPr>
            <p:cNvPr id="219" name=""/>
            <p:cNvSpPr/>
            <p:nvPr/>
          </p:nvSpPr>
          <p:spPr>
            <a:xfrm>
              <a:off x="3818880" y="2304720"/>
              <a:ext cx="132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achine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3565440" y="1328760"/>
              <a:ext cx="1828800" cy="960120"/>
              <a:chOff x="3565440" y="1328760"/>
              <a:chExt cx="1828800" cy="960120"/>
            </a:xfrm>
          </p:grpSpPr>
          <p:sp>
            <p:nvSpPr>
              <p:cNvPr id="221" name=""/>
              <p:cNvSpPr/>
              <p:nvPr/>
            </p:nvSpPr>
            <p:spPr>
              <a:xfrm>
                <a:off x="3565440" y="1755720"/>
                <a:ext cx="1828800" cy="533160"/>
              </a:xfrm>
              <a:prstGeom prst="parallelogram">
                <a:avLst>
                  <a:gd name="adj" fmla="val 105555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544640" y="1328760"/>
                <a:ext cx="684360" cy="59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3" name="agentred" descr=""/>
              <p:cNvPicPr/>
              <p:nvPr/>
            </p:nvPicPr>
            <p:blipFill>
              <a:blip r:embed="rId2"/>
              <a:stretch/>
            </p:blipFill>
            <p:spPr>
              <a:xfrm>
                <a:off x="3787560" y="1795320"/>
                <a:ext cx="430200" cy="444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24" name=""/>
          <p:cNvSpPr/>
          <p:nvPr/>
        </p:nvSpPr>
        <p:spPr>
          <a:xfrm flipV="1">
            <a:off x="4243320" y="1731960"/>
            <a:ext cx="547920" cy="247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197240" y="4925520"/>
            <a:ext cx="538200" cy="25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93240" y="37940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chin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438360" y="2795760"/>
            <a:ext cx="1828800" cy="969840"/>
            <a:chOff x="3438360" y="2795760"/>
            <a:chExt cx="1828800" cy="969840"/>
          </a:xfrm>
        </p:grpSpPr>
        <p:sp>
          <p:nvSpPr>
            <p:cNvPr id="228" name=""/>
            <p:cNvSpPr/>
            <p:nvPr/>
          </p:nvSpPr>
          <p:spPr>
            <a:xfrm>
              <a:off x="3438360" y="323244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97400" y="279576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0" name="agentred" descr=""/>
            <p:cNvPicPr/>
            <p:nvPr/>
          </p:nvPicPr>
          <p:blipFill>
            <a:blip r:embed="rId3"/>
            <a:stretch/>
          </p:blipFill>
          <p:spPr>
            <a:xfrm>
              <a:off x="3639960" y="327204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"/>
          <p:cNvSpPr/>
          <p:nvPr/>
        </p:nvSpPr>
        <p:spPr>
          <a:xfrm flipV="1">
            <a:off x="4087800" y="3203280"/>
            <a:ext cx="538200" cy="25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58800" y="298944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70200" y="3456000"/>
            <a:ext cx="1057320" cy="414360"/>
          </a:xfrm>
          <a:prstGeom prst="parallelogram">
            <a:avLst>
              <a:gd name="adj" fmla="val 7852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agentred" descr=""/>
          <p:cNvPicPr/>
          <p:nvPr/>
        </p:nvPicPr>
        <p:blipFill>
          <a:blip r:embed="rId4"/>
          <a:stretch/>
        </p:blipFill>
        <p:spPr>
          <a:xfrm>
            <a:off x="2201760" y="3389400"/>
            <a:ext cx="430200" cy="4442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7459560" y="2784600"/>
            <a:ext cx="1208160" cy="14796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6"/>
          <a:stretch/>
        </p:blipFill>
        <p:spPr>
          <a:xfrm>
            <a:off x="431640" y="4976640"/>
            <a:ext cx="1016280" cy="12430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4618080" y="1722600"/>
            <a:ext cx="3073320" cy="1434960"/>
          </a:xfrm>
          <a:custGeom>
            <a:avLst/>
            <a:gdLst/>
            <a:ahLst/>
            <a:rect l="l" t="t" r="r" b="b"/>
            <a:pathLst>
              <a:path w="1936" h="904">
                <a:moveTo>
                  <a:pt x="1936" y="904"/>
                </a:moveTo>
                <a:cubicBezTo>
                  <a:pt x="1744" y="570"/>
                  <a:pt x="1553" y="237"/>
                  <a:pt x="1263" y="119"/>
                </a:cubicBezTo>
                <a:cubicBezTo>
                  <a:pt x="972" y="0"/>
                  <a:pt x="387" y="177"/>
                  <a:pt x="194" y="194"/>
                </a:cubicBezTo>
                <a:cubicBezTo>
                  <a:pt x="0" y="210"/>
                  <a:pt x="52" y="213"/>
                  <a:pt x="104" y="216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30840" y="2124000"/>
            <a:ext cx="2789280" cy="1152720"/>
          </a:xfrm>
          <a:custGeom>
            <a:avLst/>
            <a:gdLst/>
            <a:ahLst/>
            <a:rect l="l" t="t" r="r" b="b"/>
            <a:pathLst>
              <a:path w="1757" h="726">
                <a:moveTo>
                  <a:pt x="0" y="0"/>
                </a:moveTo>
                <a:cubicBezTo>
                  <a:pt x="302" y="209"/>
                  <a:pt x="604" y="418"/>
                  <a:pt x="897" y="539"/>
                </a:cubicBezTo>
                <a:cubicBezTo>
                  <a:pt x="1189" y="660"/>
                  <a:pt x="1613" y="693"/>
                  <a:pt x="1757" y="726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7080" y="3095640"/>
            <a:ext cx="2754360" cy="477720"/>
          </a:xfrm>
          <a:custGeom>
            <a:avLst/>
            <a:gdLst/>
            <a:ahLst/>
            <a:rect l="l" t="t" r="r" b="b"/>
            <a:pathLst>
              <a:path w="1690" h="324">
                <a:moveTo>
                  <a:pt x="1690" y="324"/>
                </a:moveTo>
                <a:cubicBezTo>
                  <a:pt x="1385" y="178"/>
                  <a:pt x="1081" y="33"/>
                  <a:pt x="800" y="17"/>
                </a:cubicBezTo>
                <a:cubicBezTo>
                  <a:pt x="518" y="0"/>
                  <a:pt x="259" y="113"/>
                  <a:pt x="0" y="227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84760" y="3467160"/>
            <a:ext cx="2705040" cy="736560"/>
          </a:xfrm>
          <a:custGeom>
            <a:avLst/>
            <a:gdLst/>
            <a:ahLst/>
            <a:rect l="l" t="t" r="r" b="b"/>
            <a:pathLst>
              <a:path w="1712" h="367">
                <a:moveTo>
                  <a:pt x="0" y="0"/>
                </a:moveTo>
                <a:cubicBezTo>
                  <a:pt x="309" y="160"/>
                  <a:pt x="618" y="320"/>
                  <a:pt x="904" y="344"/>
                </a:cubicBezTo>
                <a:cubicBezTo>
                  <a:pt x="1189" y="367"/>
                  <a:pt x="1450" y="254"/>
                  <a:pt x="1712" y="142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38640" y="4154400"/>
            <a:ext cx="2766960" cy="1044720"/>
          </a:xfrm>
          <a:custGeom>
            <a:avLst/>
            <a:gdLst/>
            <a:ahLst/>
            <a:rect l="l" t="t" r="r" b="b"/>
            <a:pathLst>
              <a:path w="1743" h="658">
                <a:moveTo>
                  <a:pt x="1743" y="0"/>
                </a:moveTo>
                <a:cubicBezTo>
                  <a:pt x="1480" y="203"/>
                  <a:pt x="1218" y="406"/>
                  <a:pt x="928" y="516"/>
                </a:cubicBezTo>
                <a:cubicBezTo>
                  <a:pt x="637" y="625"/>
                  <a:pt x="318" y="641"/>
                  <a:pt x="0" y="658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56200" y="4154400"/>
            <a:ext cx="3043080" cy="1494000"/>
          </a:xfrm>
          <a:custGeom>
            <a:avLst/>
            <a:gdLst/>
            <a:ahLst/>
            <a:rect l="l" t="t" r="r" b="b"/>
            <a:pathLst>
              <a:path w="1917" h="986">
                <a:moveTo>
                  <a:pt x="0" y="710"/>
                </a:moveTo>
                <a:cubicBezTo>
                  <a:pt x="309" y="848"/>
                  <a:pt x="619" y="986"/>
                  <a:pt x="912" y="965"/>
                </a:cubicBezTo>
                <a:cubicBezTo>
                  <a:pt x="1204" y="943"/>
                  <a:pt x="1596" y="743"/>
                  <a:pt x="1757" y="583"/>
                </a:cubicBezTo>
                <a:cubicBezTo>
                  <a:pt x="1917" y="422"/>
                  <a:pt x="1897" y="211"/>
                  <a:pt x="1877" y="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252920" y="1542960"/>
            <a:ext cx="188316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requ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ts of roundtr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777000" y="1555920"/>
            <a:ext cx="606600" cy="4995720"/>
          </a:xfrm>
          <a:prstGeom prst="ellipse">
            <a:avLst/>
          </a:prstGeom>
          <a:solidFill>
            <a:srgbClr val="ccffff">
              <a:alpha val="50000"/>
            </a:srgbClr>
          </a:solidFill>
          <a:ln cap="rnd" w="3816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6200000">
            <a:off x="6589080" y="576756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Wire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9206000">
            <a:off x="1366920" y="3454200"/>
            <a:ext cx="606240" cy="3052440"/>
          </a:xfrm>
          <a:prstGeom prst="ellipse">
            <a:avLst/>
          </a:prstGeom>
          <a:solidFill>
            <a:srgbClr val="ccffff">
              <a:alpha val="50000"/>
            </a:srgbClr>
          </a:solidFill>
          <a:ln cap="rnd" w="3816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700000">
            <a:off x="554760" y="40975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Wire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82680" y="3822840"/>
            <a:ext cx="1496880" cy="2028600"/>
          </a:xfrm>
          <a:custGeom>
            <a:avLst/>
            <a:gdLst/>
            <a:ahLst/>
            <a:rect l="l" t="t" r="r" b="b"/>
            <a:pathLst>
              <a:path w="943" h="1278">
                <a:moveTo>
                  <a:pt x="0" y="1278"/>
                </a:moveTo>
                <a:cubicBezTo>
                  <a:pt x="335" y="1130"/>
                  <a:pt x="670" y="982"/>
                  <a:pt x="807" y="770"/>
                </a:cubicBezTo>
                <a:cubicBezTo>
                  <a:pt x="943" y="557"/>
                  <a:pt x="882" y="278"/>
                  <a:pt x="822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28760" y="3833640"/>
            <a:ext cx="1087560" cy="1852920"/>
          </a:xfrm>
          <a:custGeom>
            <a:avLst/>
            <a:gdLst/>
            <a:ahLst/>
            <a:rect l="l" t="t" r="r" b="b"/>
            <a:pathLst>
              <a:path w="685" h="1167">
                <a:moveTo>
                  <a:pt x="658" y="0"/>
                </a:moveTo>
                <a:cubicBezTo>
                  <a:pt x="671" y="250"/>
                  <a:pt x="685" y="501"/>
                  <a:pt x="576" y="696"/>
                </a:cubicBezTo>
                <a:cubicBezTo>
                  <a:pt x="466" y="890"/>
                  <a:pt x="233" y="1028"/>
                  <a:pt x="0" y="1167"/>
                </a:cubicBezTo>
              </a:path>
            </a:pathLst>
          </a:custGeom>
          <a:noFill/>
          <a:ln w="572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176560" y="1900080"/>
            <a:ext cx="1031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720" y="6264360"/>
            <a:ext cx="46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agent moves across wireless only tw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35200" y="2184480"/>
            <a:ext cx="1163520" cy="1328760"/>
          </a:xfrm>
          <a:custGeom>
            <a:avLst/>
            <a:gdLst/>
            <a:ahLst/>
            <a:rect l="l" t="t" r="r" b="b"/>
            <a:pathLst>
              <a:path w="733" h="837">
                <a:moveTo>
                  <a:pt x="0" y="837"/>
                </a:moveTo>
                <a:cubicBezTo>
                  <a:pt x="159" y="802"/>
                  <a:pt x="318" y="767"/>
                  <a:pt x="441" y="628"/>
                </a:cubicBezTo>
                <a:cubicBezTo>
                  <a:pt x="563" y="488"/>
                  <a:pt x="648" y="244"/>
                  <a:pt x="733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98840" y="2089080"/>
            <a:ext cx="1176120" cy="1317600"/>
          </a:xfrm>
          <a:custGeom>
            <a:avLst/>
            <a:gdLst/>
            <a:ahLst/>
            <a:rect l="l" t="t" r="r" b="b"/>
            <a:pathLst>
              <a:path w="741" h="830">
                <a:moveTo>
                  <a:pt x="741" y="0"/>
                </a:moveTo>
                <a:cubicBezTo>
                  <a:pt x="600" y="151"/>
                  <a:pt x="460" y="302"/>
                  <a:pt x="337" y="441"/>
                </a:cubicBezTo>
                <a:cubicBezTo>
                  <a:pt x="213" y="579"/>
                  <a:pt x="106" y="704"/>
                  <a:pt x="0" y="83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22600" y="3475080"/>
            <a:ext cx="1009440" cy="146160"/>
          </a:xfrm>
          <a:custGeom>
            <a:avLst/>
            <a:gdLst/>
            <a:ahLst/>
            <a:rect l="l" t="t" r="r" b="b"/>
            <a:pathLst>
              <a:path w="636" h="92">
                <a:moveTo>
                  <a:pt x="0" y="92"/>
                </a:moveTo>
                <a:cubicBezTo>
                  <a:pt x="168" y="54"/>
                  <a:pt x="336" y="17"/>
                  <a:pt x="442" y="9"/>
                </a:cubicBezTo>
                <a:cubicBezTo>
                  <a:pt x="548" y="0"/>
                  <a:pt x="605" y="30"/>
                  <a:pt x="636" y="39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22600" y="3656160"/>
            <a:ext cx="1009440" cy="180720"/>
          </a:xfrm>
          <a:custGeom>
            <a:avLst/>
            <a:gdLst/>
            <a:ahLst/>
            <a:rect l="l" t="t" r="r" b="b"/>
            <a:pathLst>
              <a:path w="636" h="114">
                <a:moveTo>
                  <a:pt x="636" y="15"/>
                </a:moveTo>
                <a:cubicBezTo>
                  <a:pt x="539" y="64"/>
                  <a:pt x="443" y="114"/>
                  <a:pt x="337" y="112"/>
                </a:cubicBezTo>
                <a:cubicBezTo>
                  <a:pt x="231" y="109"/>
                  <a:pt x="53" y="15"/>
                  <a:pt x="0" y="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11440" y="3762360"/>
            <a:ext cx="1332000" cy="1211400"/>
          </a:xfrm>
          <a:custGeom>
            <a:avLst/>
            <a:gdLst/>
            <a:ahLst/>
            <a:rect l="l" t="t" r="r" b="b"/>
            <a:pathLst>
              <a:path w="839" h="763">
                <a:moveTo>
                  <a:pt x="0" y="0"/>
                </a:moveTo>
                <a:cubicBezTo>
                  <a:pt x="283" y="142"/>
                  <a:pt x="566" y="284"/>
                  <a:pt x="703" y="412"/>
                </a:cubicBezTo>
                <a:cubicBezTo>
                  <a:pt x="839" y="539"/>
                  <a:pt x="830" y="651"/>
                  <a:pt x="822" y="763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35200" y="3846600"/>
            <a:ext cx="1103400" cy="1317600"/>
          </a:xfrm>
          <a:custGeom>
            <a:avLst/>
            <a:gdLst/>
            <a:ahLst/>
            <a:rect l="l" t="t" r="r" b="b"/>
            <a:pathLst>
              <a:path w="695" h="830">
                <a:moveTo>
                  <a:pt x="695" y="830"/>
                </a:moveTo>
                <a:cubicBezTo>
                  <a:pt x="592" y="723"/>
                  <a:pt x="489" y="616"/>
                  <a:pt x="374" y="478"/>
                </a:cubicBezTo>
                <a:cubicBezTo>
                  <a:pt x="258" y="339"/>
                  <a:pt x="129" y="169"/>
                  <a:pt x="0" y="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FA73-E11D-40C0-8565-CE3D2757DA4B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 flipH="1" flipV="1">
            <a:off x="4495680" y="1323360"/>
            <a:ext cx="1524240" cy="472428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826200 h 4724280"/>
              <a:gd name="textAreaBottom" fmla="*/ 3424680 h 47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1628640"/>
            <a:ext cx="1524240" cy="472464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826560 h 4724640"/>
              <a:gd name="textAreaBottom" fmla="*/ 3425400 h 472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38080" y="41212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Wea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15120" y="279720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57200" y="4295880"/>
            <a:ext cx="401760" cy="395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57200" y="2695680"/>
            <a:ext cx="401760" cy="388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3581280" y="0"/>
            <a:ext cx="546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rtmouth (Prime),  ALPHATECH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vard, Lockheed Marti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PI, University of Illinois at Urb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http://actcomm.dartmouth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905120" y="4981680"/>
            <a:ext cx="858600" cy="12189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228600" y="3533760"/>
            <a:ext cx="477720" cy="4777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610560" y="3484440"/>
            <a:ext cx="114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omm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21320" y="528480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obile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23880" y="1400040"/>
            <a:ext cx="3276720" cy="152424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latile Network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tion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3124080" y="5686560"/>
            <a:ext cx="1295640" cy="9712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6"/>
          <a:stretch/>
        </p:blipFill>
        <p:spPr>
          <a:xfrm>
            <a:off x="5486400" y="2619360"/>
            <a:ext cx="479520" cy="9907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4709160" y="3262320"/>
            <a:ext cx="8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Re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7"/>
          <a:stretch/>
        </p:blipFill>
        <p:spPr>
          <a:xfrm>
            <a:off x="5334120" y="4371840"/>
            <a:ext cx="761760" cy="7016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266360" y="4100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Reque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92880" y="52102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97840" y="52862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39840" y="3305160"/>
            <a:ext cx="2008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tive Information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ing queri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fusi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omat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873400" y="5175360"/>
            <a:ext cx="212976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tive Software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cl, Java,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eme mobi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s deliver da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monitor datab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60680" y="3533760"/>
            <a:ext cx="2666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tive Hybrid Network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reless and vola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s must reconfig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relocate servers/prox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robustness and effici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857200" y="1908000"/>
            <a:ext cx="28602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ctiv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lanning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routing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 itineraries must b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ned dynamically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chastic contro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" y="228600"/>
            <a:ext cx="3962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ctComm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7 DoD MU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6856-1000-4AF1-86B2-FF8D8194B703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 flipH="1">
            <a:off x="2192400" y="1390680"/>
            <a:ext cx="115920" cy="1119240"/>
          </a:xfrm>
          <a:prstGeom prst="line">
            <a:avLst/>
          </a:prstGeom>
          <a:ln w="127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01760" y="136440"/>
            <a:ext cx="3849480" cy="1647360"/>
            <a:chOff x="401760" y="136440"/>
            <a:chExt cx="3849480" cy="1647360"/>
          </a:xfrm>
        </p:grpSpPr>
        <p:sp>
          <p:nvSpPr>
            <p:cNvPr id="284" name=""/>
            <p:cNvSpPr/>
            <p:nvPr/>
          </p:nvSpPr>
          <p:spPr>
            <a:xfrm rot="20580000">
              <a:off x="2048400" y="663480"/>
              <a:ext cx="582840" cy="582480"/>
            </a:xfrm>
            <a:prstGeom prst="ellipse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20580000">
              <a:off x="2867400" y="319320"/>
              <a:ext cx="1333440" cy="542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20580000">
              <a:off x="451800" y="1057680"/>
              <a:ext cx="1333440" cy="542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7" name=""/>
            <p:cNvCxnSpPr>
              <a:stCxn id="284" idx="6"/>
              <a:endCxn id="285" idx="1"/>
            </p:cNvCxnSpPr>
            <p:nvPr/>
          </p:nvCxnSpPr>
          <p:spPr>
            <a:xfrm flipV="1">
              <a:off x="2630880" y="789840"/>
              <a:ext cx="254160" cy="770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>
              <a:stCxn id="284" idx="2"/>
              <a:endCxn id="286" idx="3"/>
            </p:cNvCxnSpPr>
            <p:nvPr/>
          </p:nvCxnSpPr>
          <p:spPr>
            <a:xfrm flipH="1">
              <a:off x="1768320" y="1044360"/>
              <a:ext cx="281160" cy="87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Application: ActComm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290" name="humvee" descr=""/>
          <p:cNvPicPr/>
          <p:nvPr/>
        </p:nvPicPr>
        <p:blipFill>
          <a:blip r:embed="rId3"/>
          <a:stretch/>
        </p:blipFill>
        <p:spPr>
          <a:xfrm>
            <a:off x="4854600" y="2585880"/>
            <a:ext cx="1380960" cy="698760"/>
          </a:xfrm>
          <a:prstGeom prst="rect">
            <a:avLst/>
          </a:prstGeom>
          <a:ln w="0">
            <a:noFill/>
          </a:ln>
        </p:spPr>
      </p:pic>
      <p:pic>
        <p:nvPicPr>
          <p:cNvPr id="291" name="soldier1" descr=""/>
          <p:cNvPicPr/>
          <p:nvPr/>
        </p:nvPicPr>
        <p:blipFill>
          <a:blip r:embed="rId4"/>
          <a:stretch/>
        </p:blipFill>
        <p:spPr>
          <a:xfrm>
            <a:off x="7797960" y="3127320"/>
            <a:ext cx="542880" cy="995400"/>
          </a:xfrm>
          <a:prstGeom prst="rect">
            <a:avLst/>
          </a:prstGeom>
          <a:ln w="0">
            <a:noFill/>
          </a:ln>
        </p:spPr>
      </p:pic>
      <p:pic>
        <p:nvPicPr>
          <p:cNvPr id="292" name="soldier2" descr=""/>
          <p:cNvPicPr/>
          <p:nvPr/>
        </p:nvPicPr>
        <p:blipFill>
          <a:blip r:embed="rId5"/>
          <a:stretch/>
        </p:blipFill>
        <p:spPr>
          <a:xfrm>
            <a:off x="5780160" y="4168800"/>
            <a:ext cx="466560" cy="984240"/>
          </a:xfrm>
          <a:prstGeom prst="rect">
            <a:avLst/>
          </a:prstGeom>
          <a:ln w="0">
            <a:noFill/>
          </a:ln>
        </p:spPr>
      </p:pic>
      <p:pic>
        <p:nvPicPr>
          <p:cNvPr id="293" name="soldier1" descr=""/>
          <p:cNvPicPr/>
          <p:nvPr/>
        </p:nvPicPr>
        <p:blipFill>
          <a:blip r:embed="rId6"/>
          <a:stretch/>
        </p:blipFill>
        <p:spPr>
          <a:xfrm>
            <a:off x="7491240" y="5513400"/>
            <a:ext cx="543240" cy="995400"/>
          </a:xfrm>
          <a:prstGeom prst="rect">
            <a:avLst/>
          </a:prstGeom>
          <a:ln w="0">
            <a:noFill/>
          </a:ln>
        </p:spPr>
      </p:pic>
      <p:pic>
        <p:nvPicPr>
          <p:cNvPr id="294" name="soldier2" descr=""/>
          <p:cNvPicPr/>
          <p:nvPr/>
        </p:nvPicPr>
        <p:blipFill>
          <a:blip r:embed="rId7"/>
          <a:stretch/>
        </p:blipFill>
        <p:spPr>
          <a:xfrm>
            <a:off x="8542440" y="1374840"/>
            <a:ext cx="466560" cy="984240"/>
          </a:xfrm>
          <a:prstGeom prst="rect">
            <a:avLst/>
          </a:prstGeom>
          <a:ln w="0">
            <a:noFill/>
          </a:ln>
        </p:spPr>
      </p:pic>
      <p:grpSp>
        <p:nvGrpSpPr>
          <p:cNvPr id="295" name=""/>
          <p:cNvGrpSpPr/>
          <p:nvPr/>
        </p:nvGrpSpPr>
        <p:grpSpPr>
          <a:xfrm>
            <a:off x="5219640" y="4092480"/>
            <a:ext cx="492120" cy="942840"/>
            <a:chOff x="5219640" y="4092480"/>
            <a:chExt cx="492120" cy="942840"/>
          </a:xfrm>
        </p:grpSpPr>
        <p:pic>
          <p:nvPicPr>
            <p:cNvPr id="296" name="gateway" descr=""/>
            <p:cNvPicPr/>
            <p:nvPr/>
          </p:nvPicPr>
          <p:blipFill>
            <a:blip r:embed="rId8"/>
            <a:stretch/>
          </p:blipFill>
          <p:spPr>
            <a:xfrm>
              <a:off x="5219640" y="443052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7" name=""/>
            <p:cNvGrpSpPr/>
            <p:nvPr/>
          </p:nvGrpSpPr>
          <p:grpSpPr>
            <a:xfrm>
              <a:off x="5254200" y="4092480"/>
              <a:ext cx="319320" cy="374760"/>
              <a:chOff x="5254200" y="4092480"/>
              <a:chExt cx="319320" cy="374760"/>
            </a:xfrm>
          </p:grpSpPr>
          <p:sp>
            <p:nvSpPr>
              <p:cNvPr id="298" name=""/>
              <p:cNvSpPr/>
              <p:nvPr/>
            </p:nvSpPr>
            <p:spPr>
              <a:xfrm flipV="1">
                <a:off x="5406840" y="426708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5460840" y="413532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89640" y="427212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5293800" y="430056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flipV="1">
                <a:off x="5254200" y="418644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 flipV="1">
                <a:off x="5360760" y="409248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" name=""/>
          <p:cNvGrpSpPr/>
          <p:nvPr/>
        </p:nvGrpSpPr>
        <p:grpSpPr>
          <a:xfrm>
            <a:off x="5532120" y="2235240"/>
            <a:ext cx="319320" cy="374760"/>
            <a:chOff x="5532120" y="2235240"/>
            <a:chExt cx="319320" cy="374760"/>
          </a:xfrm>
        </p:grpSpPr>
        <p:sp>
          <p:nvSpPr>
            <p:cNvPr id="305" name=""/>
            <p:cNvSpPr/>
            <p:nvPr/>
          </p:nvSpPr>
          <p:spPr>
            <a:xfrm flipV="1">
              <a:off x="5684760" y="2409840"/>
              <a:ext cx="0" cy="20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5738760" y="2278080"/>
              <a:ext cx="85680" cy="69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67560" y="2414880"/>
              <a:ext cx="83880" cy="205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5571720" y="2443320"/>
              <a:ext cx="33480" cy="15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>
              <a:off x="5532120" y="2329200"/>
              <a:ext cx="90360" cy="331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5638680" y="2235240"/>
              <a:ext cx="37800" cy="1000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7962840" y="1306440"/>
            <a:ext cx="492120" cy="942840"/>
            <a:chOff x="7962840" y="1306440"/>
            <a:chExt cx="492120" cy="942840"/>
          </a:xfrm>
        </p:grpSpPr>
        <p:pic>
          <p:nvPicPr>
            <p:cNvPr id="312" name="gateway" descr=""/>
            <p:cNvPicPr/>
            <p:nvPr/>
          </p:nvPicPr>
          <p:blipFill>
            <a:blip r:embed="rId9"/>
            <a:stretch/>
          </p:blipFill>
          <p:spPr>
            <a:xfrm>
              <a:off x="7962840" y="164448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3" name=""/>
            <p:cNvGrpSpPr/>
            <p:nvPr/>
          </p:nvGrpSpPr>
          <p:grpSpPr>
            <a:xfrm>
              <a:off x="7997400" y="1306440"/>
              <a:ext cx="319320" cy="374760"/>
              <a:chOff x="7997400" y="1306440"/>
              <a:chExt cx="319320" cy="374760"/>
            </a:xfrm>
          </p:grpSpPr>
          <p:sp>
            <p:nvSpPr>
              <p:cNvPr id="314" name=""/>
              <p:cNvSpPr/>
              <p:nvPr/>
            </p:nvSpPr>
            <p:spPr>
              <a:xfrm flipV="1">
                <a:off x="8150040" y="148104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8204040" y="134928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232840" y="148608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8037000" y="151452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 flipV="1">
                <a:off x="7997400" y="140040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8103960" y="130644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0" name=""/>
          <p:cNvGrpSpPr/>
          <p:nvPr/>
        </p:nvGrpSpPr>
        <p:grpSpPr>
          <a:xfrm>
            <a:off x="7272360" y="2971800"/>
            <a:ext cx="492120" cy="942840"/>
            <a:chOff x="7272360" y="2971800"/>
            <a:chExt cx="492120" cy="942840"/>
          </a:xfrm>
        </p:grpSpPr>
        <p:pic>
          <p:nvPicPr>
            <p:cNvPr id="321" name="gateway" descr=""/>
            <p:cNvPicPr/>
            <p:nvPr/>
          </p:nvPicPr>
          <p:blipFill>
            <a:blip r:embed="rId10"/>
            <a:stretch/>
          </p:blipFill>
          <p:spPr>
            <a:xfrm>
              <a:off x="7272360" y="330984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2" name=""/>
            <p:cNvGrpSpPr/>
            <p:nvPr/>
          </p:nvGrpSpPr>
          <p:grpSpPr>
            <a:xfrm>
              <a:off x="7306920" y="2971800"/>
              <a:ext cx="319320" cy="374760"/>
              <a:chOff x="7306920" y="2971800"/>
              <a:chExt cx="319320" cy="374760"/>
            </a:xfrm>
          </p:grpSpPr>
          <p:sp>
            <p:nvSpPr>
              <p:cNvPr id="323" name=""/>
              <p:cNvSpPr/>
              <p:nvPr/>
            </p:nvSpPr>
            <p:spPr>
              <a:xfrm flipV="1">
                <a:off x="7459560" y="314640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7513560" y="301464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542360" y="315144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7346520" y="317988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7306920" y="306576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 flipV="1">
                <a:off x="7413480" y="297180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9" name=""/>
          <p:cNvGrpSpPr/>
          <p:nvPr/>
        </p:nvGrpSpPr>
        <p:grpSpPr>
          <a:xfrm>
            <a:off x="6954840" y="5402160"/>
            <a:ext cx="492120" cy="942840"/>
            <a:chOff x="6954840" y="5402160"/>
            <a:chExt cx="492120" cy="942840"/>
          </a:xfrm>
        </p:grpSpPr>
        <p:pic>
          <p:nvPicPr>
            <p:cNvPr id="330" name="gateway" descr=""/>
            <p:cNvPicPr/>
            <p:nvPr/>
          </p:nvPicPr>
          <p:blipFill>
            <a:blip r:embed="rId11"/>
            <a:stretch/>
          </p:blipFill>
          <p:spPr>
            <a:xfrm>
              <a:off x="6954840" y="574020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1" name=""/>
            <p:cNvGrpSpPr/>
            <p:nvPr/>
          </p:nvGrpSpPr>
          <p:grpSpPr>
            <a:xfrm>
              <a:off x="6989400" y="5402160"/>
              <a:ext cx="319320" cy="374760"/>
              <a:chOff x="6989400" y="5402160"/>
              <a:chExt cx="319320" cy="374760"/>
            </a:xfrm>
          </p:grpSpPr>
          <p:sp>
            <p:nvSpPr>
              <p:cNvPr id="332" name=""/>
              <p:cNvSpPr/>
              <p:nvPr/>
            </p:nvSpPr>
            <p:spPr>
              <a:xfrm flipV="1">
                <a:off x="7142040" y="557676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7196040" y="544500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224840" y="558180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7029000" y="561024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 flipV="1">
                <a:off x="6989400" y="549612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 flipV="1">
                <a:off x="7095960" y="540216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8" name=""/>
          <p:cNvSpPr/>
          <p:nvPr/>
        </p:nvSpPr>
        <p:spPr>
          <a:xfrm>
            <a:off x="5737320" y="3294000"/>
            <a:ext cx="179280" cy="83016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6148080" y="3809880"/>
            <a:ext cx="1098360" cy="57312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67600" y="3038400"/>
            <a:ext cx="1079280" cy="39060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7246440" y="3914640"/>
            <a:ext cx="295560" cy="143856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176880" y="5172120"/>
            <a:ext cx="762120" cy="29376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550280" y="4483080"/>
            <a:ext cx="113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7764120" y="2278080"/>
            <a:ext cx="420840" cy="86832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63600" y="1368360"/>
            <a:ext cx="293400" cy="2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12124"/>
                </a:moveTo>
                <a:arcTo wR="10800" hR="10800" stAng="10377395" swAng="11089347"/>
                <a:lnTo>
                  <a:pt x="10800" y="10800"/>
                </a:lnTo>
                <a:close/>
              </a:path>
              <a:path fill="none" w="21600" h="21600">
                <a:moveTo>
                  <a:pt x="82" y="12124"/>
                </a:moveTo>
                <a:arcTo wR="10800" hR="10800" stAng="10377395" swAng="11089347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84520" y="1168560"/>
            <a:ext cx="295200" cy="293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880" y="19833"/>
                </a:moveTo>
                <a:arcTo wR="10800" hR="10800" stAng="7394301" swAng="10659812"/>
                <a:lnTo>
                  <a:pt x="10800" y="10800"/>
                </a:lnTo>
                <a:close/>
              </a:path>
              <a:path fill="none" w="21600" h="21600">
                <a:moveTo>
                  <a:pt x="4880" y="19833"/>
                </a:moveTo>
                <a:arcTo wR="10800" hR="10800" stAng="7394301" swAng="10659812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63240" y="2280600"/>
            <a:ext cx="290880" cy="29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95" y="78"/>
                </a:moveTo>
                <a:arcTo wR="10800" hR="10800" stAng="-4986890" swAng="13143183"/>
                <a:lnTo>
                  <a:pt x="10800" y="10800"/>
                </a:lnTo>
                <a:close/>
              </a:path>
              <a:path fill="none" w="21600" h="21600">
                <a:moveTo>
                  <a:pt x="12095" y="78"/>
                </a:moveTo>
                <a:arcTo wR="10800" hR="10800" stAng="-4986890" swAng="13143183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717640" y="1251000"/>
            <a:ext cx="2403720" cy="1230120"/>
          </a:xfrm>
          <a:prstGeom prst="line">
            <a:avLst/>
          </a:prstGeom>
          <a:ln w="127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21360" y="2521080"/>
            <a:ext cx="22320" cy="12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65360" y="1131840"/>
            <a:ext cx="123840" cy="7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2307960" y="1231920"/>
            <a:ext cx="2196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0440" y="4711680"/>
            <a:ext cx="1366920" cy="739800"/>
          </a:xfrm>
          <a:prstGeom prst="roundRect">
            <a:avLst>
              <a:gd name="adj" fmla="val 16667"/>
            </a:avLst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chn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739880" y="5587920"/>
            <a:ext cx="1366920" cy="739800"/>
          </a:xfrm>
          <a:prstGeom prst="roundRect">
            <a:avLst>
              <a:gd name="adj" fmla="val 16667"/>
            </a:avLst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ders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16240" y="4710240"/>
            <a:ext cx="1366920" cy="739800"/>
          </a:xfrm>
          <a:prstGeom prst="roundRect">
            <a:avLst>
              <a:gd name="adj" fmla="val 16667"/>
            </a:avLst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s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620640" y="2260440"/>
            <a:ext cx="2816280" cy="1427400"/>
            <a:chOff x="620640" y="2260440"/>
            <a:chExt cx="2816280" cy="1427400"/>
          </a:xfrm>
        </p:grpSpPr>
        <p:pic>
          <p:nvPicPr>
            <p:cNvPr id="356" name="" descr=""/>
            <p:cNvPicPr/>
            <p:nvPr/>
          </p:nvPicPr>
          <p:blipFill>
            <a:blip r:embed="rId15"/>
            <a:stretch/>
          </p:blipFill>
          <p:spPr>
            <a:xfrm>
              <a:off x="620640" y="2260440"/>
              <a:ext cx="281628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1308600" y="2790720"/>
              <a:ext cx="184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Wired 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2281320" y="3695760"/>
            <a:ext cx="129960" cy="183492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478240" y="3679920"/>
            <a:ext cx="758520" cy="101736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1528560" y="3665520"/>
            <a:ext cx="563400" cy="102888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AFE3-5DB9-4BB7-A608-03A6688563B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3160" y="3232080"/>
            <a:ext cx="8808840" cy="3071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cknowledgemen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51000" y="1762200"/>
            <a:ext cx="664524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Cybenko, Thayer School of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b Gray, Thayer School of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iela Rus, Department of Computer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24680" y="1214280"/>
            <a:ext cx="22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llabo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darpa" descr=""/>
          <p:cNvPicPr/>
          <p:nvPr/>
        </p:nvPicPr>
        <p:blipFill>
          <a:blip r:embed="rId1"/>
          <a:stretch/>
        </p:blipFill>
        <p:spPr>
          <a:xfrm>
            <a:off x="258840" y="5091120"/>
            <a:ext cx="1828800" cy="1074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305080" y="5372280"/>
            <a:ext cx="22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RPA contr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30602-98-2-01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muri-dod" descr=""/>
          <p:cNvPicPr/>
          <p:nvPr/>
        </p:nvPicPr>
        <p:blipFill>
          <a:blip r:embed="rId2"/>
          <a:stretch/>
        </p:blipFill>
        <p:spPr>
          <a:xfrm>
            <a:off x="7304040" y="3305160"/>
            <a:ext cx="1371600" cy="1366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064040" y="3532320"/>
            <a:ext cx="31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D MURI (AFOSR contract F49620-97-1-0382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41240" y="4200480"/>
            <a:ext cx="863640" cy="812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40280" y="4290840"/>
            <a:ext cx="23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FRL/Rome contra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30602-98-C-0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215120" y="4869000"/>
            <a:ext cx="1549440" cy="812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48320" y="487836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NR contra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00014-95-1-12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21880" y="337500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und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B529-0AD4-41AC-8BDA-0E20BCC98E8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obile node setup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02840" y="1546200"/>
            <a:ext cx="8457840" cy="4041360"/>
            <a:chOff x="402840" y="1546200"/>
            <a:chExt cx="8457840" cy="4041360"/>
          </a:xfrm>
        </p:grpSpPr>
        <p:pic>
          <p:nvPicPr>
            <p:cNvPr id="363" name="" descr=""/>
            <p:cNvPicPr/>
            <p:nvPr/>
          </p:nvPicPr>
          <p:blipFill>
            <a:blip r:embed="rId1"/>
            <a:stretch/>
          </p:blipFill>
          <p:spPr>
            <a:xfrm>
              <a:off x="1790640" y="1760400"/>
              <a:ext cx="5105520" cy="38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707760" y="3839760"/>
              <a:ext cx="694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GPS 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274880" y="2952360"/>
              <a:ext cx="1585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Cabletron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Digi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Roamabout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370280" y="4727160"/>
              <a:ext cx="1256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etri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Ricochet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2840" y="1546200"/>
              <a:ext cx="875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Linu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lap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85720" y="2141280"/>
              <a:ext cx="10670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1409760" y="4046400"/>
              <a:ext cx="76176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 flipV="1">
              <a:off x="5981760" y="4655880"/>
              <a:ext cx="12952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5981760" y="3132000"/>
              <a:ext cx="1218960" cy="7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4842360" y="5956200"/>
            <a:ext cx="362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We now use Lucent WaveLAN2 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315F-53B4-403B-9AB8-750C329681B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he DARPA CoABS Projec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324080" y="2782800"/>
            <a:ext cx="3270240" cy="2886120"/>
            <a:chOff x="1324080" y="2782800"/>
            <a:chExt cx="3270240" cy="2886120"/>
          </a:xfrm>
        </p:grpSpPr>
        <p:sp>
          <p:nvSpPr>
            <p:cNvPr id="375" name=""/>
            <p:cNvSpPr/>
            <p:nvPr/>
          </p:nvSpPr>
          <p:spPr>
            <a:xfrm>
              <a:off x="1324080" y="2782800"/>
              <a:ext cx="3270240" cy="2886120"/>
            </a:xfrm>
            <a:custGeom>
              <a:avLst/>
              <a:gdLst/>
              <a:ahLst/>
              <a:rect l="l" t="t" r="r" b="b"/>
              <a:pathLst>
                <a:path w="2381" h="2101">
                  <a:moveTo>
                    <a:pt x="352" y="471"/>
                  </a:moveTo>
                  <a:cubicBezTo>
                    <a:pt x="370" y="340"/>
                    <a:pt x="361" y="199"/>
                    <a:pt x="432" y="86"/>
                  </a:cubicBezTo>
                  <a:cubicBezTo>
                    <a:pt x="456" y="45"/>
                    <a:pt x="508" y="30"/>
                    <a:pt x="549" y="6"/>
                  </a:cubicBezTo>
                  <a:cubicBezTo>
                    <a:pt x="756" y="24"/>
                    <a:pt x="695" y="0"/>
                    <a:pt x="862" y="108"/>
                  </a:cubicBezTo>
                  <a:cubicBezTo>
                    <a:pt x="928" y="208"/>
                    <a:pt x="905" y="178"/>
                    <a:pt x="942" y="268"/>
                  </a:cubicBezTo>
                  <a:cubicBezTo>
                    <a:pt x="949" y="258"/>
                    <a:pt x="954" y="247"/>
                    <a:pt x="963" y="239"/>
                  </a:cubicBezTo>
                  <a:cubicBezTo>
                    <a:pt x="969" y="232"/>
                    <a:pt x="979" y="231"/>
                    <a:pt x="985" y="224"/>
                  </a:cubicBezTo>
                  <a:cubicBezTo>
                    <a:pt x="1024" y="169"/>
                    <a:pt x="959" y="158"/>
                    <a:pt x="1087" y="130"/>
                  </a:cubicBezTo>
                  <a:cubicBezTo>
                    <a:pt x="1126" y="121"/>
                    <a:pt x="1164" y="113"/>
                    <a:pt x="1203" y="101"/>
                  </a:cubicBezTo>
                  <a:cubicBezTo>
                    <a:pt x="1311" y="104"/>
                    <a:pt x="1383" y="103"/>
                    <a:pt x="1480" y="122"/>
                  </a:cubicBezTo>
                  <a:cubicBezTo>
                    <a:pt x="1543" y="165"/>
                    <a:pt x="1611" y="201"/>
                    <a:pt x="1669" y="253"/>
                  </a:cubicBezTo>
                  <a:cubicBezTo>
                    <a:pt x="1773" y="346"/>
                    <a:pt x="1562" y="300"/>
                    <a:pt x="1785" y="319"/>
                  </a:cubicBezTo>
                  <a:cubicBezTo>
                    <a:pt x="1884" y="337"/>
                    <a:pt x="1954" y="394"/>
                    <a:pt x="2040" y="442"/>
                  </a:cubicBezTo>
                  <a:cubicBezTo>
                    <a:pt x="2075" y="461"/>
                    <a:pt x="2113" y="475"/>
                    <a:pt x="2149" y="493"/>
                  </a:cubicBezTo>
                  <a:cubicBezTo>
                    <a:pt x="2158" y="510"/>
                    <a:pt x="2164" y="529"/>
                    <a:pt x="2178" y="544"/>
                  </a:cubicBezTo>
                  <a:cubicBezTo>
                    <a:pt x="2270" y="645"/>
                    <a:pt x="2183" y="505"/>
                    <a:pt x="2243" y="610"/>
                  </a:cubicBezTo>
                  <a:cubicBezTo>
                    <a:pt x="2257" y="702"/>
                    <a:pt x="2279" y="793"/>
                    <a:pt x="2287" y="886"/>
                  </a:cubicBezTo>
                  <a:cubicBezTo>
                    <a:pt x="2289" y="913"/>
                    <a:pt x="2277" y="939"/>
                    <a:pt x="2272" y="966"/>
                  </a:cubicBezTo>
                  <a:cubicBezTo>
                    <a:pt x="2270" y="973"/>
                    <a:pt x="2272" y="985"/>
                    <a:pt x="2265" y="988"/>
                  </a:cubicBezTo>
                  <a:cubicBezTo>
                    <a:pt x="2234" y="996"/>
                    <a:pt x="2202" y="992"/>
                    <a:pt x="2171" y="995"/>
                  </a:cubicBezTo>
                  <a:cubicBezTo>
                    <a:pt x="2264" y="1093"/>
                    <a:pt x="2329" y="1119"/>
                    <a:pt x="2345" y="1235"/>
                  </a:cubicBezTo>
                  <a:cubicBezTo>
                    <a:pt x="2323" y="1472"/>
                    <a:pt x="2381" y="1463"/>
                    <a:pt x="2236" y="1526"/>
                  </a:cubicBezTo>
                  <a:cubicBezTo>
                    <a:pt x="2055" y="1516"/>
                    <a:pt x="2090" y="1486"/>
                    <a:pt x="2149" y="1570"/>
                  </a:cubicBezTo>
                  <a:cubicBezTo>
                    <a:pt x="2158" y="1583"/>
                    <a:pt x="2163" y="1598"/>
                    <a:pt x="2171" y="1613"/>
                  </a:cubicBezTo>
                  <a:cubicBezTo>
                    <a:pt x="2188" y="1761"/>
                    <a:pt x="2146" y="1920"/>
                    <a:pt x="1974" y="1948"/>
                  </a:cubicBezTo>
                  <a:cubicBezTo>
                    <a:pt x="1947" y="1946"/>
                    <a:pt x="1802" y="1968"/>
                    <a:pt x="1851" y="1897"/>
                  </a:cubicBezTo>
                  <a:cubicBezTo>
                    <a:pt x="1815" y="2062"/>
                    <a:pt x="1835" y="2010"/>
                    <a:pt x="1647" y="2101"/>
                  </a:cubicBezTo>
                  <a:cubicBezTo>
                    <a:pt x="1457" y="2088"/>
                    <a:pt x="1452" y="2093"/>
                    <a:pt x="1320" y="2050"/>
                  </a:cubicBezTo>
                  <a:cubicBezTo>
                    <a:pt x="1255" y="2002"/>
                    <a:pt x="1208" y="1976"/>
                    <a:pt x="1160" y="1919"/>
                  </a:cubicBezTo>
                  <a:cubicBezTo>
                    <a:pt x="1123" y="1875"/>
                    <a:pt x="1129" y="1849"/>
                    <a:pt x="1072" y="1839"/>
                  </a:cubicBezTo>
                  <a:cubicBezTo>
                    <a:pt x="1048" y="1863"/>
                    <a:pt x="1030" y="1867"/>
                    <a:pt x="1000" y="1882"/>
                  </a:cubicBezTo>
                  <a:cubicBezTo>
                    <a:pt x="871" y="1877"/>
                    <a:pt x="754" y="1880"/>
                    <a:pt x="636" y="1831"/>
                  </a:cubicBezTo>
                  <a:cubicBezTo>
                    <a:pt x="628" y="1821"/>
                    <a:pt x="614" y="1814"/>
                    <a:pt x="614" y="1802"/>
                  </a:cubicBezTo>
                  <a:cubicBezTo>
                    <a:pt x="609" y="1712"/>
                    <a:pt x="685" y="1469"/>
                    <a:pt x="622" y="1533"/>
                  </a:cubicBezTo>
                  <a:cubicBezTo>
                    <a:pt x="614" y="1540"/>
                    <a:pt x="608" y="1549"/>
                    <a:pt x="600" y="1555"/>
                  </a:cubicBezTo>
                  <a:cubicBezTo>
                    <a:pt x="586" y="1564"/>
                    <a:pt x="571" y="1571"/>
                    <a:pt x="556" y="1577"/>
                  </a:cubicBezTo>
                  <a:cubicBezTo>
                    <a:pt x="541" y="1581"/>
                    <a:pt x="526" y="1581"/>
                    <a:pt x="512" y="1584"/>
                  </a:cubicBezTo>
                  <a:cubicBezTo>
                    <a:pt x="459" y="1601"/>
                    <a:pt x="410" y="1559"/>
                    <a:pt x="367" y="1533"/>
                  </a:cubicBezTo>
                  <a:cubicBezTo>
                    <a:pt x="282" y="1481"/>
                    <a:pt x="212" y="1416"/>
                    <a:pt x="163" y="1330"/>
                  </a:cubicBezTo>
                  <a:cubicBezTo>
                    <a:pt x="151" y="1267"/>
                    <a:pt x="124" y="1205"/>
                    <a:pt x="127" y="1141"/>
                  </a:cubicBezTo>
                  <a:cubicBezTo>
                    <a:pt x="127" y="1125"/>
                    <a:pt x="157" y="1133"/>
                    <a:pt x="171" y="1126"/>
                  </a:cubicBezTo>
                  <a:cubicBezTo>
                    <a:pt x="294" y="1063"/>
                    <a:pt x="99" y="1142"/>
                    <a:pt x="236" y="1090"/>
                  </a:cubicBezTo>
                  <a:cubicBezTo>
                    <a:pt x="243" y="1080"/>
                    <a:pt x="262" y="1072"/>
                    <a:pt x="258" y="1061"/>
                  </a:cubicBezTo>
                  <a:cubicBezTo>
                    <a:pt x="245" y="1026"/>
                    <a:pt x="213" y="1003"/>
                    <a:pt x="192" y="973"/>
                  </a:cubicBezTo>
                  <a:cubicBezTo>
                    <a:pt x="147" y="909"/>
                    <a:pt x="130" y="831"/>
                    <a:pt x="83" y="770"/>
                  </a:cubicBezTo>
                  <a:cubicBezTo>
                    <a:pt x="56" y="695"/>
                    <a:pt x="0" y="612"/>
                    <a:pt x="54" y="530"/>
                  </a:cubicBezTo>
                  <a:cubicBezTo>
                    <a:pt x="68" y="507"/>
                    <a:pt x="107" y="520"/>
                    <a:pt x="134" y="515"/>
                  </a:cubicBezTo>
                  <a:cubicBezTo>
                    <a:pt x="214" y="530"/>
                    <a:pt x="146" y="520"/>
                    <a:pt x="127" y="501"/>
                  </a:cubicBezTo>
                  <a:cubicBezTo>
                    <a:pt x="119" y="493"/>
                    <a:pt x="122" y="481"/>
                    <a:pt x="120" y="471"/>
                  </a:cubicBezTo>
                  <a:cubicBezTo>
                    <a:pt x="148" y="428"/>
                    <a:pt x="161" y="386"/>
                    <a:pt x="214" y="370"/>
                  </a:cubicBezTo>
                  <a:cubicBezTo>
                    <a:pt x="257" y="374"/>
                    <a:pt x="345" y="384"/>
                    <a:pt x="345" y="384"/>
                  </a:cubicBezTo>
                </a:path>
              </a:pathLst>
            </a:custGeom>
            <a:solidFill>
              <a:srgbClr val="99cc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37880" y="3101400"/>
              <a:ext cx="519120" cy="509400"/>
            </a:xfrm>
            <a:custGeom>
              <a:avLst/>
              <a:gdLst/>
              <a:ahLst/>
              <a:rect l="l" t="t" r="r" b="b"/>
              <a:pathLst>
                <a:path w="407" h="218">
                  <a:moveTo>
                    <a:pt x="0" y="218"/>
                  </a:moveTo>
                  <a:cubicBezTo>
                    <a:pt x="24" y="176"/>
                    <a:pt x="45" y="133"/>
                    <a:pt x="73" y="94"/>
                  </a:cubicBezTo>
                  <a:cubicBezTo>
                    <a:pt x="119" y="26"/>
                    <a:pt x="233" y="20"/>
                    <a:pt x="298" y="0"/>
                  </a:cubicBezTo>
                  <a:cubicBezTo>
                    <a:pt x="339" y="6"/>
                    <a:pt x="368" y="29"/>
                    <a:pt x="407" y="29"/>
                  </a:cubicBez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016080" y="5130360"/>
              <a:ext cx="784080" cy="358200"/>
            </a:xfrm>
            <a:custGeom>
              <a:avLst/>
              <a:gdLst/>
              <a:ahLst/>
              <a:rect l="l" t="t" r="r" b="b"/>
              <a:pathLst>
                <a:path w="644" h="211">
                  <a:moveTo>
                    <a:pt x="0" y="0"/>
                  </a:moveTo>
                  <a:cubicBezTo>
                    <a:pt x="0" y="0"/>
                    <a:pt x="67" y="148"/>
                    <a:pt x="102" y="167"/>
                  </a:cubicBezTo>
                  <a:cubicBezTo>
                    <a:pt x="115" y="174"/>
                    <a:pt x="131" y="171"/>
                    <a:pt x="146" y="174"/>
                  </a:cubicBezTo>
                  <a:cubicBezTo>
                    <a:pt x="210" y="206"/>
                    <a:pt x="183" y="195"/>
                    <a:pt x="226" y="211"/>
                  </a:cubicBezTo>
                  <a:cubicBezTo>
                    <a:pt x="330" y="208"/>
                    <a:pt x="434" y="209"/>
                    <a:pt x="539" y="203"/>
                  </a:cubicBezTo>
                  <a:cubicBezTo>
                    <a:pt x="575" y="200"/>
                    <a:pt x="587" y="134"/>
                    <a:pt x="611" y="123"/>
                  </a:cubicBezTo>
                  <a:cubicBezTo>
                    <a:pt x="644" y="106"/>
                    <a:pt x="640" y="119"/>
                    <a:pt x="640" y="94"/>
                  </a:cubicBez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797840" y="4378680"/>
              <a:ext cx="628560" cy="441000"/>
            </a:xfrm>
            <a:custGeom>
              <a:avLst/>
              <a:gdLst/>
              <a:ahLst/>
              <a:rect l="l" t="t" r="r" b="b"/>
              <a:pathLst>
                <a:path w="458" h="321">
                  <a:moveTo>
                    <a:pt x="0" y="0"/>
                  </a:moveTo>
                  <a:cubicBezTo>
                    <a:pt x="31" y="114"/>
                    <a:pt x="46" y="247"/>
                    <a:pt x="175" y="291"/>
                  </a:cubicBezTo>
                  <a:cubicBezTo>
                    <a:pt x="264" y="321"/>
                    <a:pt x="458" y="313"/>
                    <a:pt x="458" y="313"/>
                  </a:cubicBez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87120" y="3689280"/>
              <a:ext cx="220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The “Grid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6178680" y="1015920"/>
            <a:ext cx="1760400" cy="21560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4121280" y="2008080"/>
            <a:ext cx="2401920" cy="1258920"/>
          </a:xfrm>
          <a:custGeom>
            <a:avLst/>
            <a:gdLst/>
            <a:ahLst/>
            <a:rect l="l" t="t" r="r" b="b"/>
            <a:pathLst>
              <a:path w="1513" h="793">
                <a:moveTo>
                  <a:pt x="1513" y="0"/>
                </a:moveTo>
                <a:cubicBezTo>
                  <a:pt x="1239" y="10"/>
                  <a:pt x="965" y="20"/>
                  <a:pt x="713" y="153"/>
                </a:cubicBezTo>
                <a:cubicBezTo>
                  <a:pt x="460" y="285"/>
                  <a:pt x="230" y="539"/>
                  <a:pt x="0" y="793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44120" y="170964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u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02160" y="4352760"/>
            <a:ext cx="1374840" cy="611280"/>
          </a:xfrm>
          <a:custGeom>
            <a:avLst/>
            <a:gdLst/>
            <a:ahLst/>
            <a:rect l="l" t="t" r="r" b="b"/>
            <a:pathLst>
              <a:path w="866" h="385">
                <a:moveTo>
                  <a:pt x="866" y="385"/>
                </a:moveTo>
                <a:cubicBezTo>
                  <a:pt x="781" y="257"/>
                  <a:pt x="697" y="129"/>
                  <a:pt x="553" y="65"/>
                </a:cubicBezTo>
                <a:cubicBezTo>
                  <a:pt x="408" y="0"/>
                  <a:pt x="92" y="9"/>
                  <a:pt x="0" y="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177240" y="41673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35400" y="113364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8880" y="473544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200160" y="5537160"/>
            <a:ext cx="2050920" cy="120672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212840" y="5124600"/>
            <a:ext cx="959040" cy="406080"/>
          </a:xfrm>
          <a:custGeom>
            <a:avLst/>
            <a:gdLst/>
            <a:ahLst/>
            <a:rect l="l" t="t" r="r" b="b"/>
            <a:pathLst>
              <a:path w="596" h="176">
                <a:moveTo>
                  <a:pt x="0" y="176"/>
                </a:moveTo>
                <a:cubicBezTo>
                  <a:pt x="22" y="117"/>
                  <a:pt x="45" y="59"/>
                  <a:pt x="145" y="30"/>
                </a:cubicBezTo>
                <a:cubicBezTo>
                  <a:pt x="244" y="0"/>
                  <a:pt x="420" y="0"/>
                  <a:pt x="596" y="1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50720" y="1847880"/>
            <a:ext cx="1062000" cy="554040"/>
            <a:chOff x="450720" y="1847880"/>
            <a:chExt cx="1062000" cy="554040"/>
          </a:xfrm>
        </p:grpSpPr>
        <p:sp>
          <p:nvSpPr>
            <p:cNvPr id="390" name=""/>
            <p:cNvSpPr/>
            <p:nvPr/>
          </p:nvSpPr>
          <p:spPr>
            <a:xfrm>
              <a:off x="450720" y="1847880"/>
              <a:ext cx="1062000" cy="554040"/>
            </a:xfrm>
            <a:prstGeom prst="ellipse">
              <a:avLst/>
            </a:prstGeom>
            <a:solidFill>
              <a:srgbClr val="ffccff"/>
            </a:solidFill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8240" y="1941480"/>
              <a:ext cx="96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rok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1362240" y="1592280"/>
            <a:ext cx="1120680" cy="473040"/>
          </a:xfrm>
          <a:prstGeom prst="ellipse">
            <a:avLst/>
          </a:prstGeom>
          <a:solidFill>
            <a:srgbClr val="ffcc0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an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824120" y="2033640"/>
            <a:ext cx="1501560" cy="426960"/>
          </a:xfrm>
          <a:prstGeom prst="ellipse">
            <a:avLst/>
          </a:prstGeom>
          <a:solidFill>
            <a:srgbClr val="00cc0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edul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46320" y="2367000"/>
            <a:ext cx="623880" cy="623880"/>
          </a:xfrm>
          <a:custGeom>
            <a:avLst/>
            <a:gdLst/>
            <a:ahLst/>
            <a:rect l="l" t="t" r="r" b="b"/>
            <a:pathLst>
              <a:path w="393" h="393">
                <a:moveTo>
                  <a:pt x="0" y="0"/>
                </a:moveTo>
                <a:cubicBezTo>
                  <a:pt x="11" y="105"/>
                  <a:pt x="22" y="210"/>
                  <a:pt x="88" y="276"/>
                </a:cubicBezTo>
                <a:cubicBezTo>
                  <a:pt x="153" y="341"/>
                  <a:pt x="341" y="373"/>
                  <a:pt x="393" y="393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413080" y="2470320"/>
            <a:ext cx="204840" cy="380880"/>
          </a:xfrm>
          <a:custGeom>
            <a:avLst/>
            <a:gdLst/>
            <a:ahLst/>
            <a:rect l="l" t="t" r="r" b="b"/>
            <a:pathLst>
              <a:path w="129" h="240">
                <a:moveTo>
                  <a:pt x="80" y="0"/>
                </a:moveTo>
                <a:cubicBezTo>
                  <a:pt x="104" y="42"/>
                  <a:pt x="129" y="84"/>
                  <a:pt x="116" y="124"/>
                </a:cubicBezTo>
                <a:cubicBezTo>
                  <a:pt x="102" y="163"/>
                  <a:pt x="51" y="201"/>
                  <a:pt x="0" y="24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604880" y="2055960"/>
            <a:ext cx="403200" cy="772920"/>
          </a:xfrm>
          <a:custGeom>
            <a:avLst/>
            <a:gdLst/>
            <a:ahLst/>
            <a:rect l="l" t="t" r="r" b="b"/>
            <a:pathLst>
              <a:path w="254" h="487">
                <a:moveTo>
                  <a:pt x="80" y="0"/>
                </a:moveTo>
                <a:cubicBezTo>
                  <a:pt x="40" y="97"/>
                  <a:pt x="0" y="194"/>
                  <a:pt x="29" y="276"/>
                </a:cubicBezTo>
                <a:cubicBezTo>
                  <a:pt x="57" y="357"/>
                  <a:pt x="155" y="422"/>
                  <a:pt x="254" y="487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5857920" y="4632480"/>
            <a:ext cx="1371600" cy="126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62E7-9450-44A8-AD3E-C4476208A48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he CoABS Grid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207800"/>
            <a:ext cx="77724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dynamic mix of resour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ources come and g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 infrastructure for communication and directory servic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id-ready agents provide servic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lp to find info and servic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pid construction of new applic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semble unexpected apps in days or week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existing components (agent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A8FD-C76B-4339-83E8-973BBAD8657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pplication: NEO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12716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combatant Evacuation Oper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uwait C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ynamic route plann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ffic and weather monitor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licopter schedul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image1-new" descr=""/>
          <p:cNvPicPr/>
          <p:nvPr/>
        </p:nvPicPr>
        <p:blipFill>
          <a:blip r:embed="rId1"/>
          <a:stretch/>
        </p:blipFill>
        <p:spPr>
          <a:xfrm>
            <a:off x="316080" y="3814920"/>
            <a:ext cx="6765840" cy="302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563A-50E3-4802-B816-82DBA75B9A4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sons for Mobile Agen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Reason 1: Bandwidth conservation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46000" y="2962440"/>
            <a:ext cx="11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51000" y="1892160"/>
            <a:ext cx="2566800" cy="1004760"/>
            <a:chOff x="351000" y="1892160"/>
            <a:chExt cx="2566800" cy="1004760"/>
          </a:xfrm>
        </p:grpSpPr>
        <p:sp>
          <p:nvSpPr>
            <p:cNvPr id="407" name=""/>
            <p:cNvSpPr/>
            <p:nvPr/>
          </p:nvSpPr>
          <p:spPr>
            <a:xfrm>
              <a:off x="351000" y="2295360"/>
              <a:ext cx="2566800" cy="601560"/>
            </a:xfrm>
            <a:prstGeom prst="parallelogram">
              <a:avLst>
                <a:gd name="adj" fmla="val 172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28520" y="1892160"/>
              <a:ext cx="1087200" cy="86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297480" y="1892160"/>
            <a:ext cx="2567160" cy="898560"/>
            <a:chOff x="6297480" y="1892160"/>
            <a:chExt cx="2567160" cy="898560"/>
          </a:xfrm>
        </p:grpSpPr>
        <p:sp>
          <p:nvSpPr>
            <p:cNvPr id="410" name=""/>
            <p:cNvSpPr/>
            <p:nvPr/>
          </p:nvSpPr>
          <p:spPr>
            <a:xfrm>
              <a:off x="6297480" y="2189160"/>
              <a:ext cx="2567160" cy="601560"/>
            </a:xfrm>
            <a:prstGeom prst="parallelogram">
              <a:avLst>
                <a:gd name="adj" fmla="val 1720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70680" y="189216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363600" y="1130400"/>
            <a:ext cx="233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xt document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erical data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35880" y="2884320"/>
            <a:ext cx="162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lient/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036960" y="191628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036960" y="213516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036960" y="237636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036960" y="261792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36960" y="2960640"/>
            <a:ext cx="3103560" cy="0"/>
          </a:xfrm>
          <a:prstGeom prst="line">
            <a:avLst/>
          </a:prstGeom>
          <a:ln w="2030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6215040" y="4441680"/>
            <a:ext cx="2567160" cy="898560"/>
            <a:chOff x="6215040" y="4441680"/>
            <a:chExt cx="2567160" cy="898560"/>
          </a:xfrm>
        </p:grpSpPr>
        <p:sp>
          <p:nvSpPr>
            <p:cNvPr id="420" name=""/>
            <p:cNvSpPr/>
            <p:nvPr/>
          </p:nvSpPr>
          <p:spPr>
            <a:xfrm>
              <a:off x="6215040" y="4738680"/>
              <a:ext cx="2567160" cy="601560"/>
            </a:xfrm>
            <a:prstGeom prst="parallelogram">
              <a:avLst>
                <a:gd name="adj" fmla="val 1720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888240" y="444168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6597720" y="5433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lient/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336680" y="5580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69720" y="4924440"/>
            <a:ext cx="3934080" cy="601560"/>
          </a:xfrm>
          <a:prstGeom prst="parallelogram">
            <a:avLst>
              <a:gd name="adj" fmla="val 19292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993600" y="4519440"/>
            <a:ext cx="1040040" cy="86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agentred" descr=""/>
          <p:cNvPicPr/>
          <p:nvPr/>
        </p:nvPicPr>
        <p:blipFill>
          <a:blip r:embed="rId1"/>
          <a:stretch/>
        </p:blipFill>
        <p:spPr>
          <a:xfrm>
            <a:off x="2674800" y="4622760"/>
            <a:ext cx="663840" cy="6858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2127240" y="475776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127240" y="486576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127240" y="496260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127240" y="505944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127240" y="516744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473280" y="4775040"/>
            <a:ext cx="3316320" cy="0"/>
          </a:xfrm>
          <a:prstGeom prst="line">
            <a:avLst/>
          </a:prstGeom>
          <a:ln w="10152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73280" y="5084640"/>
            <a:ext cx="3316320" cy="0"/>
          </a:xfrm>
          <a:prstGeom prst="line">
            <a:avLst/>
          </a:prstGeom>
          <a:ln w="1015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83C1-E42F-4192-8638-36079510C07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96520" y="76320"/>
            <a:ext cx="8040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Reason 1: Bandwidth Conservation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095960" y="3406680"/>
            <a:ext cx="1143000" cy="919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gateway" descr=""/>
          <p:cNvPicPr/>
          <p:nvPr/>
        </p:nvPicPr>
        <p:blipFill>
          <a:blip r:embed="rId1"/>
          <a:stretch/>
        </p:blipFill>
        <p:spPr>
          <a:xfrm>
            <a:off x="633240" y="1573200"/>
            <a:ext cx="828720" cy="10191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6642000" y="1362240"/>
            <a:ext cx="1143000" cy="919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167520" y="5300640"/>
            <a:ext cx="1143000" cy="919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78520" y="326880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899320" y="518148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02240" y="201780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063800" y="224784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97480" y="248760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470480" y="405144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449440" y="320688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301400" y="2522160"/>
            <a:ext cx="1413000" cy="9507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2730600" y="3446640"/>
            <a:ext cx="2006640" cy="884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4710240" y="4293720"/>
            <a:ext cx="1457280" cy="11746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4795560" y="2282760"/>
            <a:ext cx="1847880" cy="4510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4806720" y="3583080"/>
            <a:ext cx="2298600" cy="695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4733640" y="2771280"/>
            <a:ext cx="11160" cy="15670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agentred" descr=""/>
          <p:cNvPicPr/>
          <p:nvPr/>
        </p:nvPicPr>
        <p:blipFill>
          <a:blip r:embed="rId2"/>
          <a:stretch/>
        </p:blipFill>
        <p:spPr>
          <a:xfrm>
            <a:off x="4181400" y="3751200"/>
            <a:ext cx="636840" cy="6588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 flipH="1">
            <a:off x="4928760" y="3537000"/>
            <a:ext cx="184644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 flipV="1">
            <a:off x="5092560" y="4336920"/>
            <a:ext cx="1511280" cy="865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 flipV="1">
            <a:off x="1456920" y="2046240"/>
            <a:ext cx="2621160" cy="164952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98880" y="2475000"/>
            <a:ext cx="1468440" cy="1187280"/>
          </a:xfrm>
          <a:custGeom>
            <a:avLst/>
            <a:gdLst/>
            <a:ahLst/>
            <a:rect l="l" t="t" r="r" b="b"/>
            <a:pathLst>
              <a:path w="925" h="748">
                <a:moveTo>
                  <a:pt x="925" y="0"/>
                </a:moveTo>
                <a:cubicBezTo>
                  <a:pt x="659" y="57"/>
                  <a:pt x="394" y="115"/>
                  <a:pt x="240" y="240"/>
                </a:cubicBezTo>
                <a:cubicBezTo>
                  <a:pt x="86" y="365"/>
                  <a:pt x="43" y="556"/>
                  <a:pt x="0" y="74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362320" y="4627440"/>
            <a:ext cx="253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Dynamically selected proxy s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55E9-105B-4B60-AF46-31ADBC5FADD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: Bandwidth usag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459" name="bandwidth-documents" descr=""/>
          <p:cNvPicPr/>
          <p:nvPr/>
        </p:nvPicPr>
        <p:blipFill>
          <a:blip r:embed="rId1"/>
          <a:stretch/>
        </p:blipFill>
        <p:spPr>
          <a:xfrm>
            <a:off x="1157400" y="1135080"/>
            <a:ext cx="68292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5D67-A3D9-4EB2-A501-1B02455A6E4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agentred" descr=""/>
          <p:cNvPicPr/>
          <p:nvPr/>
        </p:nvPicPr>
        <p:blipFill>
          <a:blip r:embed="rId1"/>
          <a:stretch/>
        </p:blipFill>
        <p:spPr>
          <a:xfrm>
            <a:off x="6269040" y="3927600"/>
            <a:ext cx="495360" cy="51264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6175440" y="1825560"/>
            <a:ext cx="493560" cy="5032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1765440" y="2336400"/>
            <a:ext cx="560160" cy="1143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1851120" y="3463560"/>
            <a:ext cx="493560" cy="9968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1847520" y="4446720"/>
            <a:ext cx="244440" cy="1154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1874880" y="4206960"/>
            <a:ext cx="1177920" cy="280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2332080" y="3462480"/>
            <a:ext cx="758880" cy="7617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 flipV="1">
            <a:off x="3050640" y="4227480"/>
            <a:ext cx="606600" cy="4032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739800" y="4458960"/>
            <a:ext cx="1120680" cy="695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son 2: Reduce latency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470" name="gateway" descr=""/>
          <p:cNvPicPr/>
          <p:nvPr/>
        </p:nvPicPr>
        <p:blipFill>
          <a:blip r:embed="rId2"/>
          <a:stretch/>
        </p:blipFill>
        <p:spPr>
          <a:xfrm>
            <a:off x="250920" y="498312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584280" y="500220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16120" y="430056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agentred" descr=""/>
          <p:cNvPicPr/>
          <p:nvPr/>
        </p:nvPicPr>
        <p:blipFill>
          <a:blip r:embed="rId3"/>
          <a:stretch/>
        </p:blipFill>
        <p:spPr>
          <a:xfrm>
            <a:off x="1300320" y="1825560"/>
            <a:ext cx="495000" cy="51300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1625760" y="2198520"/>
            <a:ext cx="291960" cy="292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908440" y="407052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197080" y="332280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gateway" descr=""/>
          <p:cNvPicPr/>
          <p:nvPr/>
        </p:nvPicPr>
        <p:blipFill>
          <a:blip r:embed="rId4"/>
          <a:stretch/>
        </p:blipFill>
        <p:spPr>
          <a:xfrm>
            <a:off x="3565440" y="4573440"/>
            <a:ext cx="492120" cy="60516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3521160" y="447048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gateway" descr=""/>
          <p:cNvPicPr/>
          <p:nvPr/>
        </p:nvPicPr>
        <p:blipFill>
          <a:blip r:embed="rId5"/>
          <a:stretch/>
        </p:blipFill>
        <p:spPr>
          <a:xfrm>
            <a:off x="1636560" y="551340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1959120" y="546588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33280" y="1092240"/>
            <a:ext cx="26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umatra chat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a “reflector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93640" y="2443320"/>
            <a:ext cx="1492200" cy="2531880"/>
          </a:xfrm>
          <a:custGeom>
            <a:avLst/>
            <a:gdLst/>
            <a:ahLst/>
            <a:rect l="l" t="t" r="r" b="b"/>
            <a:pathLst>
              <a:path w="940" h="1595">
                <a:moveTo>
                  <a:pt x="0" y="1595"/>
                </a:moveTo>
                <a:cubicBezTo>
                  <a:pt x="251" y="1482"/>
                  <a:pt x="502" y="1369"/>
                  <a:pt x="657" y="1207"/>
                </a:cubicBezTo>
                <a:cubicBezTo>
                  <a:pt x="812" y="1045"/>
                  <a:pt x="940" y="822"/>
                  <a:pt x="932" y="621"/>
                </a:cubicBezTo>
                <a:cubicBezTo>
                  <a:pt x="924" y="420"/>
                  <a:pt x="765" y="210"/>
                  <a:pt x="607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871640" y="2128680"/>
            <a:ext cx="2005200" cy="2432160"/>
          </a:xfrm>
          <a:custGeom>
            <a:avLst/>
            <a:gdLst/>
            <a:ahLst/>
            <a:rect l="l" t="t" r="r" b="b"/>
            <a:pathLst>
              <a:path w="1263" h="1532">
                <a:moveTo>
                  <a:pt x="0" y="0"/>
                </a:moveTo>
                <a:cubicBezTo>
                  <a:pt x="81" y="56"/>
                  <a:pt x="163" y="112"/>
                  <a:pt x="219" y="163"/>
                </a:cubicBezTo>
                <a:cubicBezTo>
                  <a:pt x="275" y="214"/>
                  <a:pt x="299" y="221"/>
                  <a:pt x="339" y="304"/>
                </a:cubicBezTo>
                <a:cubicBezTo>
                  <a:pt x="379" y="387"/>
                  <a:pt x="435" y="584"/>
                  <a:pt x="459" y="664"/>
                </a:cubicBezTo>
                <a:cubicBezTo>
                  <a:pt x="483" y="744"/>
                  <a:pt x="455" y="718"/>
                  <a:pt x="480" y="784"/>
                </a:cubicBezTo>
                <a:cubicBezTo>
                  <a:pt x="505" y="850"/>
                  <a:pt x="546" y="985"/>
                  <a:pt x="607" y="1059"/>
                </a:cubicBezTo>
                <a:cubicBezTo>
                  <a:pt x="668" y="1133"/>
                  <a:pt x="776" y="1184"/>
                  <a:pt x="847" y="1228"/>
                </a:cubicBezTo>
                <a:cubicBezTo>
                  <a:pt x="918" y="1272"/>
                  <a:pt x="980" y="1298"/>
                  <a:pt x="1030" y="1320"/>
                </a:cubicBezTo>
                <a:cubicBezTo>
                  <a:pt x="1080" y="1342"/>
                  <a:pt x="1117" y="1346"/>
                  <a:pt x="1150" y="1363"/>
                </a:cubicBezTo>
                <a:cubicBezTo>
                  <a:pt x="1183" y="1380"/>
                  <a:pt x="1209" y="1391"/>
                  <a:pt x="1228" y="1419"/>
                </a:cubicBezTo>
                <a:cubicBezTo>
                  <a:pt x="1247" y="1447"/>
                  <a:pt x="1255" y="1489"/>
                  <a:pt x="1263" y="15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6633720" y="2309400"/>
            <a:ext cx="560520" cy="1143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6719760" y="3436560"/>
            <a:ext cx="493920" cy="9968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 flipV="1">
            <a:off x="6716520" y="4419720"/>
            <a:ext cx="244440" cy="1154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6743880" y="4179960"/>
            <a:ext cx="1177920" cy="280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 flipV="1">
            <a:off x="7200720" y="3435480"/>
            <a:ext cx="758520" cy="7617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 flipV="1">
            <a:off x="7919640" y="4200480"/>
            <a:ext cx="606600" cy="4032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5608800" y="4431960"/>
            <a:ext cx="1120680" cy="695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gateway" descr=""/>
          <p:cNvPicPr/>
          <p:nvPr/>
        </p:nvPicPr>
        <p:blipFill>
          <a:blip r:embed="rId6"/>
          <a:stretch/>
        </p:blipFill>
        <p:spPr>
          <a:xfrm>
            <a:off x="5119560" y="495612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5452920" y="497520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585120" y="427356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494400" y="217188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777080" y="404352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066080" y="329580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gateway" descr=""/>
          <p:cNvPicPr/>
          <p:nvPr/>
        </p:nvPicPr>
        <p:blipFill>
          <a:blip r:embed="rId7"/>
          <a:stretch/>
        </p:blipFill>
        <p:spPr>
          <a:xfrm>
            <a:off x="8434440" y="4546440"/>
            <a:ext cx="492120" cy="6051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8389800" y="444348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gateway" descr=""/>
          <p:cNvPicPr/>
          <p:nvPr/>
        </p:nvPicPr>
        <p:blipFill>
          <a:blip r:embed="rId8"/>
          <a:stretch/>
        </p:blipFill>
        <p:spPr>
          <a:xfrm>
            <a:off x="6505560" y="548640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6827760" y="543888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408720" y="2376360"/>
            <a:ext cx="579600" cy="1500480"/>
          </a:xfrm>
          <a:custGeom>
            <a:avLst/>
            <a:gdLst/>
            <a:ahLst/>
            <a:rect l="l" t="t" r="r" b="b"/>
            <a:pathLst>
              <a:path w="365" h="945">
                <a:moveTo>
                  <a:pt x="0" y="0"/>
                </a:moveTo>
                <a:cubicBezTo>
                  <a:pt x="142" y="214"/>
                  <a:pt x="285" y="428"/>
                  <a:pt x="325" y="585"/>
                </a:cubicBezTo>
                <a:cubicBezTo>
                  <a:pt x="365" y="742"/>
                  <a:pt x="302" y="843"/>
                  <a:pt x="240" y="94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28520" y="2736720"/>
            <a:ext cx="169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Observe high average latency to 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53160" y="2800440"/>
            <a:ext cx="196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Move to better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93960" y="2139840"/>
            <a:ext cx="738000" cy="3765600"/>
          </a:xfrm>
          <a:custGeom>
            <a:avLst/>
            <a:gdLst/>
            <a:ahLst/>
            <a:rect l="l" t="t" r="r" b="b"/>
            <a:pathLst>
              <a:path w="465" h="2372">
                <a:moveTo>
                  <a:pt x="0" y="0"/>
                </a:moveTo>
                <a:cubicBezTo>
                  <a:pt x="110" y="52"/>
                  <a:pt x="221" y="104"/>
                  <a:pt x="296" y="233"/>
                </a:cubicBezTo>
                <a:cubicBezTo>
                  <a:pt x="371" y="362"/>
                  <a:pt x="465" y="565"/>
                  <a:pt x="452" y="777"/>
                </a:cubicBezTo>
                <a:cubicBezTo>
                  <a:pt x="439" y="989"/>
                  <a:pt x="252" y="1296"/>
                  <a:pt x="219" y="1504"/>
                </a:cubicBezTo>
                <a:cubicBezTo>
                  <a:pt x="186" y="1712"/>
                  <a:pt x="216" y="1904"/>
                  <a:pt x="254" y="2026"/>
                </a:cubicBezTo>
                <a:cubicBezTo>
                  <a:pt x="292" y="2148"/>
                  <a:pt x="463" y="2180"/>
                  <a:pt x="445" y="2238"/>
                </a:cubicBezTo>
                <a:cubicBezTo>
                  <a:pt x="427" y="2296"/>
                  <a:pt x="287" y="2334"/>
                  <a:pt x="148" y="23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5524560" y="4471920"/>
            <a:ext cx="717480" cy="425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488280" y="4516560"/>
            <a:ext cx="257040" cy="90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791400" y="4087800"/>
            <a:ext cx="1623960" cy="719280"/>
          </a:xfrm>
          <a:custGeom>
            <a:avLst/>
            <a:gdLst/>
            <a:ahLst/>
            <a:rect l="l" t="t" r="r" b="b"/>
            <a:pathLst>
              <a:path w="1023" h="453">
                <a:moveTo>
                  <a:pt x="0" y="23"/>
                </a:moveTo>
                <a:cubicBezTo>
                  <a:pt x="151" y="11"/>
                  <a:pt x="302" y="0"/>
                  <a:pt x="472" y="72"/>
                </a:cubicBezTo>
                <a:cubicBezTo>
                  <a:pt x="642" y="144"/>
                  <a:pt x="832" y="298"/>
                  <a:pt x="1023" y="45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88F7-B67B-406D-8A58-CCED9B464E2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son 3: Reduce Completion Tim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86920" y="1549440"/>
            <a:ext cx="213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ffici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7480" y="4005360"/>
            <a:ext cx="15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bile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251400" y="3635280"/>
            <a:ext cx="2286000" cy="1447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251400" y="1806480"/>
            <a:ext cx="2286000" cy="1447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3813120" y="4778280"/>
            <a:ext cx="1103400" cy="121932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612720" y="2720880"/>
            <a:ext cx="1371600" cy="126684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2289240" y="3483000"/>
            <a:ext cx="38862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517840" y="256860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441880" y="2203560"/>
            <a:ext cx="32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Send code with unique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6404040" y="2187720"/>
            <a:ext cx="1724040" cy="66672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4"/>
          <a:stretch/>
        </p:blipFill>
        <p:spPr>
          <a:xfrm>
            <a:off x="6327720" y="4245120"/>
            <a:ext cx="1905120" cy="4777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5869080" y="5084640"/>
            <a:ext cx="260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Perform multi-st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eries on large, remot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terogeneous datab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2517480" y="470232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06920" y="433692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  Return requeste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5"/>
          <a:stretch/>
        </p:blipFill>
        <p:spPr>
          <a:xfrm>
            <a:off x="3584520" y="1501920"/>
            <a:ext cx="1143000" cy="77940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7165800" y="30258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694600" y="305928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 bandwidth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A223-CAF4-446C-A270-C897B8F28F5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d more about i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4720" y="1190520"/>
            <a:ext cx="630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’Agents and the DARPA CoABS ef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2200" y="3780000"/>
            <a:ext cx="38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ctComm (DoD MU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8240" y="506268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ther mobile-agen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12040" y="1743120"/>
            <a:ext cx="520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CoAB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10240" y="4361040"/>
            <a:ext cx="43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ctcomm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09160" y="5638680"/>
            <a:ext cx="67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etus-links.org/oo_mobile_agent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6080" y="2595600"/>
            <a:ext cx="43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is tutorial (final 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8800" y="3147840"/>
            <a:ext cx="53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tutorial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C83F-71E2-43FB-AB6F-4C43DD8A1AC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: Total completion tim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527" name="documents-roamabout" descr=""/>
          <p:cNvPicPr/>
          <p:nvPr/>
        </p:nvPicPr>
        <p:blipFill>
          <a:blip r:embed="rId1"/>
          <a:stretch/>
        </p:blipFill>
        <p:spPr>
          <a:xfrm>
            <a:off x="1066680" y="1112760"/>
            <a:ext cx="701064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CEB3-3649-48D0-A3BB-05A657DE28CC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2444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son 4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68160" y="878040"/>
            <a:ext cx="78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connected communication and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542880" y="2057400"/>
            <a:ext cx="1600200" cy="80028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 flipV="1">
            <a:off x="2295360" y="22093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219400" y="27432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3514680" y="2895480"/>
            <a:ext cx="1905120" cy="86688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3133800" y="1676520"/>
            <a:ext cx="914400" cy="8445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4"/>
          <a:stretch/>
        </p:blipFill>
        <p:spPr>
          <a:xfrm>
            <a:off x="7248600" y="1905120"/>
            <a:ext cx="1295280" cy="119052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5"/>
          <a:stretch/>
        </p:blipFill>
        <p:spPr>
          <a:xfrm>
            <a:off x="2371680" y="1981080"/>
            <a:ext cx="426960" cy="2556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6"/>
          <a:stretch/>
        </p:blipFill>
        <p:spPr>
          <a:xfrm>
            <a:off x="2752560" y="3124080"/>
            <a:ext cx="427320" cy="25560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314280" y="1523880"/>
            <a:ext cx="86104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7"/>
          <a:stretch/>
        </p:blipFill>
        <p:spPr>
          <a:xfrm>
            <a:off x="542880" y="4419720"/>
            <a:ext cx="1600200" cy="79992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 flipV="1">
            <a:off x="2295360" y="4495320"/>
            <a:ext cx="1524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8"/>
          <a:stretch/>
        </p:blipFill>
        <p:spPr>
          <a:xfrm>
            <a:off x="4734000" y="5257800"/>
            <a:ext cx="1904760" cy="86688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9"/>
          <a:stretch/>
        </p:blipFill>
        <p:spPr>
          <a:xfrm>
            <a:off x="3971880" y="4038480"/>
            <a:ext cx="914400" cy="84456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10"/>
          <a:stretch/>
        </p:blipFill>
        <p:spPr>
          <a:xfrm>
            <a:off x="7248600" y="4267080"/>
            <a:ext cx="1295280" cy="119088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11"/>
          <a:stretch/>
        </p:blipFill>
        <p:spPr>
          <a:xfrm>
            <a:off x="3438360" y="4191120"/>
            <a:ext cx="427320" cy="25560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12"/>
          <a:stretch/>
        </p:blipFill>
        <p:spPr>
          <a:xfrm>
            <a:off x="6791400" y="5486400"/>
            <a:ext cx="426960" cy="25560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314280" y="3886200"/>
            <a:ext cx="86104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6334200" y="525744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419800" y="2819520"/>
            <a:ext cx="175248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106680" y="267012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066760" y="5105520"/>
            <a:ext cx="2819520" cy="685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11200" y="50324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192280" y="190800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52760" y="2209680"/>
            <a:ext cx="289584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649480" y="41180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038560" y="4419720"/>
            <a:ext cx="2362320" cy="3045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75480" y="33177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69360" y="57150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7F21-EE9A-4914-B523-2A0CB7BA076A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son 5: Load balancing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022640" y="1924200"/>
            <a:ext cx="811440" cy="6872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528920" y="1300320"/>
            <a:ext cx="811080" cy="68724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780240" y="1436760"/>
            <a:ext cx="811080" cy="687240"/>
          </a:xfrm>
          <a:prstGeom prst="cube">
            <a:avLst>
              <a:gd name="adj" fmla="val 25000"/>
            </a:avLst>
          </a:prstGeom>
          <a:solidFill>
            <a:srgbClr val="00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328840" y="1677960"/>
            <a:ext cx="1693800" cy="4399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34080" y="1817280"/>
            <a:ext cx="1939680" cy="336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76280" y="3529080"/>
            <a:ext cx="83628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986280" y="282420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416400" y="251784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890960" y="2371680"/>
            <a:ext cx="478080" cy="424080"/>
          </a:xfrm>
          <a:custGeom>
            <a:avLst/>
            <a:gdLst>
              <a:gd name="textAreaLeft" fmla="*/ 109080 w 478080"/>
              <a:gd name="textAreaRight" fmla="*/ 369000 w 478080"/>
              <a:gd name="textAreaTop" fmla="*/ 96840 h 424080"/>
              <a:gd name="textAreaBottom" fmla="*/ 3272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61240" y="2259000"/>
            <a:ext cx="477720" cy="42372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603440" y="2046240"/>
            <a:ext cx="477720" cy="42408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840 h 424080"/>
              <a:gd name="textAreaBottom" fmla="*/ 3272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236760" y="207648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691160" y="2822400"/>
            <a:ext cx="477720" cy="42408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840 h 424080"/>
              <a:gd name="textAreaBottom" fmla="*/ 3272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183640" y="27655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obs/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30480" y="4367160"/>
            <a:ext cx="811440" cy="68760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436760" y="3743280"/>
            <a:ext cx="811080" cy="68760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688080" y="3879720"/>
            <a:ext cx="811440" cy="687600"/>
          </a:xfrm>
          <a:prstGeom prst="cube">
            <a:avLst>
              <a:gd name="adj" fmla="val 25000"/>
            </a:avLst>
          </a:prstGeom>
          <a:solidFill>
            <a:srgbClr val="00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236680" y="4121280"/>
            <a:ext cx="1693800" cy="4395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741920" y="4260600"/>
            <a:ext cx="1940040" cy="336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95320" y="434988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324240" y="4960800"/>
            <a:ext cx="565200" cy="49392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920"/>
              <a:gd name="textAreaBottom" fmla="*/ 381240 h 493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33960" y="4497480"/>
            <a:ext cx="478080" cy="423720"/>
          </a:xfrm>
          <a:custGeom>
            <a:avLst/>
            <a:gdLst>
              <a:gd name="textAreaLeft" fmla="*/ 109080 w 478080"/>
              <a:gd name="textAreaRight" fmla="*/ 369000 w 47808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769080" y="4702320"/>
            <a:ext cx="477720" cy="42372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511280" y="4489560"/>
            <a:ext cx="477720" cy="42372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92400" y="5065560"/>
            <a:ext cx="565200" cy="49392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920"/>
              <a:gd name="textAreaBottom" fmla="*/ 381240 h 493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616280" y="5019840"/>
            <a:ext cx="478080" cy="423720"/>
          </a:xfrm>
          <a:custGeom>
            <a:avLst/>
            <a:gdLst>
              <a:gd name="textAreaLeft" fmla="*/ 109080 w 478080"/>
              <a:gd name="textAreaRight" fmla="*/ 369000 w 47808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63840" y="5508720"/>
            <a:ext cx="79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obs/Load migrate in a heterogeneous network of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E33A-0F30-4ADD-85A3-9AB031A27EC4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2690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son 6: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49800" y="122400"/>
            <a:ext cx="535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ynamic Deplo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304920" y="1143000"/>
            <a:ext cx="8534160" cy="5018040"/>
            <a:chOff x="304920" y="1143000"/>
            <a:chExt cx="8534160" cy="5018040"/>
          </a:xfrm>
        </p:grpSpPr>
        <p:pic>
          <p:nvPicPr>
            <p:cNvPr id="589" name="" descr=""/>
            <p:cNvPicPr/>
            <p:nvPr/>
          </p:nvPicPr>
          <p:blipFill>
            <a:blip r:embed="rId1"/>
            <a:stretch/>
          </p:blipFill>
          <p:spPr>
            <a:xfrm>
              <a:off x="6477120" y="2438280"/>
              <a:ext cx="1371600" cy="12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6788160" y="3735360"/>
              <a:ext cx="1890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nique need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ps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eather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actical updates.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1" name="" descr=""/>
            <p:cNvPicPr/>
            <p:nvPr/>
          </p:nvPicPr>
          <p:blipFill>
            <a:blip r:embed="rId2"/>
            <a:stretch/>
          </p:blipFill>
          <p:spPr>
            <a:xfrm>
              <a:off x="2971800" y="1143000"/>
              <a:ext cx="1447920" cy="13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" descr=""/>
            <p:cNvPicPr/>
            <p:nvPr/>
          </p:nvPicPr>
          <p:blipFill>
            <a:blip r:embed="rId3"/>
            <a:stretch/>
          </p:blipFill>
          <p:spPr>
            <a:xfrm>
              <a:off x="3124080" y="4800600"/>
              <a:ext cx="121932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" descr=""/>
            <p:cNvPicPr/>
            <p:nvPr/>
          </p:nvPicPr>
          <p:blipFill>
            <a:blip r:embed="rId4"/>
            <a:stretch/>
          </p:blipFill>
          <p:spPr>
            <a:xfrm>
              <a:off x="380880" y="1828800"/>
              <a:ext cx="1828800" cy="12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" descr=""/>
            <p:cNvPicPr/>
            <p:nvPr/>
          </p:nvPicPr>
          <p:blipFill>
            <a:blip r:embed="rId5"/>
            <a:stretch/>
          </p:blipFill>
          <p:spPr>
            <a:xfrm>
              <a:off x="304920" y="3886200"/>
              <a:ext cx="172548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6477120" y="2438280"/>
              <a:ext cx="2361960" cy="2362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905120" y="2971800"/>
              <a:ext cx="11430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733920" y="25146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1981080" y="3962160"/>
              <a:ext cx="114300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3733920" y="411444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0" name="" descr=""/>
            <p:cNvPicPr/>
            <p:nvPr/>
          </p:nvPicPr>
          <p:blipFill>
            <a:blip r:embed="rId6"/>
            <a:stretch/>
          </p:blipFill>
          <p:spPr>
            <a:xfrm>
              <a:off x="3124080" y="2971800"/>
              <a:ext cx="1905120" cy="13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367560" y="3009960"/>
              <a:ext cx="167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mand p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06000" y="5792760"/>
              <a:ext cx="178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actical upd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420080" y="1144440"/>
              <a:ext cx="244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p, terrain databa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344480" y="5335560"/>
              <a:ext cx="103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eat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952880" y="3657600"/>
              <a:ext cx="1371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952880" y="4038480"/>
              <a:ext cx="121932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4952880" y="2743200"/>
              <a:ext cx="121932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1CD1-166C-4D62-9ADF-4CFBA57A7097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Other techniques work ...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25400" y="1509840"/>
            <a:ext cx="740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mote Procedure Calls (R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or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ava Applets and serv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oad balancing in homogeneous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pplication-specific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6F7C-9ED3-48A3-889C-081841FC2A0F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but takes several technique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184400" y="1635120"/>
            <a:ext cx="69530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is, the research community is developing  several different approaches to deal with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efficiency, robustness, adaptability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exibility for distributed computing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agents are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ingl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, based on strong code mobility, to solve many problems in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unified framewor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8B43-9C83-4FC6-A40A-5C8627BB168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058840" y="1905120"/>
            <a:ext cx="49021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spcAft>
                <a:spcPts val="876"/>
              </a:spcAft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Introduction to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spcAft>
                <a:spcPts val="876"/>
              </a:spcAft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Introduction to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presentativ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Java-bas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Other sing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942840" y="3179880"/>
            <a:ext cx="990720" cy="609480"/>
          </a:xfrm>
          <a:prstGeom prst="rightArrow">
            <a:avLst>
              <a:gd name="adj1" fmla="val 50000"/>
              <a:gd name="adj2" fmla="val 4063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A5F4-089C-4B8D-BD95-3657E56A5B60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presentative system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34720" y="183204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ava-bas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52440" y="2633760"/>
            <a:ext cx="247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ngle-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167840" y="4146480"/>
            <a:ext cx="26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ultiple-langu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311000" y="181296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glets, Voy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310640" y="297972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ssen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312080" y="431172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acoma, D’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661400" y="5599080"/>
            <a:ext cx="523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imes New Roman"/>
              </a:rPr>
              <a:t>There are many others; too many to describe tod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4EB1-5764-4BBE-B1E9-1C2DEDFF2234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ifferences and similaritie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50680" y="1084320"/>
            <a:ext cx="3815280" cy="640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rcial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569960" y="2835360"/>
            <a:ext cx="5978160" cy="640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mpera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Functional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Decla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073240" y="1959120"/>
            <a:ext cx="4970520" cy="640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ong mobil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78960" y="3714840"/>
            <a:ext cx="7760880" cy="640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nterpre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Just-in-ti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oftware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820880" y="4586400"/>
            <a:ext cx="5476320" cy="640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tand-alon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ght Web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83560" y="5457960"/>
            <a:ext cx="6153120" cy="64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MG/FIPA standard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Unique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C88C-652A-453B-9BE0-1CB9CBAB69C9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gle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41440" y="2478240"/>
            <a:ext cx="6264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nt-driven programming model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spatc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Dispatch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Arri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t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xies” for location transpa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1630440" y="1252440"/>
            <a:ext cx="5888520" cy="815400"/>
            <a:chOff x="1630440" y="1252440"/>
            <a:chExt cx="5888520" cy="815400"/>
          </a:xfrm>
        </p:grpSpPr>
        <p:pic>
          <p:nvPicPr>
            <p:cNvPr id="633" name="aglets" descr=""/>
            <p:cNvPicPr/>
            <p:nvPr/>
          </p:nvPicPr>
          <p:blipFill>
            <a:blip r:embed="rId1"/>
            <a:stretch/>
          </p:blipFill>
          <p:spPr>
            <a:xfrm>
              <a:off x="1712880" y="1252440"/>
              <a:ext cx="571500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3250800" y="1608120"/>
              <a:ext cx="426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http://www.trl.ibm.co.jp/aglets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30440" y="16063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IB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C343-5816-48A4-B827-9AA71F02F791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Outline (I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97360" y="1233360"/>
            <a:ext cx="51778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ntroduction to softwar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an “agent”, anyw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ntroduction to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otivating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asons for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mpeting 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presentativ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ava-bas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ther sing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ultip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955A-E137-45C9-807E-D8D65F88DF3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Voyager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01720" y="2544840"/>
            <a:ext cx="7542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Built on top of COR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t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ted directory service and group communication (multica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060800" y="206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206960" y="200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649440" y="1192320"/>
            <a:ext cx="7851240" cy="1082520"/>
            <a:chOff x="649440" y="1192320"/>
            <a:chExt cx="7851240" cy="1082520"/>
          </a:xfrm>
        </p:grpSpPr>
        <p:pic>
          <p:nvPicPr>
            <p:cNvPr id="641" name="voyager" descr=""/>
            <p:cNvPicPr/>
            <p:nvPr/>
          </p:nvPicPr>
          <p:blipFill>
            <a:blip r:embed="rId1"/>
            <a:stretch/>
          </p:blipFill>
          <p:spPr>
            <a:xfrm>
              <a:off x="649440" y="1192320"/>
              <a:ext cx="2396880" cy="108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2" name=""/>
            <p:cNvGrpSpPr/>
            <p:nvPr/>
          </p:nvGrpSpPr>
          <p:grpSpPr>
            <a:xfrm>
              <a:off x="3206880" y="1274760"/>
              <a:ext cx="5293800" cy="919440"/>
              <a:chOff x="3206880" y="1274760"/>
              <a:chExt cx="5293800" cy="919440"/>
            </a:xfrm>
          </p:grpSpPr>
          <p:sp>
            <p:nvSpPr>
              <p:cNvPr id="643" name=""/>
              <p:cNvSpPr/>
              <p:nvPr/>
            </p:nvSpPr>
            <p:spPr>
              <a:xfrm>
                <a:off x="3217680" y="1274760"/>
                <a:ext cx="182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ObjectSpa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206880" y="1795320"/>
                <a:ext cx="529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objectspace.com/products/voyager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9DE4-02C5-493F-806D-E79211F26AF4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y not Java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560600" y="1968480"/>
            <a:ext cx="6024600" cy="26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29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imited per-thread resource accounting (or enforcemen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9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 strong mobility, in standard JV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9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pport for multiple languages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efficient on top of Java 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BD4F-0FDE-4424-B581-648BE80835BB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essenger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985680" y="1324080"/>
            <a:ext cx="7170840" cy="820800"/>
            <a:chOff x="985680" y="1324080"/>
            <a:chExt cx="7170840" cy="820800"/>
          </a:xfrm>
        </p:grpSpPr>
        <p:pic>
          <p:nvPicPr>
            <p:cNvPr id="649" name="messengers" descr=""/>
            <p:cNvPicPr/>
            <p:nvPr/>
          </p:nvPicPr>
          <p:blipFill>
            <a:blip r:embed="rId1"/>
            <a:stretch/>
          </p:blipFill>
          <p:spPr>
            <a:xfrm>
              <a:off x="985680" y="1365120"/>
              <a:ext cx="1890720" cy="734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0" name=""/>
            <p:cNvGrpSpPr/>
            <p:nvPr/>
          </p:nvGrpSpPr>
          <p:grpSpPr>
            <a:xfrm>
              <a:off x="3129480" y="1324080"/>
              <a:ext cx="5027040" cy="820800"/>
              <a:chOff x="3129480" y="1324080"/>
              <a:chExt cx="5027040" cy="820800"/>
            </a:xfrm>
          </p:grpSpPr>
          <p:sp>
            <p:nvSpPr>
              <p:cNvPr id="651" name=""/>
              <p:cNvSpPr/>
              <p:nvPr/>
            </p:nvSpPr>
            <p:spPr>
              <a:xfrm>
                <a:off x="3134160" y="1324080"/>
                <a:ext cx="247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University of Genev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129480" y="1746000"/>
                <a:ext cx="502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cuiwww.unige.ch/tios/msgr/home.htm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3" name=""/>
          <p:cNvSpPr/>
          <p:nvPr/>
        </p:nvSpPr>
        <p:spPr>
          <a:xfrm>
            <a:off x="446040" y="2533680"/>
            <a:ext cx="82584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Ø (similar to Postscri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nded fo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low-level servic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e.g., in the Messenger Operating System (M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lletin boards for data exchange and service lis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B698-4475-4067-9D40-228FA32E7016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y not a single language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824120" y="2556000"/>
            <a:ext cx="5816520" cy="1554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bile agents hav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many applicatio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no one langua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good for all appl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95A4-5E9F-48AB-94EC-968A19C1753E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acoma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139760" y="2773440"/>
            <a:ext cx="68691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, Tcl/Tk, Scheme, Python, Perl (public release), several more inter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ingle, simple abstraction: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m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166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asy to add a new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166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ss opportunity for optim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003760" y="1177920"/>
            <a:ext cx="5141520" cy="1430280"/>
            <a:chOff x="2003760" y="1177920"/>
            <a:chExt cx="5141520" cy="1430280"/>
          </a:xfrm>
        </p:grpSpPr>
        <p:grpSp>
          <p:nvGrpSpPr>
            <p:cNvPr id="659" name=""/>
            <p:cNvGrpSpPr/>
            <p:nvPr/>
          </p:nvGrpSpPr>
          <p:grpSpPr>
            <a:xfrm>
              <a:off x="2003760" y="1863720"/>
              <a:ext cx="5141520" cy="744480"/>
              <a:chOff x="2003760" y="1863720"/>
              <a:chExt cx="5141520" cy="744480"/>
            </a:xfrm>
          </p:grpSpPr>
          <p:sp>
            <p:nvSpPr>
              <p:cNvPr id="660" name=""/>
              <p:cNvSpPr/>
              <p:nvPr/>
            </p:nvSpPr>
            <p:spPr>
              <a:xfrm>
                <a:off x="2005920" y="1863720"/>
                <a:ext cx="471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University of Tromsø / Cornell Universi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03760" y="2209320"/>
                <a:ext cx="5141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tacoma.cs.uit.no:8080/TACOMA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62" name="tacoma" descr=""/>
            <p:cNvPicPr/>
            <p:nvPr/>
          </p:nvPicPr>
          <p:blipFill>
            <a:blip r:embed="rId1"/>
            <a:stretch/>
          </p:blipFill>
          <p:spPr>
            <a:xfrm>
              <a:off x="2014560" y="1177920"/>
              <a:ext cx="5000400" cy="69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91BB-4C76-486C-96B1-F0BBE29890D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094120" y="1981080"/>
            <a:ext cx="4748040" cy="27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’Agents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Example: Writing a Tcl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030320" y="1992240"/>
            <a:ext cx="990720" cy="609840"/>
          </a:xfrm>
          <a:prstGeom prst="rightArrow">
            <a:avLst>
              <a:gd name="adj1" fmla="val 50000"/>
              <a:gd name="adj2" fmla="val 4061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8B93-21A6-486D-A3A8-0AA73AEE89F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dagents" descr=""/>
          <p:cNvPicPr/>
          <p:nvPr/>
        </p:nvPicPr>
        <p:blipFill>
          <a:blip r:embed="rId1"/>
          <a:stretch/>
        </p:blipFill>
        <p:spPr>
          <a:xfrm>
            <a:off x="357120" y="-3240"/>
            <a:ext cx="3113280" cy="212400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/>
          <p:nvPr/>
        </p:nvSpPr>
        <p:spPr>
          <a:xfrm>
            <a:off x="4267080" y="609480"/>
            <a:ext cx="40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http://agent.cs.dartmouth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382640" y="1114560"/>
            <a:ext cx="38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oject started Spring, 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4294080" y="2352600"/>
            <a:ext cx="4570560" cy="3767040"/>
            <a:chOff x="4294080" y="2352600"/>
            <a:chExt cx="4570560" cy="3767040"/>
          </a:xfrm>
        </p:grpSpPr>
        <p:sp>
          <p:nvSpPr>
            <p:cNvPr id="670" name=""/>
            <p:cNvSpPr/>
            <p:nvPr/>
          </p:nvSpPr>
          <p:spPr>
            <a:xfrm>
              <a:off x="4294080" y="2352600"/>
              <a:ext cx="457056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alfway t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munication and migration overhead not as low as possi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294080" y="4167000"/>
              <a:ext cx="4570560" cy="19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prot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gent protection while </a:t>
              </a:r>
              <a:r>
                <a:rPr b="1" lang="en-US" sz="2000" spc="-1" strike="noStrike" u="sng">
                  <a:solidFill>
                    <a:srgbClr val="990000"/>
                  </a:solidFill>
                  <a:uFillTx/>
                  <a:latin typeface="Times New Roman"/>
                </a:rPr>
                <a:t>in trans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o agent protection while </a:t>
              </a:r>
              <a:r>
                <a:rPr b="1" lang="en-US" sz="2000" spc="-1" strike="noStrike" u="sng">
                  <a:solidFill>
                    <a:srgbClr val="990000"/>
                  </a:solidFill>
                  <a:uFillTx/>
                  <a:latin typeface="Times New Roman"/>
                </a:rPr>
                <a:t>on a mach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709200" y="2352600"/>
            <a:ext cx="3105720" cy="3839040"/>
            <a:chOff x="709200" y="2352600"/>
            <a:chExt cx="3105720" cy="3839040"/>
          </a:xfrm>
        </p:grpSpPr>
        <p:sp>
          <p:nvSpPr>
            <p:cNvPr id="673" name=""/>
            <p:cNvSpPr/>
            <p:nvPr/>
          </p:nvSpPr>
          <p:spPr>
            <a:xfrm>
              <a:off x="709200" y="2352600"/>
              <a:ext cx="2664720" cy="16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Multiple langua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c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che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09560" y="4130640"/>
              <a:ext cx="3105360" cy="20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Support servi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irectory 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c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ebugger (Tc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0151-4E24-481D-9ECD-8BAF639FC29B}" type="slidenum">
              <a:t>4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’Agents: Mobility Model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040480" y="1138320"/>
            <a:ext cx="524196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ong mobility / No remote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71440" y="4595760"/>
            <a:ext cx="4427640" cy="1143000"/>
          </a:xfrm>
          <a:prstGeom prst="parallelogram">
            <a:avLst>
              <a:gd name="adj" fmla="val 9684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346040" y="575640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079640" y="3630600"/>
            <a:ext cx="2859120" cy="1668600"/>
          </a:xfrm>
          <a:prstGeom prst="cube">
            <a:avLst>
              <a:gd name="adj" fmla="val 963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Capture agent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Sign/encrypt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Send state to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-2520" y="429084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076400" y="2116080"/>
            <a:ext cx="2859120" cy="1668600"/>
          </a:xfrm>
          <a:prstGeom prst="cube">
            <a:avLst>
              <a:gd name="adj" fmla="val 963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arched = searched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mp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et with search-engi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81360" y="22845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96880" y="2859120"/>
            <a:ext cx="538200" cy="380880"/>
          </a:xfrm>
          <a:prstGeom prst="rightArrow">
            <a:avLst>
              <a:gd name="adj1" fmla="val 38333"/>
              <a:gd name="adj2" fmla="val 4710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808200" y="3182760"/>
            <a:ext cx="336240" cy="884520"/>
          </a:xfrm>
          <a:custGeom>
            <a:avLst/>
            <a:gdLst/>
            <a:ahLst/>
            <a:rect l="l" t="t" r="r" b="b"/>
            <a:pathLst>
              <a:path w="212" h="557">
                <a:moveTo>
                  <a:pt x="212" y="0"/>
                </a:moveTo>
                <a:cubicBezTo>
                  <a:pt x="106" y="115"/>
                  <a:pt x="0" y="231"/>
                  <a:pt x="0" y="324"/>
                </a:cubicBezTo>
                <a:cubicBezTo>
                  <a:pt x="0" y="417"/>
                  <a:pt x="106" y="487"/>
                  <a:pt x="212" y="557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4602240" y="2116080"/>
            <a:ext cx="4427640" cy="4088520"/>
            <a:chOff x="4602240" y="2116080"/>
            <a:chExt cx="4427640" cy="4088520"/>
          </a:xfrm>
        </p:grpSpPr>
        <p:grpSp>
          <p:nvGrpSpPr>
            <p:cNvPr id="686" name=""/>
            <p:cNvGrpSpPr/>
            <p:nvPr/>
          </p:nvGrpSpPr>
          <p:grpSpPr>
            <a:xfrm>
              <a:off x="4602240" y="2116080"/>
              <a:ext cx="4427640" cy="4088520"/>
              <a:chOff x="4602240" y="2116080"/>
              <a:chExt cx="4427640" cy="4088520"/>
            </a:xfrm>
          </p:grpSpPr>
          <p:sp>
            <p:nvSpPr>
              <p:cNvPr id="687" name=""/>
              <p:cNvSpPr/>
              <p:nvPr/>
            </p:nvSpPr>
            <p:spPr>
              <a:xfrm>
                <a:off x="4602240" y="4584600"/>
                <a:ext cx="4427640" cy="1143000"/>
              </a:xfrm>
              <a:prstGeom prst="parallelogram">
                <a:avLst>
                  <a:gd name="adj" fmla="val 96843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676480" y="5744880"/>
                <a:ext cx="1595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achine 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418360" y="3619440"/>
                <a:ext cx="2859120" cy="1668240"/>
              </a:xfrm>
              <a:prstGeom prst="cube">
                <a:avLst>
                  <a:gd name="adj" fmla="val 9638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. Resume ag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. Restore sta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. Authentica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418360" y="2116080"/>
                <a:ext cx="2859120" cy="1668240"/>
              </a:xfrm>
              <a:prstGeom prst="cube">
                <a:avLst>
                  <a:gd name="adj" fmla="val 9638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earched = searched + 1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jump B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meet with search-engine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1" name=""/>
            <p:cNvSpPr/>
            <p:nvPr/>
          </p:nvSpPr>
          <p:spPr>
            <a:xfrm>
              <a:off x="4929120" y="3135240"/>
              <a:ext cx="538200" cy="380880"/>
            </a:xfrm>
            <a:prstGeom prst="rightArrow">
              <a:avLst>
                <a:gd name="adj1" fmla="val 38333"/>
                <a:gd name="adj2" fmla="val 47101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327480" y="4908600"/>
            <a:ext cx="21636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253120" y="3462480"/>
            <a:ext cx="237960" cy="69516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136" y="438"/>
                </a:moveTo>
                <a:cubicBezTo>
                  <a:pt x="68" y="407"/>
                  <a:pt x="0" y="377"/>
                  <a:pt x="2" y="304"/>
                </a:cubicBezTo>
                <a:cubicBezTo>
                  <a:pt x="4" y="231"/>
                  <a:pt x="77" y="115"/>
                  <a:pt x="150" y="0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90B0-1837-41BB-B958-096178B344FF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’Agents: Architectur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92240" y="4606920"/>
            <a:ext cx="4651200" cy="1143000"/>
          </a:xfrm>
          <a:prstGeom prst="parallelogram">
            <a:avLst>
              <a:gd name="adj" fmla="val 9097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446120" y="581328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950760" y="4538520"/>
            <a:ext cx="2992680" cy="795600"/>
          </a:xfrm>
          <a:prstGeom prst="cube">
            <a:avLst>
              <a:gd name="adj" fmla="val 257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port (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950760" y="3875040"/>
            <a:ext cx="2992680" cy="8622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950760" y="2995560"/>
            <a:ext cx="112896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78120" y="2995560"/>
            <a:ext cx="115092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816280" y="2995560"/>
            <a:ext cx="112860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950760" y="2327400"/>
            <a:ext cx="2989440" cy="861840"/>
          </a:xfrm>
          <a:prstGeom prst="cube">
            <a:avLst>
              <a:gd name="adj" fmla="val 2293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3" name="agentred" descr=""/>
          <p:cNvPicPr/>
          <p:nvPr/>
        </p:nvPicPr>
        <p:blipFill>
          <a:blip r:embed="rId1"/>
          <a:stretch/>
        </p:blipFill>
        <p:spPr>
          <a:xfrm>
            <a:off x="1228680" y="1878120"/>
            <a:ext cx="495360" cy="512640"/>
          </a:xfrm>
          <a:prstGeom prst="rect">
            <a:avLst/>
          </a:prstGeom>
          <a:ln w="0">
            <a:noFill/>
          </a:ln>
        </p:spPr>
      </p:pic>
      <p:pic>
        <p:nvPicPr>
          <p:cNvPr id="704" name="agentred" descr=""/>
          <p:cNvPicPr/>
          <p:nvPr/>
        </p:nvPicPr>
        <p:blipFill>
          <a:blip r:embed="rId2"/>
          <a:stretch/>
        </p:blipFill>
        <p:spPr>
          <a:xfrm>
            <a:off x="1890720" y="1947960"/>
            <a:ext cx="495360" cy="512640"/>
          </a:xfrm>
          <a:prstGeom prst="rect">
            <a:avLst/>
          </a:prstGeom>
          <a:ln w="0">
            <a:noFill/>
          </a:ln>
        </p:spPr>
      </p:pic>
      <p:pic>
        <p:nvPicPr>
          <p:cNvPr id="705" name="agentred" descr=""/>
          <p:cNvPicPr/>
          <p:nvPr/>
        </p:nvPicPr>
        <p:blipFill>
          <a:blip r:embed="rId3"/>
          <a:stretch/>
        </p:blipFill>
        <p:spPr>
          <a:xfrm>
            <a:off x="2538360" y="1876320"/>
            <a:ext cx="495360" cy="513000"/>
          </a:xfrm>
          <a:prstGeom prst="rect">
            <a:avLst/>
          </a:prstGeom>
          <a:ln w="0">
            <a:noFill/>
          </a:ln>
        </p:spPr>
      </p:pic>
      <p:pic>
        <p:nvPicPr>
          <p:cNvPr id="706" name="agentred" descr=""/>
          <p:cNvPicPr/>
          <p:nvPr/>
        </p:nvPicPr>
        <p:blipFill>
          <a:blip r:embed="rId4"/>
          <a:stretch/>
        </p:blipFill>
        <p:spPr>
          <a:xfrm>
            <a:off x="3170160" y="1928880"/>
            <a:ext cx="495360" cy="51264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/>
          <p:nvPr/>
        </p:nvSpPr>
        <p:spPr>
          <a:xfrm>
            <a:off x="5245200" y="1511280"/>
            <a:ext cx="3638520" cy="3137040"/>
          </a:xfrm>
          <a:prstGeom prst="cube">
            <a:avLst>
              <a:gd name="adj" fmla="val 6074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887440" y="1128600"/>
            <a:ext cx="240120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M / Interpr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348680" y="2789280"/>
            <a:ext cx="1276200" cy="7840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348160" y="2789280"/>
            <a:ext cx="1276560" cy="7840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p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348240" y="1882800"/>
            <a:ext cx="1276560" cy="7840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346800" y="3695760"/>
            <a:ext cx="1276200" cy="7840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385040" y="2589120"/>
            <a:ext cx="25704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370560" y="3503520"/>
            <a:ext cx="25740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6972480" y="2658960"/>
            <a:ext cx="1440" cy="103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6332400" y="2557440"/>
            <a:ext cx="214560" cy="27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3741840" y="1703160"/>
            <a:ext cx="1512720" cy="150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741840" y="4067280"/>
            <a:ext cx="150156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43440" y="3865680"/>
            <a:ext cx="12999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3943440" y="1512360"/>
            <a:ext cx="1490400" cy="14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59D7-91A5-46EA-ABBE-87DBFEB80DAA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cl/Tk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277920" y="992160"/>
            <a:ext cx="4070160" cy="5159520"/>
            <a:chOff x="277920" y="992160"/>
            <a:chExt cx="4070160" cy="5159520"/>
          </a:xfrm>
        </p:grpSpPr>
        <p:sp>
          <p:nvSpPr>
            <p:cNvPr id="723" name=""/>
            <p:cNvSpPr/>
            <p:nvPr/>
          </p:nvSpPr>
          <p:spPr>
            <a:xfrm>
              <a:off x="277920" y="2663640"/>
              <a:ext cx="4070160" cy="348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preted scripting 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verything is a string.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ot object-oriented, but has namespa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deal for “glue” appl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4360" indent="-227160">
                <a:lnSpc>
                  <a:spcPct val="100000"/>
                </a:lnSpc>
                <a:spcBef>
                  <a:spcPts val="675"/>
                </a:spcBef>
                <a:buClr>
                  <a:srgbClr val="000066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all high-level operation 1, modest processing to decide next operation, call high-level operation 2, 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k provides GUI capabilitie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312840" y="992160"/>
              <a:ext cx="4003560" cy="1471680"/>
              <a:chOff x="312840" y="992160"/>
              <a:chExt cx="4003560" cy="1471680"/>
            </a:xfrm>
          </p:grpSpPr>
          <p:sp>
            <p:nvSpPr>
              <p:cNvPr id="725" name=""/>
              <p:cNvSpPr/>
              <p:nvPr/>
            </p:nvSpPr>
            <p:spPr>
              <a:xfrm>
                <a:off x="1348200" y="1530360"/>
                <a:ext cx="296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scriptics.com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26" name="tcl" descr=""/>
              <p:cNvPicPr/>
              <p:nvPr/>
            </p:nvPicPr>
            <p:blipFill>
              <a:blip r:embed="rId1"/>
              <a:stretch/>
            </p:blipFill>
            <p:spPr>
              <a:xfrm>
                <a:off x="312840" y="992160"/>
                <a:ext cx="981000" cy="1471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27" name=""/>
          <p:cNvSpPr/>
          <p:nvPr/>
        </p:nvSpPr>
        <p:spPr>
          <a:xfrm>
            <a:off x="4493160" y="968400"/>
            <a:ext cx="4388400" cy="5202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processF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{filename}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 open the file and read in cont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fd [open $filename r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contents [read $fd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 $f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split the file contents into a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and process each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splitContents [split $contents r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line $splitContents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MAIN SCRIPT - call our only 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code [catch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processF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agent.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errorMessag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{$code}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ts $error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1570-27D4-4A8B-B702-A61E2E3C5941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Outline (II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30760" y="1074600"/>
            <a:ext cx="506664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’Agents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ample: Writing a Tcl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search: Choose when to 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search: Othe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4815-871E-4159-839E-5FB2875970B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gent Tcl primitives (I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48320" y="1411200"/>
            <a:ext cx="423432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ster with the local agent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name &lt;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tain a name in the namespa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register and 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73960" y="1162080"/>
            <a:ext cx="1233360" cy="66024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agentred" descr=""/>
          <p:cNvPicPr/>
          <p:nvPr/>
        </p:nvPicPr>
        <p:blipFill>
          <a:blip r:embed="rId1"/>
          <a:stretch/>
        </p:blipFill>
        <p:spPr>
          <a:xfrm>
            <a:off x="6872400" y="2292480"/>
            <a:ext cx="509400" cy="52704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4356720" y="12222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1. 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425920" y="2813040"/>
            <a:ext cx="3470400" cy="111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402160" y="2630520"/>
            <a:ext cx="0" cy="404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8921880" y="2631960"/>
            <a:ext cx="0" cy="405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5400720" y="1761840"/>
            <a:ext cx="1379520" cy="1065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5630760" y="1763280"/>
            <a:ext cx="1379520" cy="1065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465000" y="310824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2. agent_name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H="1" flipV="1">
            <a:off x="7521480" y="1779120"/>
            <a:ext cx="1378080" cy="1033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986160" y="31068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3. 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330960" y="22748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535880" y="22748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759280" y="1546200"/>
            <a:ext cx="460440" cy="628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6028920" y="2308320"/>
            <a:ext cx="257400" cy="78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8008920" y="2360520"/>
            <a:ext cx="257040" cy="784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55520" y="4249800"/>
            <a:ext cx="425628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se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agent&gt; &lt;code&gt; &lt;string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nd a message to an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gent_rece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varname&gt; &lt;varname&gt;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eive a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79280" y="3803760"/>
            <a:ext cx="877428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7147080" y="4449600"/>
            <a:ext cx="1780920" cy="716040"/>
            <a:chOff x="7147080" y="4449600"/>
            <a:chExt cx="1780920" cy="716040"/>
          </a:xfrm>
        </p:grpSpPr>
        <p:sp>
          <p:nvSpPr>
            <p:cNvPr id="749" name=""/>
            <p:cNvSpPr/>
            <p:nvPr/>
          </p:nvSpPr>
          <p:spPr>
            <a:xfrm>
              <a:off x="7147080" y="4751280"/>
              <a:ext cx="1780920" cy="414360"/>
            </a:xfrm>
            <a:prstGeom prst="parallelogram">
              <a:avLst>
                <a:gd name="adj" fmla="val 1476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0" name="agentred" descr=""/>
            <p:cNvPicPr/>
            <p:nvPr/>
          </p:nvPicPr>
          <p:blipFill>
            <a:blip r:embed="rId2"/>
            <a:stretch/>
          </p:blipFill>
          <p:spPr>
            <a:xfrm>
              <a:off x="7803720" y="4449600"/>
              <a:ext cx="50940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1" name=""/>
          <p:cNvSpPr/>
          <p:nvPr/>
        </p:nvSpPr>
        <p:spPr>
          <a:xfrm>
            <a:off x="7311960" y="58356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4505400" y="5127480"/>
            <a:ext cx="1781280" cy="716040"/>
            <a:chOff x="4505400" y="5127480"/>
            <a:chExt cx="1781280" cy="716040"/>
          </a:xfrm>
        </p:grpSpPr>
        <p:sp>
          <p:nvSpPr>
            <p:cNvPr id="753" name=""/>
            <p:cNvSpPr/>
            <p:nvPr/>
          </p:nvSpPr>
          <p:spPr>
            <a:xfrm>
              <a:off x="4505400" y="5429160"/>
              <a:ext cx="1781280" cy="414360"/>
            </a:xfrm>
            <a:prstGeom prst="parallelogram">
              <a:avLst>
                <a:gd name="adj" fmla="val 14765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agentred" descr=""/>
            <p:cNvPicPr/>
            <p:nvPr/>
          </p:nvPicPr>
          <p:blipFill>
            <a:blip r:embed="rId3"/>
            <a:stretch/>
          </p:blipFill>
          <p:spPr>
            <a:xfrm>
              <a:off x="5162400" y="5127480"/>
              <a:ext cx="50976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5" name=""/>
          <p:cNvSpPr/>
          <p:nvPr/>
        </p:nvSpPr>
        <p:spPr>
          <a:xfrm>
            <a:off x="4682880" y="583740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5703840" y="4617720"/>
            <a:ext cx="2095560" cy="64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163040" y="4011480"/>
            <a:ext cx="48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1. agent_send {B database} 0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388200" y="4370400"/>
            <a:ext cx="257040" cy="615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867080" y="114444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6989760" y="4492800"/>
            <a:ext cx="383760" cy="183960"/>
            <a:chOff x="6989760" y="4492800"/>
            <a:chExt cx="383760" cy="183960"/>
          </a:xfrm>
        </p:grpSpPr>
        <p:sp>
          <p:nvSpPr>
            <p:cNvPr id="761" name=""/>
            <p:cNvSpPr/>
            <p:nvPr/>
          </p:nvSpPr>
          <p:spPr>
            <a:xfrm>
              <a:off x="6992640" y="4492800"/>
              <a:ext cx="380880" cy="1839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6989760" y="4494960"/>
              <a:ext cx="383400" cy="82440"/>
              <a:chOff x="6989760" y="4494960"/>
              <a:chExt cx="383400" cy="82440"/>
            </a:xfrm>
          </p:grpSpPr>
          <p:sp>
            <p:nvSpPr>
              <p:cNvPr id="763" name=""/>
              <p:cNvSpPr/>
              <p:nvPr/>
            </p:nvSpPr>
            <p:spPr>
              <a:xfrm>
                <a:off x="6989760" y="4500360"/>
                <a:ext cx="191880" cy="7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7181280" y="4494960"/>
                <a:ext cx="19188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5" name=""/>
          <p:cNvSpPr/>
          <p:nvPr/>
        </p:nvSpPr>
        <p:spPr>
          <a:xfrm>
            <a:off x="6314040" y="535140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2. agent_receive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7989840" y="4964040"/>
            <a:ext cx="77760" cy="43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A7EA-5D2E-403E-A004-C1BD7A7E0824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gent Tcl primitives (II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79280" y="3314880"/>
            <a:ext cx="877428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27080" y="1344600"/>
            <a:ext cx="42559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jump &lt;machin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grate to a new machine and continue from the point of the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635360" y="19699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45400" y="19699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000760" y="158904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699160" y="2057400"/>
            <a:ext cx="1563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agentred" descr=""/>
          <p:cNvPicPr/>
          <p:nvPr/>
        </p:nvPicPr>
        <p:blipFill>
          <a:blip r:embed="rId1"/>
          <a:stretch/>
        </p:blipFill>
        <p:spPr>
          <a:xfrm>
            <a:off x="7277040" y="160020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6951600" y="24750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829040" y="2476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571720" y="11127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jump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578640" y="1469880"/>
            <a:ext cx="245880" cy="582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27080" y="4184640"/>
            <a:ext cx="42559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submit &lt;machin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procs &lt;procedure-lis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vars &lt;variable-lis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script &lt;scrip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 a new (child)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4277160" y="3440160"/>
            <a:ext cx="4757040" cy="3005640"/>
            <a:chOff x="4277160" y="3440160"/>
            <a:chExt cx="4757040" cy="3005640"/>
          </a:xfrm>
        </p:grpSpPr>
        <p:sp>
          <p:nvSpPr>
            <p:cNvPr id="781" name=""/>
            <p:cNvSpPr/>
            <p:nvPr/>
          </p:nvSpPr>
          <p:spPr>
            <a:xfrm>
              <a:off x="4538880" y="400536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593040" y="554184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3" name="agentred" descr=""/>
            <p:cNvPicPr/>
            <p:nvPr/>
          </p:nvPicPr>
          <p:blipFill>
            <a:blip r:embed="rId2"/>
            <a:stretch/>
          </p:blipFill>
          <p:spPr>
            <a:xfrm>
              <a:off x="7024680" y="5172120"/>
              <a:ext cx="67788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4" name=""/>
            <p:cNvSpPr/>
            <p:nvPr/>
          </p:nvSpPr>
          <p:spPr>
            <a:xfrm>
              <a:off x="6699240" y="6046920"/>
              <a:ext cx="136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732200" y="4511520"/>
              <a:ext cx="137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6" name="agentred" descr=""/>
            <p:cNvPicPr/>
            <p:nvPr/>
          </p:nvPicPr>
          <p:blipFill>
            <a:blip r:embed="rId3"/>
            <a:stretch/>
          </p:blipFill>
          <p:spPr>
            <a:xfrm>
              <a:off x="5069160" y="3608280"/>
              <a:ext cx="67788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7" name=""/>
            <p:cNvSpPr/>
            <p:nvPr/>
          </p:nvSpPr>
          <p:spPr>
            <a:xfrm>
              <a:off x="5748480" y="4124160"/>
              <a:ext cx="1266840" cy="1041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47440" y="3440160"/>
              <a:ext cx="2786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1. agent_submit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-procs sear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-vars qu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-scrip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{search $query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6656040" y="4627440"/>
              <a:ext cx="157320" cy="258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277160" y="5297400"/>
              <a:ext cx="22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2.search $qu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6510240" y="5378400"/>
              <a:ext cx="51588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6DA8-1D0F-491A-B73A-91F655F115D8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gent Tcl primitives (III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26880" y="3166920"/>
            <a:ext cx="4256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fork &lt;machin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one an agent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or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 child 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930920" y="248292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985080" y="401940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6" name="agentred" descr=""/>
          <p:cNvPicPr/>
          <p:nvPr/>
        </p:nvPicPr>
        <p:blipFill>
          <a:blip r:embed="rId1"/>
          <a:stretch/>
        </p:blipFill>
        <p:spPr>
          <a:xfrm>
            <a:off x="7416720" y="364968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7091280" y="452448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124240" y="2989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9" name="agentred" descr=""/>
          <p:cNvPicPr/>
          <p:nvPr/>
        </p:nvPicPr>
        <p:blipFill>
          <a:blip r:embed="rId2"/>
          <a:stretch/>
        </p:blipFill>
        <p:spPr>
          <a:xfrm>
            <a:off x="5460840" y="208584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6140520" y="2602080"/>
            <a:ext cx="1266840" cy="1041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932160" y="27129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fork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7048080" y="3105000"/>
            <a:ext cx="157320" cy="258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334120" y="3486240"/>
            <a:ext cx="165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Exact copy that continues from fork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6902280" y="3855960"/>
            <a:ext cx="516240" cy="101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A500-8E31-40C5-86F6-5CF40DE1E0E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Other feature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951840" y="1289160"/>
            <a:ext cx="7237800" cy="4435560"/>
            <a:chOff x="951840" y="1289160"/>
            <a:chExt cx="7237800" cy="4435560"/>
          </a:xfrm>
        </p:grpSpPr>
        <p:sp>
          <p:nvSpPr>
            <p:cNvPr id="807" name=""/>
            <p:cNvSpPr/>
            <p:nvPr/>
          </p:nvSpPr>
          <p:spPr>
            <a:xfrm>
              <a:off x="1278000" y="141156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Meetin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488960" y="2387880"/>
              <a:ext cx="94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e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951840" y="3357720"/>
              <a:ext cx="202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tatus repor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039680" y="4210200"/>
              <a:ext cx="184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otif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965520" y="4899240"/>
              <a:ext cx="1994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vent-driv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rogramm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54320" y="128916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cond communication mechanism (direct connection between agent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154320" y="226548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ait for a message, meeting request, data arriving over a meeting, etc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154320" y="323568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hich agents are running on machine A?  Who owns agent X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154320" y="4240440"/>
              <a:ext cx="503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ssage from server on agent birth or dea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154320" y="495936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vent handlers for all types of incoming commun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A922-44C8-495B-8B9D-D31B5F78695B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Naming schem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225720" y="1224000"/>
            <a:ext cx="8675280" cy="3539880"/>
            <a:chOff x="225720" y="1224000"/>
            <a:chExt cx="8675280" cy="3539880"/>
          </a:xfrm>
        </p:grpSpPr>
        <p:grpSp>
          <p:nvGrpSpPr>
            <p:cNvPr id="819" name=""/>
            <p:cNvGrpSpPr/>
            <p:nvPr/>
          </p:nvGrpSpPr>
          <p:grpSpPr>
            <a:xfrm>
              <a:off x="5054400" y="3630600"/>
              <a:ext cx="1781280" cy="1133280"/>
              <a:chOff x="5054400" y="3630600"/>
              <a:chExt cx="1781280" cy="1133280"/>
            </a:xfrm>
          </p:grpSpPr>
          <p:grpSp>
            <p:nvGrpSpPr>
              <p:cNvPr id="820" name=""/>
              <p:cNvGrpSpPr/>
              <p:nvPr/>
            </p:nvGrpSpPr>
            <p:grpSpPr>
              <a:xfrm>
                <a:off x="5054400" y="3630600"/>
                <a:ext cx="1781280" cy="715320"/>
                <a:chOff x="5054400" y="3630600"/>
                <a:chExt cx="1781280" cy="7153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5054400" y="3931920"/>
                  <a:ext cx="1781280" cy="414000"/>
                </a:xfrm>
                <a:prstGeom prst="parallelogram">
                  <a:avLst>
                    <a:gd name="adj" fmla="val 147782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822" name="agentred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711400" y="3630600"/>
                  <a:ext cx="509760" cy="526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23" name=""/>
              <p:cNvSpPr/>
              <p:nvPr/>
            </p:nvSpPr>
            <p:spPr>
              <a:xfrm>
                <a:off x="5221080" y="4365000"/>
                <a:ext cx="1361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chine 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"/>
            <p:cNvGrpSpPr/>
            <p:nvPr/>
          </p:nvGrpSpPr>
          <p:grpSpPr>
            <a:xfrm>
              <a:off x="919080" y="3625560"/>
              <a:ext cx="1780920" cy="1108440"/>
              <a:chOff x="919080" y="3625560"/>
              <a:chExt cx="1780920" cy="1108440"/>
            </a:xfrm>
          </p:grpSpPr>
          <p:grpSp>
            <p:nvGrpSpPr>
              <p:cNvPr id="825" name=""/>
              <p:cNvGrpSpPr/>
              <p:nvPr/>
            </p:nvGrpSpPr>
            <p:grpSpPr>
              <a:xfrm>
                <a:off x="919080" y="3625560"/>
                <a:ext cx="1780920" cy="716040"/>
                <a:chOff x="919080" y="3625560"/>
                <a:chExt cx="1780920" cy="716040"/>
              </a:xfrm>
            </p:grpSpPr>
            <p:sp>
              <p:nvSpPr>
                <p:cNvPr id="826" name=""/>
                <p:cNvSpPr/>
                <p:nvPr/>
              </p:nvSpPr>
              <p:spPr>
                <a:xfrm>
                  <a:off x="919080" y="3927240"/>
                  <a:ext cx="1780920" cy="414360"/>
                </a:xfrm>
                <a:prstGeom prst="parallelogram">
                  <a:avLst>
                    <a:gd name="adj" fmla="val 147624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827" name="agentred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575720" y="3625560"/>
                  <a:ext cx="509400" cy="527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28" name=""/>
              <p:cNvSpPr/>
              <p:nvPr/>
            </p:nvSpPr>
            <p:spPr>
              <a:xfrm>
                <a:off x="1096560" y="4335120"/>
                <a:ext cx="137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chine 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 flipV="1">
              <a:off x="2118960" y="3774960"/>
              <a:ext cx="3584880" cy="662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25720" y="2665440"/>
              <a:ext cx="278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_send {B TR}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_send {B 17}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1" name=""/>
            <p:cNvGrpSpPr/>
            <p:nvPr/>
          </p:nvGrpSpPr>
          <p:grpSpPr>
            <a:xfrm>
              <a:off x="3740040" y="3560760"/>
              <a:ext cx="383760" cy="183600"/>
              <a:chOff x="3740040" y="3560760"/>
              <a:chExt cx="383760" cy="183600"/>
            </a:xfrm>
          </p:grpSpPr>
          <p:sp>
            <p:nvSpPr>
              <p:cNvPr id="832" name=""/>
              <p:cNvSpPr/>
              <p:nvPr/>
            </p:nvSpPr>
            <p:spPr>
              <a:xfrm>
                <a:off x="3742920" y="3560760"/>
                <a:ext cx="380880" cy="183600"/>
              </a:xfrm>
              <a:prstGeom prst="rect">
                <a:avLst/>
              </a:prstGeom>
              <a:noFill/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3" name=""/>
              <p:cNvGrpSpPr/>
              <p:nvPr/>
            </p:nvGrpSpPr>
            <p:grpSpPr>
              <a:xfrm>
                <a:off x="3740040" y="3562920"/>
                <a:ext cx="383400" cy="82080"/>
                <a:chOff x="3740040" y="3562920"/>
                <a:chExt cx="383400" cy="82080"/>
              </a:xfrm>
            </p:grpSpPr>
            <p:sp>
              <p:nvSpPr>
                <p:cNvPr id="834" name=""/>
                <p:cNvSpPr/>
                <p:nvPr/>
              </p:nvSpPr>
              <p:spPr>
                <a:xfrm>
                  <a:off x="3740040" y="3568320"/>
                  <a:ext cx="191880" cy="766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 flipH="1">
                  <a:off x="3931560" y="3562920"/>
                  <a:ext cx="191880" cy="820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36" name=""/>
            <p:cNvSpPr/>
            <p:nvPr/>
          </p:nvSpPr>
          <p:spPr>
            <a:xfrm>
              <a:off x="5029560" y="3236760"/>
              <a:ext cx="176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&lt;B, “TR”, 17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689280" y="2112840"/>
              <a:ext cx="1212840" cy="70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028840" y="1224000"/>
              <a:ext cx="187344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ymbolic name (chosen by agen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027560" y="1503360"/>
              <a:ext cx="1873440" cy="1313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umeric id (chosen by system, unique per machi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673520" y="2855880"/>
              <a:ext cx="549000" cy="43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5940360" y="2273040"/>
              <a:ext cx="55440" cy="100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6578280" y="2855880"/>
              <a:ext cx="728640" cy="43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3" name=""/>
          <p:cNvSpPr/>
          <p:nvPr/>
        </p:nvSpPr>
        <p:spPr>
          <a:xfrm>
            <a:off x="551880" y="5284800"/>
            <a:ext cx="8033400" cy="64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tion-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pend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ddressing through the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yellow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A97D-D6C2-489C-94BC-BBBB8DA2A67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 skeleton agen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76120" y="1054080"/>
            <a:ext cx="4248360" cy="48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child {machines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loba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migrate through mach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results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machine $machines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jump $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do task, update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results and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root) 0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518120" y="603576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ld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151600" y="1138320"/>
            <a:ext cx="3887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# submit ch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machines {A B …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submit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$agent(local-server)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procs child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vars machines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script {child $machines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# get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receive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ode results -blo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uts $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136920" y="6037200"/>
            <a:ext cx="19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ent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4527720" y="4202280"/>
            <a:ext cx="660240" cy="178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 flipV="1">
            <a:off x="4527360" y="1053720"/>
            <a:ext cx="671400" cy="179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8A5A-65FC-4614-86D0-92A1AF86C09E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he “who” agen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400760" y="558972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ld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43000" y="1349280"/>
            <a:ext cx="4079880" cy="4168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results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migrate through mach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machine $machines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jump $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ppend results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exec who &lt;&lt; {}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root) 0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711680" y="40417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840200" y="456732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126120" y="17636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385040" y="13273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8" name="agentred" descr=""/>
          <p:cNvPicPr/>
          <p:nvPr/>
        </p:nvPicPr>
        <p:blipFill>
          <a:blip r:embed="rId2"/>
          <a:stretch/>
        </p:blipFill>
        <p:spPr>
          <a:xfrm>
            <a:off x="6656400" y="136692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859" name=""/>
          <p:cNvSpPr/>
          <p:nvPr/>
        </p:nvSpPr>
        <p:spPr>
          <a:xfrm>
            <a:off x="7093080" y="405288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221240" y="45766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481880" y="3679920"/>
            <a:ext cx="68580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441560" y="3348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Times New Roman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3" name="agentred" descr=""/>
          <p:cNvPicPr/>
          <p:nvPr/>
        </p:nvPicPr>
        <p:blipFill>
          <a:blip r:embed="rId3"/>
          <a:stretch/>
        </p:blipFill>
        <p:spPr>
          <a:xfrm>
            <a:off x="5151600" y="367200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864" name=""/>
          <p:cNvSpPr/>
          <p:nvPr/>
        </p:nvSpPr>
        <p:spPr>
          <a:xfrm>
            <a:off x="5108040" y="3349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351560" y="2151000"/>
            <a:ext cx="436680" cy="1211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639200" y="228132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 Submit 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194600" y="4975200"/>
            <a:ext cx="673200" cy="897120"/>
          </a:xfrm>
          <a:custGeom>
            <a:avLst/>
            <a:gdLst/>
            <a:ahLst/>
            <a:rect l="l" t="t" r="r" b="b"/>
            <a:pathLst>
              <a:path w="375" h="593">
                <a:moveTo>
                  <a:pt x="375" y="0"/>
                </a:moveTo>
                <a:cubicBezTo>
                  <a:pt x="374" y="141"/>
                  <a:pt x="373" y="282"/>
                  <a:pt x="311" y="381"/>
                </a:cubicBezTo>
                <a:cubicBezTo>
                  <a:pt x="249" y="480"/>
                  <a:pt x="124" y="536"/>
                  <a:pt x="0" y="59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622920" y="545004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535720" y="4986360"/>
            <a:ext cx="1009440" cy="896760"/>
          </a:xfrm>
          <a:custGeom>
            <a:avLst/>
            <a:gdLst/>
            <a:ahLst/>
            <a:rect l="l" t="t" r="r" b="b"/>
            <a:pathLst>
              <a:path w="636" h="565">
                <a:moveTo>
                  <a:pt x="636" y="565"/>
                </a:moveTo>
                <a:cubicBezTo>
                  <a:pt x="466" y="527"/>
                  <a:pt x="297" y="489"/>
                  <a:pt x="191" y="395"/>
                </a:cubicBezTo>
                <a:cubicBezTo>
                  <a:pt x="85" y="301"/>
                  <a:pt x="42" y="150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273720" y="528480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5502240" y="2139840"/>
            <a:ext cx="1120680" cy="122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67320" y="2209680"/>
            <a:ext cx="145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. Send list of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3021-B148-4077-A2D0-BF3356F3048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 application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874" name="smart" descr=""/>
          <p:cNvPicPr/>
          <p:nvPr/>
        </p:nvPicPr>
        <p:blipFill>
          <a:blip r:embed="rId1"/>
          <a:stretch/>
        </p:blipFill>
        <p:spPr>
          <a:xfrm>
            <a:off x="1030320" y="1027080"/>
            <a:ext cx="3139920" cy="1805040"/>
          </a:xfrm>
          <a:prstGeom prst="rect">
            <a:avLst/>
          </a:prstGeom>
          <a:ln w="0">
            <a:noFill/>
          </a:ln>
        </p:spPr>
      </p:pic>
      <p:pic>
        <p:nvPicPr>
          <p:cNvPr id="875" name="list" descr=""/>
          <p:cNvPicPr/>
          <p:nvPr/>
        </p:nvPicPr>
        <p:blipFill>
          <a:blip r:embed="rId2"/>
          <a:stretch/>
        </p:blipFill>
        <p:spPr>
          <a:xfrm>
            <a:off x="216000" y="2247840"/>
            <a:ext cx="1782720" cy="1785960"/>
          </a:xfrm>
          <a:prstGeom prst="rect">
            <a:avLst/>
          </a:prstGeom>
          <a:ln w="0">
            <a:noFill/>
          </a:ln>
        </p:spPr>
      </p:pic>
      <p:sp>
        <p:nvSpPr>
          <p:cNvPr id="876" name=""/>
          <p:cNvSpPr/>
          <p:nvPr/>
        </p:nvSpPr>
        <p:spPr>
          <a:xfrm>
            <a:off x="3657600" y="51307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7" name="agentred" descr=""/>
          <p:cNvPicPr/>
          <p:nvPr/>
        </p:nvPicPr>
        <p:blipFill>
          <a:blip r:embed="rId3"/>
          <a:stretch/>
        </p:blipFill>
        <p:spPr>
          <a:xfrm>
            <a:off x="3908520" y="490212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2095560" y="2409840"/>
            <a:ext cx="533520" cy="53352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554200" y="2946240"/>
            <a:ext cx="1344600" cy="193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153680" y="1601640"/>
            <a:ext cx="195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 Ask for 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663560" y="5373720"/>
            <a:ext cx="203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. Send merged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017800" y="4076640"/>
            <a:ext cx="1847880" cy="1414440"/>
          </a:xfrm>
          <a:custGeom>
            <a:avLst/>
            <a:gdLst/>
            <a:ahLst/>
            <a:rect l="l" t="t" r="r" b="b"/>
            <a:pathLst>
              <a:path w="1270" h="453">
                <a:moveTo>
                  <a:pt x="1270" y="297"/>
                </a:moveTo>
                <a:cubicBezTo>
                  <a:pt x="1009" y="375"/>
                  <a:pt x="748" y="453"/>
                  <a:pt x="536" y="403"/>
                </a:cubicBezTo>
                <a:cubicBezTo>
                  <a:pt x="324" y="353"/>
                  <a:pt x="89" y="67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416000" y="582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7015320" y="4835520"/>
            <a:ext cx="1828800" cy="969840"/>
            <a:chOff x="7015320" y="4835520"/>
            <a:chExt cx="1828800" cy="969840"/>
          </a:xfrm>
        </p:grpSpPr>
        <p:sp>
          <p:nvSpPr>
            <p:cNvPr id="885" name=""/>
            <p:cNvSpPr/>
            <p:nvPr/>
          </p:nvSpPr>
          <p:spPr>
            <a:xfrm>
              <a:off x="7015320" y="527220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974360" y="483552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7" name="agentred" descr=""/>
            <p:cNvPicPr/>
            <p:nvPr/>
          </p:nvPicPr>
          <p:blipFill>
            <a:blip r:embed="rId4"/>
            <a:stretch/>
          </p:blipFill>
          <p:spPr>
            <a:xfrm>
              <a:off x="7216920" y="531180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8" name=""/>
          <p:cNvSpPr/>
          <p:nvPr/>
        </p:nvSpPr>
        <p:spPr>
          <a:xfrm>
            <a:off x="7463880" y="261144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io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7032600" y="1646280"/>
            <a:ext cx="1828800" cy="960120"/>
            <a:chOff x="7032600" y="1646280"/>
            <a:chExt cx="1828800" cy="960120"/>
          </a:xfrm>
        </p:grpSpPr>
        <p:sp>
          <p:nvSpPr>
            <p:cNvPr id="890" name=""/>
            <p:cNvSpPr/>
            <p:nvPr/>
          </p:nvSpPr>
          <p:spPr>
            <a:xfrm>
              <a:off x="7032600" y="207324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011800" y="1646280"/>
              <a:ext cx="68436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2" name="agentred" descr=""/>
            <p:cNvPicPr/>
            <p:nvPr/>
          </p:nvPicPr>
          <p:blipFill>
            <a:blip r:embed="rId5"/>
            <a:stretch/>
          </p:blipFill>
          <p:spPr>
            <a:xfrm>
              <a:off x="7254720" y="211284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3" name=""/>
          <p:cNvSpPr/>
          <p:nvPr/>
        </p:nvSpPr>
        <p:spPr>
          <a:xfrm flipV="1">
            <a:off x="4594320" y="2565000"/>
            <a:ext cx="2644560" cy="2421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583160" y="5041800"/>
            <a:ext cx="2611440" cy="3938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373720" y="4140360"/>
            <a:ext cx="20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. Submit search ag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. Collect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7710480" y="2049480"/>
            <a:ext cx="547560" cy="247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7664400" y="5243040"/>
            <a:ext cx="538200" cy="25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046320" y="3198960"/>
            <a:ext cx="197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. Submit proxy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31200" y="57103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a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28520" y="4062240"/>
            <a:ext cx="163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9. Display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0.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913440" y="900000"/>
            <a:ext cx="223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. Query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. Return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381800" y="3189240"/>
            <a:ext cx="171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ardcode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 and document 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E5EB-71CC-48B2-9AEE-2125060D50C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2530080" y="76320"/>
            <a:ext cx="602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: Talking to the user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084400" y="1025640"/>
            <a:ext cx="6838920" cy="5141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begi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register with the agent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s -nonewline “Enter a query: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s stdin 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proxy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bald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collections {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muir tiog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me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loc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ubmit $proxy \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ubmit the proxy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proclist {proxyAgent searchAgent}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varlist {me query collections}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script {proxyAgent $me $query $collections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receive the query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receive code results -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s “Query results: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s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80720" y="3201840"/>
            <a:ext cx="18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nt-en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71360" y="5383080"/>
            <a:ext cx="187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Note: Position of some comments is invalid Tcl syntax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E9E4-65B0-4DAF-8D60-C481C6135AA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2085840" y="75960"/>
            <a:ext cx="66852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: Sitting in the middle  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984320" y="925560"/>
            <a:ext cx="6883560" cy="56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proxyAgent {parent query collections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loba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numCollections [llength $collection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me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loc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machine $collections {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ubmit searc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ubmit $machine \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ag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proclist searchAgent -varlist {me query}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script {searchAgent $me $que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results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{set i 0} {i &lt; $numCollections} {incr i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collect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receive code partialResults -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merge into results so f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$parent 0 $result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35080" y="2766960"/>
            <a:ext cx="1736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submitted by the front-end 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66680" y="5505480"/>
            <a:ext cx="187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Note: Position of some comments is invalid Tcl synta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FC6F-1BA6-47FD-90C0-08791C7930C4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Introduction to Agen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300320"/>
            <a:ext cx="77724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ent” is an old concept in A.I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sky’s book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ociety of Mind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1980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ahn and Cerf “Knobots” at CN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 “agent” is a system that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s long-lived (persistent),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as goals, sensors, and effectors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cides autonomously what actions to take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 maximize progress toward its time-varying goal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403A-ABB8-4311-A198-84CE129787E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019240" y="76320"/>
            <a:ext cx="6848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TR: Searching the collections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984320" y="1014480"/>
            <a:ext cx="6883560" cy="5141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searchAgent {parent query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loba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the query to the database interface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and receive the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“$agent(local-server) TR”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  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 “keyword-query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receive code results -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in a more complex version of the TR, us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abstract of the most relevant document a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new query, compare the two result list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the results and st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$parent 0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35080" y="2733840"/>
            <a:ext cx="1736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submitted by the proxy 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E480-71BB-4632-81EC-02C71BC7886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: Step by step (redux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15" name="smart" descr=""/>
          <p:cNvPicPr/>
          <p:nvPr/>
        </p:nvPicPr>
        <p:blipFill>
          <a:blip r:embed="rId1"/>
          <a:stretch/>
        </p:blipFill>
        <p:spPr>
          <a:xfrm>
            <a:off x="1041480" y="1282680"/>
            <a:ext cx="3139920" cy="1805040"/>
          </a:xfrm>
          <a:prstGeom prst="rect">
            <a:avLst/>
          </a:prstGeom>
          <a:ln w="0">
            <a:noFill/>
          </a:ln>
        </p:spPr>
      </p:pic>
      <p:pic>
        <p:nvPicPr>
          <p:cNvPr id="916" name="list" descr=""/>
          <p:cNvPicPr/>
          <p:nvPr/>
        </p:nvPicPr>
        <p:blipFill>
          <a:blip r:embed="rId2"/>
          <a:stretch/>
        </p:blipFill>
        <p:spPr>
          <a:xfrm>
            <a:off x="227160" y="2503440"/>
            <a:ext cx="1782720" cy="1785960"/>
          </a:xfrm>
          <a:prstGeom prst="rect">
            <a:avLst/>
          </a:prstGeom>
          <a:ln w="0">
            <a:noFill/>
          </a:ln>
        </p:spPr>
      </p:pic>
      <p:sp>
        <p:nvSpPr>
          <p:cNvPr id="917" name=""/>
          <p:cNvSpPr/>
          <p:nvPr/>
        </p:nvSpPr>
        <p:spPr>
          <a:xfrm>
            <a:off x="3668760" y="53863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agentred" descr=""/>
          <p:cNvPicPr/>
          <p:nvPr/>
        </p:nvPicPr>
        <p:blipFill>
          <a:blip r:embed="rId3"/>
          <a:stretch/>
        </p:blipFill>
        <p:spPr>
          <a:xfrm>
            <a:off x="3919680" y="515772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>
            <a:off x="2106720" y="2665440"/>
            <a:ext cx="533160" cy="53352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565360" y="3201840"/>
            <a:ext cx="1344600" cy="193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178160" y="1738440"/>
            <a:ext cx="243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1. 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2. gets stdin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181160" y="564984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8. agent_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028960" y="4332240"/>
            <a:ext cx="1847880" cy="1414440"/>
          </a:xfrm>
          <a:custGeom>
            <a:avLst/>
            <a:gdLst/>
            <a:ahLst/>
            <a:rect l="l" t="t" r="r" b="b"/>
            <a:pathLst>
              <a:path w="1270" h="453">
                <a:moveTo>
                  <a:pt x="1270" y="297"/>
                </a:moveTo>
                <a:cubicBezTo>
                  <a:pt x="1009" y="375"/>
                  <a:pt x="748" y="453"/>
                  <a:pt x="536" y="403"/>
                </a:cubicBezTo>
                <a:cubicBezTo>
                  <a:pt x="324" y="353"/>
                  <a:pt x="89" y="67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7026120" y="5091120"/>
            <a:ext cx="1828800" cy="969840"/>
            <a:chOff x="7026120" y="5091120"/>
            <a:chExt cx="1828800" cy="969840"/>
          </a:xfrm>
        </p:grpSpPr>
        <p:sp>
          <p:nvSpPr>
            <p:cNvPr id="925" name=""/>
            <p:cNvSpPr/>
            <p:nvPr/>
          </p:nvSpPr>
          <p:spPr>
            <a:xfrm>
              <a:off x="7026120" y="552780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985160" y="509112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7" name="agentred" descr=""/>
            <p:cNvPicPr/>
            <p:nvPr/>
          </p:nvPicPr>
          <p:blipFill>
            <a:blip r:embed="rId4"/>
            <a:stretch/>
          </p:blipFill>
          <p:spPr>
            <a:xfrm>
              <a:off x="7227720" y="556740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8" name=""/>
          <p:cNvGrpSpPr/>
          <p:nvPr/>
        </p:nvGrpSpPr>
        <p:grpSpPr>
          <a:xfrm>
            <a:off x="7043760" y="1901880"/>
            <a:ext cx="1828800" cy="960120"/>
            <a:chOff x="7043760" y="1901880"/>
            <a:chExt cx="1828800" cy="960120"/>
          </a:xfrm>
        </p:grpSpPr>
        <p:sp>
          <p:nvSpPr>
            <p:cNvPr id="929" name=""/>
            <p:cNvSpPr/>
            <p:nvPr/>
          </p:nvSpPr>
          <p:spPr>
            <a:xfrm>
              <a:off x="7043760" y="232884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022960" y="1901880"/>
              <a:ext cx="68436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1" name="agentred" descr=""/>
            <p:cNvPicPr/>
            <p:nvPr/>
          </p:nvPicPr>
          <p:blipFill>
            <a:blip r:embed="rId5"/>
            <a:stretch/>
          </p:blipFill>
          <p:spPr>
            <a:xfrm>
              <a:off x="7265880" y="236844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2" name=""/>
          <p:cNvSpPr/>
          <p:nvPr/>
        </p:nvSpPr>
        <p:spPr>
          <a:xfrm flipV="1">
            <a:off x="4605480" y="2820600"/>
            <a:ext cx="2644560" cy="2421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594320" y="5297400"/>
            <a:ext cx="2611440" cy="3938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7721640" y="2305080"/>
            <a:ext cx="547560" cy="247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7675560" y="5498640"/>
            <a:ext cx="538200" cy="25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790720" y="3138480"/>
            <a:ext cx="24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3. agent_submit proxy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654960" y="968400"/>
            <a:ext cx="248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 agent_sen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agent_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6. agent_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84880" y="4398840"/>
            <a:ext cx="249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4. agent_submit search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7. agent_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11240" y="4311720"/>
            <a:ext cx="218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9. puts $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10. 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266D-A644-4D04-8D95-3E6995EE52AF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pplication: e-commerc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41" name="" descr=""/>
          <p:cNvPicPr/>
          <p:nvPr/>
        </p:nvPicPr>
        <p:blipFill>
          <a:blip r:embed="rId1"/>
          <a:stretch/>
        </p:blipFill>
        <p:spPr>
          <a:xfrm>
            <a:off x="6737400" y="3543480"/>
            <a:ext cx="1915920" cy="2346120"/>
          </a:xfrm>
          <a:prstGeom prst="rect">
            <a:avLst/>
          </a:prstGeom>
          <a:ln w="0">
            <a:noFill/>
          </a:ln>
        </p:spPr>
      </p:pic>
      <p:sp>
        <p:nvSpPr>
          <p:cNvPr id="942" name=""/>
          <p:cNvSpPr/>
          <p:nvPr/>
        </p:nvSpPr>
        <p:spPr>
          <a:xfrm>
            <a:off x="5708520" y="3181320"/>
            <a:ext cx="2719440" cy="7351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5638680" y="4700520"/>
            <a:ext cx="2814840" cy="1271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5721480" y="4546440"/>
            <a:ext cx="1388880" cy="34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H="1" flipV="1">
            <a:off x="5697000" y="3596760"/>
            <a:ext cx="1460520" cy="117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6" name="" descr=""/>
          <p:cNvPicPr/>
          <p:nvPr/>
        </p:nvPicPr>
        <p:blipFill>
          <a:blip r:embed="rId2"/>
          <a:stretch/>
        </p:blipFill>
        <p:spPr>
          <a:xfrm>
            <a:off x="930240" y="3152880"/>
            <a:ext cx="4778280" cy="2874960"/>
          </a:xfrm>
          <a:prstGeom prst="rect">
            <a:avLst/>
          </a:prstGeom>
          <a:ln w="0">
            <a:noFill/>
          </a:ln>
        </p:spPr>
      </p:pic>
      <p:sp>
        <p:nvSpPr>
          <p:cNvPr id="947" name=""/>
          <p:cNvSpPr/>
          <p:nvPr/>
        </p:nvSpPr>
        <p:spPr>
          <a:xfrm>
            <a:off x="1352520" y="3370320"/>
            <a:ext cx="488880" cy="488880"/>
          </a:xfrm>
          <a:prstGeom prst="ellipse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1649520" y="2633760"/>
            <a:ext cx="2351160" cy="73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53920" y="1293840"/>
            <a:ext cx="997200" cy="45072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243160" y="1009800"/>
            <a:ext cx="961920" cy="4618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b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226040" y="1008000"/>
            <a:ext cx="1103040" cy="53496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nd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386400" y="2379600"/>
            <a:ext cx="1779840" cy="4399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ellow p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047000" y="1076400"/>
            <a:ext cx="1103400" cy="53496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ndo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257800" y="2600280"/>
            <a:ext cx="10936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4629240" y="1542600"/>
            <a:ext cx="129960" cy="808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5116680" y="1436760"/>
            <a:ext cx="1944360" cy="10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887400" y="3379680"/>
            <a:ext cx="488880" cy="488880"/>
          </a:xfrm>
          <a:prstGeom prst="ellipse">
            <a:avLst/>
          </a:prstGeom>
          <a:noFill/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 flipV="1">
            <a:off x="961920" y="2825640"/>
            <a:ext cx="177840" cy="5572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V="1">
            <a:off x="890640" y="1744200"/>
            <a:ext cx="272880" cy="6526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914400" y="1436400"/>
            <a:ext cx="1530360" cy="9730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901800" y="1375920"/>
            <a:ext cx="3348000" cy="10335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3215880" y="1222200"/>
            <a:ext cx="99684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000680" y="2351160"/>
            <a:ext cx="1234800" cy="498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97000" y="2421000"/>
            <a:ext cx="1257120" cy="41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34BC-6928-4039-B001-35ED3DD4DB2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030760" y="2057400"/>
            <a:ext cx="506664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1749"/>
              </a:spcBef>
              <a:spcAft>
                <a:spcPts val="876"/>
              </a:spcAft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search: Choose when to 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search: Othe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The 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000080" y="2673360"/>
            <a:ext cx="990720" cy="609480"/>
          </a:xfrm>
          <a:prstGeom prst="rightArrow">
            <a:avLst>
              <a:gd name="adj1" fmla="val 50000"/>
              <a:gd name="adj2" fmla="val 4063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7CF1-B91E-4CCC-A713-7F127602537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74480" y="76320"/>
            <a:ext cx="82198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Multiple queries:  10 Mb/s Ethernet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69" name="queries-ethernet" descr=""/>
          <p:cNvPicPr/>
          <p:nvPr/>
        </p:nvPicPr>
        <p:blipFill>
          <a:blip r:embed="rId1"/>
          <a:stretch/>
        </p:blipFill>
        <p:spPr>
          <a:xfrm>
            <a:off x="1157400" y="1133640"/>
            <a:ext cx="682920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A187-8FE0-4AFD-B9A8-09F8428B1B1A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Multiple queries: 1 Mb/s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71" name="queries-roamabout" descr=""/>
          <p:cNvPicPr/>
          <p:nvPr/>
        </p:nvPicPr>
        <p:blipFill>
          <a:blip r:embed="rId1"/>
          <a:stretch/>
        </p:blipFill>
        <p:spPr>
          <a:xfrm>
            <a:off x="1157400" y="1100160"/>
            <a:ext cx="682920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8C0F-4B05-456D-BC7F-FA249ED3FE63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Multiple queries: 0.1 Mb/s modem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73" name="queries-modem" descr=""/>
          <p:cNvPicPr/>
          <p:nvPr/>
        </p:nvPicPr>
        <p:blipFill>
          <a:blip r:embed="rId1"/>
          <a:stretch/>
        </p:blipFill>
        <p:spPr>
          <a:xfrm>
            <a:off x="1157400" y="1122480"/>
            <a:ext cx="682920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9420-AF0E-411F-86E0-0C754C5A971E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Base performanc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75" name="base-roamabout" descr=""/>
          <p:cNvPicPr/>
          <p:nvPr/>
        </p:nvPicPr>
        <p:blipFill>
          <a:blip r:embed="rId1"/>
          <a:stretch/>
        </p:blipFill>
        <p:spPr>
          <a:xfrm>
            <a:off x="1122480" y="1112760"/>
            <a:ext cx="689616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5079-4E22-4AB1-8663-7C4E382DE82C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What lowers performance?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291760" y="3306600"/>
            <a:ext cx="50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 All messages through server (plus 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241800" y="1082520"/>
            <a:ext cx="1233360" cy="6606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714240" y="2152800"/>
            <a:ext cx="1781280" cy="715320"/>
            <a:chOff x="714240" y="2152800"/>
            <a:chExt cx="1781280" cy="715320"/>
          </a:xfrm>
        </p:grpSpPr>
        <p:sp>
          <p:nvSpPr>
            <p:cNvPr id="980" name=""/>
            <p:cNvSpPr/>
            <p:nvPr/>
          </p:nvSpPr>
          <p:spPr>
            <a:xfrm>
              <a:off x="714240" y="2454120"/>
              <a:ext cx="1781280" cy="414000"/>
            </a:xfrm>
            <a:prstGeom prst="parallelogram">
              <a:avLst>
                <a:gd name="adj" fmla="val 147782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1" name="agentred" descr=""/>
            <p:cNvPicPr/>
            <p:nvPr/>
          </p:nvPicPr>
          <p:blipFill>
            <a:blip r:embed="rId1"/>
            <a:stretch/>
          </p:blipFill>
          <p:spPr>
            <a:xfrm>
              <a:off x="1371240" y="2152800"/>
              <a:ext cx="509760" cy="52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2" name=""/>
          <p:cNvGrpSpPr/>
          <p:nvPr/>
        </p:nvGrpSpPr>
        <p:grpSpPr>
          <a:xfrm>
            <a:off x="2730600" y="1401840"/>
            <a:ext cx="383760" cy="183960"/>
            <a:chOff x="2730600" y="1401840"/>
            <a:chExt cx="383760" cy="183960"/>
          </a:xfrm>
        </p:grpSpPr>
        <p:sp>
          <p:nvSpPr>
            <p:cNvPr id="983" name=""/>
            <p:cNvSpPr/>
            <p:nvPr/>
          </p:nvSpPr>
          <p:spPr>
            <a:xfrm>
              <a:off x="2733480" y="1401840"/>
              <a:ext cx="380880" cy="183960"/>
            </a:xfrm>
            <a:prstGeom prst="rect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4" name=""/>
            <p:cNvGrpSpPr/>
            <p:nvPr/>
          </p:nvGrpSpPr>
          <p:grpSpPr>
            <a:xfrm>
              <a:off x="2730600" y="1404000"/>
              <a:ext cx="383400" cy="82440"/>
              <a:chOff x="2730600" y="1404000"/>
              <a:chExt cx="383400" cy="82440"/>
            </a:xfrm>
          </p:grpSpPr>
          <p:sp>
            <p:nvSpPr>
              <p:cNvPr id="985" name=""/>
              <p:cNvSpPr/>
              <p:nvPr/>
            </p:nvSpPr>
            <p:spPr>
              <a:xfrm>
                <a:off x="2730600" y="1409400"/>
                <a:ext cx="191880" cy="77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H="1">
                <a:off x="2922120" y="1404000"/>
                <a:ext cx="191880" cy="82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7" name=""/>
          <p:cNvGrpSpPr/>
          <p:nvPr/>
        </p:nvGrpSpPr>
        <p:grpSpPr>
          <a:xfrm>
            <a:off x="2870280" y="2152800"/>
            <a:ext cx="1780920" cy="715320"/>
            <a:chOff x="2870280" y="2152800"/>
            <a:chExt cx="1780920" cy="715320"/>
          </a:xfrm>
        </p:grpSpPr>
        <p:sp>
          <p:nvSpPr>
            <p:cNvPr id="988" name=""/>
            <p:cNvSpPr/>
            <p:nvPr/>
          </p:nvSpPr>
          <p:spPr>
            <a:xfrm>
              <a:off x="2870280" y="2454120"/>
              <a:ext cx="1780920" cy="414000"/>
            </a:xfrm>
            <a:prstGeom prst="parallelogram">
              <a:avLst>
                <a:gd name="adj" fmla="val 147752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9" name="agentred" descr=""/>
            <p:cNvPicPr/>
            <p:nvPr/>
          </p:nvPicPr>
          <p:blipFill>
            <a:blip r:embed="rId2"/>
            <a:stretch/>
          </p:blipFill>
          <p:spPr>
            <a:xfrm>
              <a:off x="3526920" y="2152800"/>
              <a:ext cx="509400" cy="52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0" name=""/>
          <p:cNvSpPr/>
          <p:nvPr/>
        </p:nvSpPr>
        <p:spPr>
          <a:xfrm flipV="1">
            <a:off x="1900080" y="1669680"/>
            <a:ext cx="1289160" cy="536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782880" y="1771560"/>
            <a:ext cx="0" cy="346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846000" y="2827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981160" y="282744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027080" y="111132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214720" y="1703520"/>
            <a:ext cx="223560" cy="2808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911920" y="2454120"/>
            <a:ext cx="3036960" cy="414360"/>
          </a:xfrm>
          <a:prstGeom prst="parallelogram">
            <a:avLst>
              <a:gd name="adj" fmla="val 14634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7" name="agentred" descr=""/>
          <p:cNvPicPr/>
          <p:nvPr/>
        </p:nvPicPr>
        <p:blipFill>
          <a:blip r:embed="rId3"/>
          <a:stretch/>
        </p:blipFill>
        <p:spPr>
          <a:xfrm>
            <a:off x="6540480" y="2239920"/>
            <a:ext cx="509760" cy="527040"/>
          </a:xfrm>
          <a:prstGeom prst="rect">
            <a:avLst/>
          </a:prstGeom>
          <a:ln w="0">
            <a:noFill/>
          </a:ln>
        </p:spPr>
      </p:pic>
      <p:pic>
        <p:nvPicPr>
          <p:cNvPr id="998" name="agentred" descr=""/>
          <p:cNvPicPr/>
          <p:nvPr/>
        </p:nvPicPr>
        <p:blipFill>
          <a:blip r:embed="rId4"/>
          <a:stretch/>
        </p:blipFill>
        <p:spPr>
          <a:xfrm>
            <a:off x="7658280" y="2238480"/>
            <a:ext cx="509400" cy="527040"/>
          </a:xfrm>
          <a:prstGeom prst="rect">
            <a:avLst/>
          </a:prstGeom>
          <a:ln w="0">
            <a:noFill/>
          </a:ln>
        </p:spPr>
      </p:pic>
      <p:sp>
        <p:nvSpPr>
          <p:cNvPr id="999" name=""/>
          <p:cNvSpPr/>
          <p:nvPr/>
        </p:nvSpPr>
        <p:spPr>
          <a:xfrm>
            <a:off x="6846840" y="1082520"/>
            <a:ext cx="1233360" cy="6606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624360" y="2827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6810480" y="1782360"/>
            <a:ext cx="336600" cy="43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7634160" y="1789200"/>
            <a:ext cx="236520" cy="414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6446880" y="1835280"/>
            <a:ext cx="383760" cy="183960"/>
            <a:chOff x="6446880" y="1835280"/>
            <a:chExt cx="383760" cy="183960"/>
          </a:xfrm>
        </p:grpSpPr>
        <p:sp>
          <p:nvSpPr>
            <p:cNvPr id="1004" name=""/>
            <p:cNvSpPr/>
            <p:nvPr/>
          </p:nvSpPr>
          <p:spPr>
            <a:xfrm>
              <a:off x="6449760" y="1835280"/>
              <a:ext cx="380880" cy="183960"/>
            </a:xfrm>
            <a:prstGeom prst="rect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5" name=""/>
            <p:cNvGrpSpPr/>
            <p:nvPr/>
          </p:nvGrpSpPr>
          <p:grpSpPr>
            <a:xfrm>
              <a:off x="6446880" y="1837440"/>
              <a:ext cx="383400" cy="82440"/>
              <a:chOff x="6446880" y="1837440"/>
              <a:chExt cx="383400" cy="82440"/>
            </a:xfrm>
          </p:grpSpPr>
          <p:sp>
            <p:nvSpPr>
              <p:cNvPr id="1006" name=""/>
              <p:cNvSpPr/>
              <p:nvPr/>
            </p:nvSpPr>
            <p:spPr>
              <a:xfrm>
                <a:off x="6446880" y="1842840"/>
                <a:ext cx="191880" cy="77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H="1">
                <a:off x="6638400" y="1837440"/>
                <a:ext cx="191880" cy="82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8" name=""/>
          <p:cNvGrpSpPr/>
          <p:nvPr/>
        </p:nvGrpSpPr>
        <p:grpSpPr>
          <a:xfrm>
            <a:off x="1687680" y="4119480"/>
            <a:ext cx="6292800" cy="1655640"/>
            <a:chOff x="1687680" y="4119480"/>
            <a:chExt cx="6292800" cy="1655640"/>
          </a:xfrm>
        </p:grpSpPr>
        <p:grpSp>
          <p:nvGrpSpPr>
            <p:cNvPr id="1009" name=""/>
            <p:cNvGrpSpPr/>
            <p:nvPr/>
          </p:nvGrpSpPr>
          <p:grpSpPr>
            <a:xfrm>
              <a:off x="4943880" y="4701960"/>
              <a:ext cx="3036600" cy="1073160"/>
              <a:chOff x="4943880" y="4701960"/>
              <a:chExt cx="3036600" cy="1073160"/>
            </a:xfrm>
          </p:grpSpPr>
          <p:sp>
            <p:nvSpPr>
              <p:cNvPr id="1010" name=""/>
              <p:cNvSpPr/>
              <p:nvPr/>
            </p:nvSpPr>
            <p:spPr>
              <a:xfrm>
                <a:off x="4943880" y="5360760"/>
                <a:ext cx="3036600" cy="414360"/>
              </a:xfrm>
              <a:prstGeom prst="parallelogram">
                <a:avLst>
                  <a:gd name="adj" fmla="val 100766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362920" y="4707000"/>
                <a:ext cx="1233360" cy="963360"/>
              </a:xfrm>
              <a:prstGeom prst="cube">
                <a:avLst>
                  <a:gd name="adj" fmla="val 23018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378840" y="4701960"/>
                <a:ext cx="1233360" cy="963720"/>
              </a:xfrm>
              <a:prstGeom prst="cube">
                <a:avLst>
                  <a:gd name="adj" fmla="val 23018"/>
                </a:avLst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c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ter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1687680" y="4890960"/>
              <a:ext cx="1781280" cy="695160"/>
              <a:chOff x="1687680" y="4890960"/>
              <a:chExt cx="1781280" cy="695160"/>
            </a:xfrm>
          </p:grpSpPr>
          <p:sp>
            <p:nvSpPr>
              <p:cNvPr id="1014" name=""/>
              <p:cNvSpPr/>
              <p:nvPr/>
            </p:nvSpPr>
            <p:spPr>
              <a:xfrm>
                <a:off x="1687680" y="5171760"/>
                <a:ext cx="1781280" cy="414360"/>
              </a:xfrm>
              <a:prstGeom prst="parallelogram">
                <a:avLst>
                  <a:gd name="adj" fmla="val 14765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15" name="agentred" descr=""/>
              <p:cNvPicPr/>
              <p:nvPr/>
            </p:nvPicPr>
            <p:blipFill>
              <a:blip r:embed="rId5"/>
              <a:stretch/>
            </p:blipFill>
            <p:spPr>
              <a:xfrm>
                <a:off x="2332440" y="4890960"/>
                <a:ext cx="50940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16" name=""/>
            <p:cNvSpPr/>
            <p:nvPr/>
          </p:nvSpPr>
          <p:spPr>
            <a:xfrm>
              <a:off x="2876760" y="5076720"/>
              <a:ext cx="24544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319560" y="4221000"/>
              <a:ext cx="123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conn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942000" y="4840200"/>
              <a:ext cx="133200" cy="223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727800" y="5065560"/>
              <a:ext cx="76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u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902560" y="4119480"/>
              <a:ext cx="1054080" cy="709560"/>
            </a:xfrm>
            <a:custGeom>
              <a:avLst/>
              <a:gdLst/>
              <a:ahLst/>
              <a:rect l="l" t="t" r="r" b="b"/>
              <a:pathLst>
                <a:path w="657" h="447">
                  <a:moveTo>
                    <a:pt x="0" y="447"/>
                  </a:moveTo>
                  <a:cubicBezTo>
                    <a:pt x="164" y="225"/>
                    <a:pt x="329" y="4"/>
                    <a:pt x="438" y="2"/>
                  </a:cubicBezTo>
                  <a:cubicBezTo>
                    <a:pt x="547" y="0"/>
                    <a:pt x="602" y="216"/>
                    <a:pt x="657" y="433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2496960" y="5856120"/>
            <a:ext cx="468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 Interpreter initialization (plus 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20320" y="3665520"/>
            <a:ext cx="1198800" cy="1008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lv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C938-A0D6-4092-9E27-FB0C21BEC688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’Agents: Hot Interpreter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103560" y="5386320"/>
            <a:ext cx="2992320" cy="8622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401760" y="2459160"/>
            <a:ext cx="2384280" cy="1321920"/>
            <a:chOff x="401760" y="2459160"/>
            <a:chExt cx="2384280" cy="1321920"/>
          </a:xfrm>
        </p:grpSpPr>
        <p:sp>
          <p:nvSpPr>
            <p:cNvPr id="1026" name=""/>
            <p:cNvSpPr/>
            <p:nvPr/>
          </p:nvSpPr>
          <p:spPr>
            <a:xfrm>
              <a:off x="401760" y="2863800"/>
              <a:ext cx="2384280" cy="917280"/>
            </a:xfrm>
            <a:prstGeom prst="cube">
              <a:avLst>
                <a:gd name="adj" fmla="val 18569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23920" indent="-22392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7" name="agentred" descr=""/>
            <p:cNvPicPr/>
            <p:nvPr/>
          </p:nvPicPr>
          <p:blipFill>
            <a:blip r:embed="rId1"/>
            <a:stretch/>
          </p:blipFill>
          <p:spPr>
            <a:xfrm>
              <a:off x="202248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agentred" descr=""/>
            <p:cNvPicPr/>
            <p:nvPr/>
          </p:nvPicPr>
          <p:blipFill>
            <a:blip r:embed="rId2"/>
            <a:stretch/>
          </p:blipFill>
          <p:spPr>
            <a:xfrm>
              <a:off x="156852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9" name="agentred" descr=""/>
            <p:cNvPicPr/>
            <p:nvPr/>
          </p:nvPicPr>
          <p:blipFill>
            <a:blip r:embed="rId3"/>
            <a:stretch/>
          </p:blipFill>
          <p:spPr>
            <a:xfrm>
              <a:off x="110484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0" name="agentred" descr=""/>
            <p:cNvPicPr/>
            <p:nvPr/>
          </p:nvPicPr>
          <p:blipFill>
            <a:blip r:embed="rId4"/>
            <a:stretch/>
          </p:blipFill>
          <p:spPr>
            <a:xfrm>
              <a:off x="64152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1" name=""/>
            <p:cNvGrpSpPr/>
            <p:nvPr/>
          </p:nvGrpSpPr>
          <p:grpSpPr>
            <a:xfrm>
              <a:off x="807840" y="3163680"/>
              <a:ext cx="101880" cy="493560"/>
              <a:chOff x="807840" y="3163680"/>
              <a:chExt cx="101880" cy="493560"/>
            </a:xfrm>
          </p:grpSpPr>
          <p:sp>
            <p:nvSpPr>
              <p:cNvPr id="1032" name=""/>
              <p:cNvSpPr/>
              <p:nvPr/>
            </p:nvSpPr>
            <p:spPr>
              <a:xfrm flipH="1">
                <a:off x="808200" y="3163680"/>
                <a:ext cx="55440" cy="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808200" y="3254040"/>
                <a:ext cx="90360" cy="8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H="1">
                <a:off x="808200" y="3342960"/>
                <a:ext cx="101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08200" y="3455640"/>
                <a:ext cx="90360" cy="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H="1">
                <a:off x="807840" y="3544560"/>
                <a:ext cx="9036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590400" y="3214440"/>
              <a:ext cx="101880" cy="493560"/>
              <a:chOff x="590400" y="3214440"/>
              <a:chExt cx="101880" cy="493560"/>
            </a:xfrm>
          </p:grpSpPr>
          <p:sp>
            <p:nvSpPr>
              <p:cNvPr id="1038" name=""/>
              <p:cNvSpPr/>
              <p:nvPr/>
            </p:nvSpPr>
            <p:spPr>
              <a:xfrm flipH="1">
                <a:off x="590760" y="3214440"/>
                <a:ext cx="55440" cy="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90760" y="3304800"/>
                <a:ext cx="90360" cy="8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>
                <a:off x="590760" y="3393720"/>
                <a:ext cx="101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90760" y="3506400"/>
                <a:ext cx="90360" cy="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H="1">
                <a:off x="590400" y="3595320"/>
                <a:ext cx="9036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1068120" y="3222360"/>
              <a:ext cx="101880" cy="493560"/>
              <a:chOff x="1068120" y="3222360"/>
              <a:chExt cx="101880" cy="493560"/>
            </a:xfrm>
          </p:grpSpPr>
          <p:sp>
            <p:nvSpPr>
              <p:cNvPr id="1044" name=""/>
              <p:cNvSpPr/>
              <p:nvPr/>
            </p:nvSpPr>
            <p:spPr>
              <a:xfrm flipH="1">
                <a:off x="1068480" y="3222360"/>
                <a:ext cx="55440" cy="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068480" y="3312720"/>
                <a:ext cx="90360" cy="8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flipH="1">
                <a:off x="1068480" y="3401640"/>
                <a:ext cx="101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068480" y="3514320"/>
                <a:ext cx="90360" cy="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>
                <a:off x="1068120" y="3603240"/>
                <a:ext cx="9036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1387080" y="3138480"/>
              <a:ext cx="101880" cy="492840"/>
              <a:chOff x="1387080" y="3138480"/>
              <a:chExt cx="101880" cy="492840"/>
            </a:xfrm>
          </p:grpSpPr>
          <p:sp>
            <p:nvSpPr>
              <p:cNvPr id="1050" name=""/>
              <p:cNvSpPr/>
              <p:nvPr/>
            </p:nvSpPr>
            <p:spPr>
              <a:xfrm flipH="1">
                <a:off x="1387440" y="313848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387440" y="322848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H="1">
                <a:off x="1387440" y="331740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387440" y="343008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flipH="1">
                <a:off x="1387080" y="351900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1653840" y="3235320"/>
              <a:ext cx="101880" cy="492840"/>
              <a:chOff x="1653840" y="3235320"/>
              <a:chExt cx="101880" cy="492840"/>
            </a:xfrm>
          </p:grpSpPr>
          <p:sp>
            <p:nvSpPr>
              <p:cNvPr id="1056" name=""/>
              <p:cNvSpPr/>
              <p:nvPr/>
            </p:nvSpPr>
            <p:spPr>
              <a:xfrm flipH="1">
                <a:off x="1654200" y="323532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654200" y="332532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H="1">
                <a:off x="1654200" y="341424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1654200" y="352692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H="1">
                <a:off x="1653840" y="361584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1895040" y="3119400"/>
              <a:ext cx="101880" cy="492840"/>
              <a:chOff x="1895040" y="3119400"/>
              <a:chExt cx="101880" cy="492840"/>
            </a:xfrm>
          </p:grpSpPr>
          <p:sp>
            <p:nvSpPr>
              <p:cNvPr id="1062" name=""/>
              <p:cNvSpPr/>
              <p:nvPr/>
            </p:nvSpPr>
            <p:spPr>
              <a:xfrm flipH="1">
                <a:off x="1895400" y="311940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895400" y="320940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H="1">
                <a:off x="1895400" y="329832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1895400" y="341100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H="1">
                <a:off x="1895040" y="349992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2158560" y="3181320"/>
              <a:ext cx="101880" cy="492840"/>
              <a:chOff x="2158560" y="3181320"/>
              <a:chExt cx="101880" cy="492840"/>
            </a:xfrm>
          </p:grpSpPr>
          <p:sp>
            <p:nvSpPr>
              <p:cNvPr id="1068" name=""/>
              <p:cNvSpPr/>
              <p:nvPr/>
            </p:nvSpPr>
            <p:spPr>
              <a:xfrm flipH="1">
                <a:off x="2158920" y="318132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158920" y="327132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flipH="1">
                <a:off x="2158920" y="336024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158920" y="347292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H="1">
                <a:off x="2158560" y="356184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3" name=""/>
          <p:cNvSpPr/>
          <p:nvPr/>
        </p:nvSpPr>
        <p:spPr>
          <a:xfrm>
            <a:off x="1014840" y="2060640"/>
            <a:ext cx="11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Java 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4" name=""/>
          <p:cNvGrpSpPr/>
          <p:nvPr/>
        </p:nvGrpSpPr>
        <p:grpSpPr>
          <a:xfrm>
            <a:off x="3392640" y="950760"/>
            <a:ext cx="2330280" cy="3620880"/>
            <a:chOff x="3392640" y="950760"/>
            <a:chExt cx="2330280" cy="3620880"/>
          </a:xfrm>
        </p:grpSpPr>
        <p:grpSp>
          <p:nvGrpSpPr>
            <p:cNvPr id="1075" name=""/>
            <p:cNvGrpSpPr/>
            <p:nvPr/>
          </p:nvGrpSpPr>
          <p:grpSpPr>
            <a:xfrm>
              <a:off x="3392640" y="1669680"/>
              <a:ext cx="2330280" cy="2901960"/>
              <a:chOff x="3392640" y="1669680"/>
              <a:chExt cx="2330280" cy="2901960"/>
            </a:xfrm>
          </p:grpSpPr>
          <p:grpSp>
            <p:nvGrpSpPr>
              <p:cNvPr id="1076" name=""/>
              <p:cNvGrpSpPr/>
              <p:nvPr/>
            </p:nvGrpSpPr>
            <p:grpSpPr>
              <a:xfrm>
                <a:off x="3620880" y="1798200"/>
                <a:ext cx="1907640" cy="2630160"/>
                <a:chOff x="3620880" y="1798200"/>
                <a:chExt cx="1907640" cy="2630160"/>
              </a:xfrm>
            </p:grpSpPr>
            <p:sp>
              <p:nvSpPr>
                <p:cNvPr id="1077" name=""/>
                <p:cNvSpPr/>
                <p:nvPr/>
              </p:nvSpPr>
              <p:spPr>
                <a:xfrm>
                  <a:off x="4668480" y="220788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8" name=""/>
                <p:cNvGrpSpPr/>
                <p:nvPr/>
              </p:nvGrpSpPr>
              <p:grpSpPr>
                <a:xfrm>
                  <a:off x="3620880" y="3546000"/>
                  <a:ext cx="1907640" cy="882360"/>
                  <a:chOff x="3620880" y="3546000"/>
                  <a:chExt cx="1907640" cy="882360"/>
                </a:xfrm>
              </p:grpSpPr>
              <p:sp>
                <p:nvSpPr>
                  <p:cNvPr id="1079" name=""/>
                  <p:cNvSpPr/>
                  <p:nvPr/>
                </p:nvSpPr>
                <p:spPr>
                  <a:xfrm>
                    <a:off x="4668480" y="354600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3620880" y="354600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81" name=""/>
                <p:cNvSpPr/>
                <p:nvPr/>
              </p:nvSpPr>
              <p:spPr>
                <a:xfrm>
                  <a:off x="3620880" y="220788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082" name="agentred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833280" y="181260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3" name="agentred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871520" y="314136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4" name="agentred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812760" y="3158640"/>
                  <a:ext cx="46296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5" name="agentred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872960" y="179820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86" name=""/>
                <p:cNvGrpSpPr/>
                <p:nvPr/>
              </p:nvGrpSpPr>
              <p:grpSpPr>
                <a:xfrm>
                  <a:off x="3947400" y="2482560"/>
                  <a:ext cx="101160" cy="493560"/>
                  <a:chOff x="3947400" y="2482560"/>
                  <a:chExt cx="101160" cy="493560"/>
                </a:xfrm>
              </p:grpSpPr>
              <p:sp>
                <p:nvSpPr>
                  <p:cNvPr id="1087" name=""/>
                  <p:cNvSpPr/>
                  <p:nvPr/>
                </p:nvSpPr>
                <p:spPr>
                  <a:xfrm flipH="1">
                    <a:off x="3947400" y="248256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3947760" y="257292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 flipH="1">
                    <a:off x="3947400" y="266184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3947760" y="277452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 flipH="1">
                    <a:off x="3947760" y="286344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2" name=""/>
                <p:cNvGrpSpPr/>
                <p:nvPr/>
              </p:nvGrpSpPr>
              <p:grpSpPr>
                <a:xfrm>
                  <a:off x="4996440" y="2477880"/>
                  <a:ext cx="101880" cy="493560"/>
                  <a:chOff x="4996440" y="2477880"/>
                  <a:chExt cx="101880" cy="493560"/>
                </a:xfrm>
              </p:grpSpPr>
              <p:sp>
                <p:nvSpPr>
                  <p:cNvPr id="1093" name=""/>
                  <p:cNvSpPr/>
                  <p:nvPr/>
                </p:nvSpPr>
                <p:spPr>
                  <a:xfrm flipH="1">
                    <a:off x="4996800" y="2477880"/>
                    <a:ext cx="5544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4996800" y="2568240"/>
                    <a:ext cx="9036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 flipH="1">
                    <a:off x="4996800" y="2657160"/>
                    <a:ext cx="10152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4996800" y="2769840"/>
                    <a:ext cx="9036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 flipH="1">
                    <a:off x="4996440" y="2858760"/>
                    <a:ext cx="903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8" name=""/>
                <p:cNvGrpSpPr/>
                <p:nvPr/>
              </p:nvGrpSpPr>
              <p:grpSpPr>
                <a:xfrm>
                  <a:off x="5009400" y="3790440"/>
                  <a:ext cx="101160" cy="493560"/>
                  <a:chOff x="5009400" y="3790440"/>
                  <a:chExt cx="101160" cy="493560"/>
                </a:xfrm>
              </p:grpSpPr>
              <p:sp>
                <p:nvSpPr>
                  <p:cNvPr id="1099" name=""/>
                  <p:cNvSpPr/>
                  <p:nvPr/>
                </p:nvSpPr>
                <p:spPr>
                  <a:xfrm flipH="1">
                    <a:off x="5009400" y="379044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5009760" y="388080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 flipH="1">
                    <a:off x="5009400" y="396972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5009760" y="408240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 flipH="1">
                    <a:off x="5009760" y="417132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4" name=""/>
                <p:cNvGrpSpPr/>
                <p:nvPr/>
              </p:nvGrpSpPr>
              <p:grpSpPr>
                <a:xfrm>
                  <a:off x="3940920" y="3843000"/>
                  <a:ext cx="101160" cy="493560"/>
                  <a:chOff x="3940920" y="3843000"/>
                  <a:chExt cx="101160" cy="493560"/>
                </a:xfrm>
              </p:grpSpPr>
              <p:sp>
                <p:nvSpPr>
                  <p:cNvPr id="1105" name=""/>
                  <p:cNvSpPr/>
                  <p:nvPr/>
                </p:nvSpPr>
                <p:spPr>
                  <a:xfrm flipH="1">
                    <a:off x="3940920" y="384300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3941280" y="393336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 flipH="1">
                    <a:off x="3940920" y="402228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3941280" y="413496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 flipH="1">
                    <a:off x="3941280" y="422388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10" name=""/>
              <p:cNvSpPr/>
              <p:nvPr/>
            </p:nvSpPr>
            <p:spPr>
              <a:xfrm>
                <a:off x="3392640" y="1669680"/>
                <a:ext cx="2330280" cy="2901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1" name=""/>
            <p:cNvSpPr/>
            <p:nvPr/>
          </p:nvSpPr>
          <p:spPr>
            <a:xfrm>
              <a:off x="3749760" y="950760"/>
              <a:ext cx="1616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Pool of Tcl interpre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6418440" y="922320"/>
            <a:ext cx="2330280" cy="3649680"/>
            <a:chOff x="6418440" y="922320"/>
            <a:chExt cx="2330280" cy="3649680"/>
          </a:xfrm>
        </p:grpSpPr>
        <p:grpSp>
          <p:nvGrpSpPr>
            <p:cNvPr id="1113" name=""/>
            <p:cNvGrpSpPr/>
            <p:nvPr/>
          </p:nvGrpSpPr>
          <p:grpSpPr>
            <a:xfrm>
              <a:off x="6418440" y="1670040"/>
              <a:ext cx="2330280" cy="2901960"/>
              <a:chOff x="6418440" y="1670040"/>
              <a:chExt cx="2330280" cy="2901960"/>
            </a:xfrm>
          </p:grpSpPr>
          <p:grpSp>
            <p:nvGrpSpPr>
              <p:cNvPr id="1114" name=""/>
              <p:cNvGrpSpPr/>
              <p:nvPr/>
            </p:nvGrpSpPr>
            <p:grpSpPr>
              <a:xfrm>
                <a:off x="6646680" y="1798560"/>
                <a:ext cx="1907640" cy="2630160"/>
                <a:chOff x="6646680" y="1798560"/>
                <a:chExt cx="1907640" cy="2630160"/>
              </a:xfrm>
            </p:grpSpPr>
            <p:sp>
              <p:nvSpPr>
                <p:cNvPr id="1115" name=""/>
                <p:cNvSpPr/>
                <p:nvPr/>
              </p:nvSpPr>
              <p:spPr>
                <a:xfrm>
                  <a:off x="7694280" y="220824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16" name=""/>
                <p:cNvGrpSpPr/>
                <p:nvPr/>
              </p:nvGrpSpPr>
              <p:grpSpPr>
                <a:xfrm>
                  <a:off x="6646680" y="3546360"/>
                  <a:ext cx="1907640" cy="882360"/>
                  <a:chOff x="6646680" y="3546360"/>
                  <a:chExt cx="1907640" cy="882360"/>
                </a:xfrm>
              </p:grpSpPr>
              <p:sp>
                <p:nvSpPr>
                  <p:cNvPr id="1117" name=""/>
                  <p:cNvSpPr/>
                  <p:nvPr/>
                </p:nvSpPr>
                <p:spPr>
                  <a:xfrm>
                    <a:off x="7694280" y="354636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6646680" y="354636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9" name=""/>
                <p:cNvSpPr/>
                <p:nvPr/>
              </p:nvSpPr>
              <p:spPr>
                <a:xfrm>
                  <a:off x="6646680" y="220824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120" name="agentred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59080" y="181296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1" name="agentred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97320" y="314172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2" name="agentred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38560" y="3159000"/>
                  <a:ext cx="46296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3" name="agentred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7898760" y="179856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124" name=""/>
                <p:cNvGrpSpPr/>
                <p:nvPr/>
              </p:nvGrpSpPr>
              <p:grpSpPr>
                <a:xfrm>
                  <a:off x="6973200" y="2482920"/>
                  <a:ext cx="101160" cy="493560"/>
                  <a:chOff x="6973200" y="2482920"/>
                  <a:chExt cx="101160" cy="493560"/>
                </a:xfrm>
              </p:grpSpPr>
              <p:sp>
                <p:nvSpPr>
                  <p:cNvPr id="1125" name=""/>
                  <p:cNvSpPr/>
                  <p:nvPr/>
                </p:nvSpPr>
                <p:spPr>
                  <a:xfrm flipH="1">
                    <a:off x="6973200" y="248292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6973560" y="257328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 flipH="1">
                    <a:off x="6973200" y="266220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6973560" y="277488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 flipH="1">
                    <a:off x="6973560" y="286380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0" name=""/>
                <p:cNvGrpSpPr/>
                <p:nvPr/>
              </p:nvGrpSpPr>
              <p:grpSpPr>
                <a:xfrm>
                  <a:off x="8022240" y="2478240"/>
                  <a:ext cx="101880" cy="493560"/>
                  <a:chOff x="8022240" y="2478240"/>
                  <a:chExt cx="101880" cy="493560"/>
                </a:xfrm>
              </p:grpSpPr>
              <p:sp>
                <p:nvSpPr>
                  <p:cNvPr id="1131" name=""/>
                  <p:cNvSpPr/>
                  <p:nvPr/>
                </p:nvSpPr>
                <p:spPr>
                  <a:xfrm flipH="1">
                    <a:off x="8022600" y="2478240"/>
                    <a:ext cx="5544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8022600" y="2568600"/>
                    <a:ext cx="9036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 flipH="1">
                    <a:off x="8022600" y="2657520"/>
                    <a:ext cx="10152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8022600" y="2770200"/>
                    <a:ext cx="9036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 flipH="1">
                    <a:off x="8022240" y="2859120"/>
                    <a:ext cx="903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6" name=""/>
                <p:cNvGrpSpPr/>
                <p:nvPr/>
              </p:nvGrpSpPr>
              <p:grpSpPr>
                <a:xfrm>
                  <a:off x="8035200" y="3790800"/>
                  <a:ext cx="101160" cy="493560"/>
                  <a:chOff x="8035200" y="3790800"/>
                  <a:chExt cx="101160" cy="493560"/>
                </a:xfrm>
              </p:grpSpPr>
              <p:sp>
                <p:nvSpPr>
                  <p:cNvPr id="1137" name=""/>
                  <p:cNvSpPr/>
                  <p:nvPr/>
                </p:nvSpPr>
                <p:spPr>
                  <a:xfrm flipH="1">
                    <a:off x="8035200" y="379080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8035560" y="388116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 flipH="1">
                    <a:off x="8035200" y="397008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8035560" y="408276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 flipH="1">
                    <a:off x="8035560" y="417168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2" name=""/>
                <p:cNvGrpSpPr/>
                <p:nvPr/>
              </p:nvGrpSpPr>
              <p:grpSpPr>
                <a:xfrm>
                  <a:off x="6966720" y="3843360"/>
                  <a:ext cx="101160" cy="493560"/>
                  <a:chOff x="6966720" y="3843360"/>
                  <a:chExt cx="101160" cy="493560"/>
                </a:xfrm>
              </p:grpSpPr>
              <p:sp>
                <p:nvSpPr>
                  <p:cNvPr id="1143" name=""/>
                  <p:cNvSpPr/>
                  <p:nvPr/>
                </p:nvSpPr>
                <p:spPr>
                  <a:xfrm flipH="1">
                    <a:off x="6966720" y="384336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6967080" y="393372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 flipH="1">
                    <a:off x="6966720" y="402264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6967080" y="413532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 flipH="1">
                    <a:off x="6967080" y="422424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48" name=""/>
              <p:cNvSpPr/>
              <p:nvPr/>
            </p:nvSpPr>
            <p:spPr>
              <a:xfrm>
                <a:off x="6418440" y="1670040"/>
                <a:ext cx="2330280" cy="2901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9" name=""/>
            <p:cNvSpPr/>
            <p:nvPr/>
          </p:nvSpPr>
          <p:spPr>
            <a:xfrm>
              <a:off x="6634080" y="922320"/>
              <a:ext cx="1897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Pool of Scheme interpre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3962520" y="4451400"/>
            <a:ext cx="30456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H="1">
            <a:off x="4495680" y="4451400"/>
            <a:ext cx="45720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600200" y="3809880"/>
            <a:ext cx="1905120" cy="160020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>
            <a:off x="5562360" y="4451400"/>
            <a:ext cx="144756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>
            <a:off x="5791320" y="4451400"/>
            <a:ext cx="228600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20640" y="4419720"/>
            <a:ext cx="210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Pipes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VM / interpr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to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981840" y="5692680"/>
            <a:ext cx="1866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his optimization is already reflected in the preceding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172C-9721-4B50-9F8A-E8AD05A1CB0E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search in AI community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47640" y="1562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ngle-agent systems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on selection (planning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nowledge representation and infere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ent learning and adapt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lti-agent systems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munication and collabor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ergent properties of group behavio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829C-6E89-4830-9966-C6BBCF5D99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69640" y="212760"/>
            <a:ext cx="69404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caling to large platforms:</a:t>
            </a:r>
            <a:br>
              <a:rPr sz="44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erv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alable Document Server</a:t>
            </a:r>
            <a:endParaRPr b="1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158" name="" descr=""/>
          <p:cNvPicPr/>
          <p:nvPr/>
        </p:nvPicPr>
        <p:blipFill>
          <a:blip r:embed="rId1"/>
          <a:stretch/>
        </p:blipFill>
        <p:spPr>
          <a:xfrm>
            <a:off x="6772320" y="0"/>
            <a:ext cx="2371680" cy="3003480"/>
          </a:xfrm>
          <a:prstGeom prst="rect">
            <a:avLst/>
          </a:prstGeom>
          <a:ln w="0">
            <a:noFill/>
          </a:ln>
        </p:spPr>
      </p:pic>
      <p:sp>
        <p:nvSpPr>
          <p:cNvPr id="1159" name=""/>
          <p:cNvSpPr/>
          <p:nvPr/>
        </p:nvSpPr>
        <p:spPr>
          <a:xfrm>
            <a:off x="272880" y="1506600"/>
            <a:ext cx="4475160" cy="467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24720" y="1587600"/>
            <a:ext cx="23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5-node Linux clust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st internal 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1" name="" descr=""/>
          <p:cNvPicPr/>
          <p:nvPr/>
        </p:nvPicPr>
        <p:blipFill>
          <a:blip r:embed="rId2"/>
          <a:stretch/>
        </p:blipFill>
        <p:spPr>
          <a:xfrm>
            <a:off x="6726240" y="3792600"/>
            <a:ext cx="1916280" cy="2346120"/>
          </a:xfrm>
          <a:prstGeom prst="rect">
            <a:avLst/>
          </a:prstGeom>
          <a:ln w="0">
            <a:noFill/>
          </a:ln>
        </p:spPr>
      </p:pic>
      <p:sp>
        <p:nvSpPr>
          <p:cNvPr id="1162" name=""/>
          <p:cNvSpPr/>
          <p:nvPr/>
        </p:nvSpPr>
        <p:spPr>
          <a:xfrm>
            <a:off x="7304760" y="422604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4902120" y="2954160"/>
            <a:ext cx="2051280" cy="1579680"/>
            <a:chOff x="4902120" y="2954160"/>
            <a:chExt cx="2051280" cy="1579680"/>
          </a:xfrm>
        </p:grpSpPr>
        <p:sp>
          <p:nvSpPr>
            <p:cNvPr id="1164" name=""/>
            <p:cNvSpPr/>
            <p:nvPr/>
          </p:nvSpPr>
          <p:spPr>
            <a:xfrm>
              <a:off x="4902120" y="2954160"/>
              <a:ext cx="2051280" cy="1579680"/>
            </a:xfrm>
            <a:custGeom>
              <a:avLst/>
              <a:gdLst/>
              <a:ahLst/>
              <a:rect l="l" t="t" r="r" b="b"/>
              <a:pathLst>
                <a:path w="1088" h="838">
                  <a:moveTo>
                    <a:pt x="120" y="112"/>
                  </a:moveTo>
                  <a:cubicBezTo>
                    <a:pt x="188" y="43"/>
                    <a:pt x="260" y="9"/>
                    <a:pt x="352" y="0"/>
                  </a:cubicBezTo>
                  <a:cubicBezTo>
                    <a:pt x="371" y="6"/>
                    <a:pt x="393" y="4"/>
                    <a:pt x="411" y="15"/>
                  </a:cubicBezTo>
                  <a:cubicBezTo>
                    <a:pt x="421" y="21"/>
                    <a:pt x="438" y="69"/>
                    <a:pt x="441" y="75"/>
                  </a:cubicBezTo>
                  <a:cubicBezTo>
                    <a:pt x="479" y="63"/>
                    <a:pt x="503" y="58"/>
                    <a:pt x="546" y="53"/>
                  </a:cubicBezTo>
                  <a:cubicBezTo>
                    <a:pt x="623" y="65"/>
                    <a:pt x="632" y="79"/>
                    <a:pt x="673" y="150"/>
                  </a:cubicBezTo>
                  <a:cubicBezTo>
                    <a:pt x="655" y="223"/>
                    <a:pt x="578" y="190"/>
                    <a:pt x="748" y="202"/>
                  </a:cubicBezTo>
                  <a:cubicBezTo>
                    <a:pt x="793" y="218"/>
                    <a:pt x="842" y="216"/>
                    <a:pt x="890" y="225"/>
                  </a:cubicBezTo>
                  <a:cubicBezTo>
                    <a:pt x="900" y="239"/>
                    <a:pt x="918" y="251"/>
                    <a:pt x="920" y="269"/>
                  </a:cubicBezTo>
                  <a:cubicBezTo>
                    <a:pt x="921" y="295"/>
                    <a:pt x="888" y="319"/>
                    <a:pt x="897" y="344"/>
                  </a:cubicBezTo>
                  <a:cubicBezTo>
                    <a:pt x="906" y="370"/>
                    <a:pt x="963" y="372"/>
                    <a:pt x="987" y="382"/>
                  </a:cubicBezTo>
                  <a:cubicBezTo>
                    <a:pt x="1007" y="390"/>
                    <a:pt x="1047" y="411"/>
                    <a:pt x="1047" y="411"/>
                  </a:cubicBezTo>
                  <a:cubicBezTo>
                    <a:pt x="1063" y="482"/>
                    <a:pt x="1033" y="523"/>
                    <a:pt x="972" y="554"/>
                  </a:cubicBezTo>
                  <a:cubicBezTo>
                    <a:pt x="1011" y="568"/>
                    <a:pt x="1055" y="577"/>
                    <a:pt x="1069" y="621"/>
                  </a:cubicBezTo>
                  <a:cubicBezTo>
                    <a:pt x="1071" y="643"/>
                    <a:pt x="1088" y="668"/>
                    <a:pt x="1077" y="688"/>
                  </a:cubicBezTo>
                  <a:cubicBezTo>
                    <a:pt x="1033" y="762"/>
                    <a:pt x="931" y="766"/>
                    <a:pt x="860" y="778"/>
                  </a:cubicBezTo>
                  <a:cubicBezTo>
                    <a:pt x="835" y="775"/>
                    <a:pt x="809" y="773"/>
                    <a:pt x="785" y="770"/>
                  </a:cubicBezTo>
                  <a:cubicBezTo>
                    <a:pt x="772" y="768"/>
                    <a:pt x="759" y="757"/>
                    <a:pt x="748" y="763"/>
                  </a:cubicBezTo>
                  <a:cubicBezTo>
                    <a:pt x="735" y="769"/>
                    <a:pt x="736" y="790"/>
                    <a:pt x="725" y="800"/>
                  </a:cubicBezTo>
                  <a:cubicBezTo>
                    <a:pt x="705" y="816"/>
                    <a:pt x="680" y="825"/>
                    <a:pt x="658" y="838"/>
                  </a:cubicBezTo>
                  <a:cubicBezTo>
                    <a:pt x="635" y="835"/>
                    <a:pt x="613" y="834"/>
                    <a:pt x="591" y="830"/>
                  </a:cubicBezTo>
                  <a:cubicBezTo>
                    <a:pt x="558" y="824"/>
                    <a:pt x="494" y="808"/>
                    <a:pt x="494" y="808"/>
                  </a:cubicBezTo>
                  <a:cubicBezTo>
                    <a:pt x="452" y="766"/>
                    <a:pt x="457" y="773"/>
                    <a:pt x="404" y="793"/>
                  </a:cubicBezTo>
                  <a:cubicBezTo>
                    <a:pt x="371" y="788"/>
                    <a:pt x="337" y="788"/>
                    <a:pt x="307" y="778"/>
                  </a:cubicBezTo>
                  <a:cubicBezTo>
                    <a:pt x="251" y="759"/>
                    <a:pt x="332" y="750"/>
                    <a:pt x="284" y="726"/>
                  </a:cubicBezTo>
                  <a:cubicBezTo>
                    <a:pt x="263" y="716"/>
                    <a:pt x="239" y="720"/>
                    <a:pt x="217" y="718"/>
                  </a:cubicBezTo>
                  <a:cubicBezTo>
                    <a:pt x="172" y="692"/>
                    <a:pt x="130" y="671"/>
                    <a:pt x="112" y="621"/>
                  </a:cubicBezTo>
                  <a:cubicBezTo>
                    <a:pt x="119" y="593"/>
                    <a:pt x="143" y="566"/>
                    <a:pt x="135" y="539"/>
                  </a:cubicBezTo>
                  <a:cubicBezTo>
                    <a:pt x="129" y="521"/>
                    <a:pt x="98" y="531"/>
                    <a:pt x="82" y="524"/>
                  </a:cubicBezTo>
                  <a:cubicBezTo>
                    <a:pt x="53" y="511"/>
                    <a:pt x="21" y="477"/>
                    <a:pt x="0" y="456"/>
                  </a:cubicBezTo>
                  <a:cubicBezTo>
                    <a:pt x="7" y="415"/>
                    <a:pt x="8" y="380"/>
                    <a:pt x="52" y="367"/>
                  </a:cubicBezTo>
                  <a:cubicBezTo>
                    <a:pt x="73" y="305"/>
                    <a:pt x="50" y="390"/>
                    <a:pt x="45" y="314"/>
                  </a:cubicBezTo>
                  <a:cubicBezTo>
                    <a:pt x="39" y="235"/>
                    <a:pt x="48" y="191"/>
                    <a:pt x="120" y="172"/>
                  </a:cubicBezTo>
                  <a:cubicBezTo>
                    <a:pt x="158" y="145"/>
                    <a:pt x="132" y="152"/>
                    <a:pt x="120" y="112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261760" y="356040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6" name=""/>
          <p:cNvSpPr/>
          <p:nvPr/>
        </p:nvSpPr>
        <p:spPr>
          <a:xfrm>
            <a:off x="6018120" y="4071960"/>
            <a:ext cx="936720" cy="1147680"/>
          </a:xfrm>
          <a:custGeom>
            <a:avLst/>
            <a:gdLst/>
            <a:ahLst/>
            <a:rect l="l" t="t" r="r" b="b"/>
            <a:pathLst>
              <a:path w="590" h="723">
                <a:moveTo>
                  <a:pt x="590" y="710"/>
                </a:moveTo>
                <a:cubicBezTo>
                  <a:pt x="426" y="716"/>
                  <a:pt x="262" y="723"/>
                  <a:pt x="164" y="605"/>
                </a:cubicBezTo>
                <a:cubicBezTo>
                  <a:pt x="65" y="486"/>
                  <a:pt x="28" y="102"/>
                  <a:pt x="0" y="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144960" y="1957320"/>
            <a:ext cx="1330200" cy="1104840"/>
          </a:xfrm>
          <a:prstGeom prst="roundRect">
            <a:avLst>
              <a:gd name="adj" fmla="val 17671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173760" y="203832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y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189320" y="2671920"/>
            <a:ext cx="1685880" cy="888840"/>
          </a:xfrm>
          <a:custGeom>
            <a:avLst/>
            <a:gdLst/>
            <a:ahLst/>
            <a:rect l="l" t="t" r="r" b="b"/>
            <a:pathLst>
              <a:path w="972" h="553">
                <a:moveTo>
                  <a:pt x="972" y="553"/>
                </a:moveTo>
                <a:cubicBezTo>
                  <a:pt x="933" y="382"/>
                  <a:pt x="894" y="212"/>
                  <a:pt x="733" y="120"/>
                </a:cubicBezTo>
                <a:cubicBezTo>
                  <a:pt x="571" y="27"/>
                  <a:pt x="285" y="13"/>
                  <a:pt x="0" y="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52320" y="2357280"/>
            <a:ext cx="1449360" cy="1105200"/>
          </a:xfrm>
          <a:prstGeom prst="roundRect">
            <a:avLst>
              <a:gd name="adj" fmla="val 17671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847800" y="2987640"/>
            <a:ext cx="1057320" cy="355680"/>
          </a:xfrm>
          <a:prstGeom prst="roundRect">
            <a:avLst>
              <a:gd name="adj" fmla="val 33481"/>
            </a:avLst>
          </a:prstGeom>
          <a:solidFill>
            <a:srgbClr val="cc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741240" y="2552760"/>
            <a:ext cx="1270080" cy="3315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066680" y="3424320"/>
            <a:ext cx="1449360" cy="1104840"/>
          </a:xfrm>
          <a:prstGeom prst="roundRect">
            <a:avLst>
              <a:gd name="adj" fmla="val 17671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1262160" y="4054320"/>
            <a:ext cx="1057320" cy="355680"/>
          </a:xfrm>
          <a:prstGeom prst="roundRect">
            <a:avLst>
              <a:gd name="adj" fmla="val 33481"/>
            </a:avLst>
          </a:prstGeom>
          <a:solidFill>
            <a:srgbClr val="cc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155600" y="3619440"/>
            <a:ext cx="1270080" cy="3319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1481040" y="4491000"/>
            <a:ext cx="1449360" cy="1104840"/>
          </a:xfrm>
          <a:prstGeom prst="roundRect">
            <a:avLst>
              <a:gd name="adj" fmla="val 17671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676520" y="5121360"/>
            <a:ext cx="1057320" cy="355680"/>
          </a:xfrm>
          <a:prstGeom prst="roundRect">
            <a:avLst>
              <a:gd name="adj" fmla="val 33481"/>
            </a:avLst>
          </a:prstGeom>
          <a:solidFill>
            <a:srgbClr val="cc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569960" y="4686480"/>
            <a:ext cx="1270080" cy="3315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H="1">
            <a:off x="1993680" y="2622600"/>
            <a:ext cx="1733400" cy="1260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H="1">
            <a:off x="2409840" y="2754360"/>
            <a:ext cx="1341360" cy="86688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2871720" y="2862360"/>
            <a:ext cx="951120" cy="184932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1910880" y="2706840"/>
            <a:ext cx="1816200" cy="438120"/>
          </a:xfrm>
          <a:prstGeom prst="line">
            <a:avLst/>
          </a:prstGeom>
          <a:ln w="1260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2338200" y="2789280"/>
            <a:ext cx="1400040" cy="1423800"/>
          </a:xfrm>
          <a:prstGeom prst="line">
            <a:avLst/>
          </a:prstGeom>
          <a:ln w="1260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2741400" y="2895480"/>
            <a:ext cx="1198440" cy="2374920"/>
          </a:xfrm>
          <a:prstGeom prst="line">
            <a:avLst/>
          </a:prstGeom>
          <a:ln w="1260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714840" y="2433600"/>
            <a:ext cx="498240" cy="49860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773600" y="2216160"/>
            <a:ext cx="191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uted to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dom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26320" y="5765760"/>
            <a:ext cx="38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uments and index are distribu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7327-2FBA-4FE2-BC97-E0CE3D5EF2AC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caling to small platform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325080" y="1096920"/>
            <a:ext cx="8496360" cy="4051080"/>
            <a:chOff x="325080" y="1096920"/>
            <a:chExt cx="8496360" cy="4051080"/>
          </a:xfrm>
        </p:grpSpPr>
        <p:grpSp>
          <p:nvGrpSpPr>
            <p:cNvPr id="1190" name=""/>
            <p:cNvGrpSpPr/>
            <p:nvPr/>
          </p:nvGrpSpPr>
          <p:grpSpPr>
            <a:xfrm>
              <a:off x="7126200" y="2692440"/>
              <a:ext cx="1695240" cy="2227320"/>
              <a:chOff x="7126200" y="2692440"/>
              <a:chExt cx="1695240" cy="2227320"/>
            </a:xfrm>
          </p:grpSpPr>
          <p:pic>
            <p:nvPicPr>
              <p:cNvPr id="1191" name="ppilot" descr=""/>
              <p:cNvPicPr/>
              <p:nvPr/>
            </p:nvPicPr>
            <p:blipFill>
              <a:blip r:embed="rId1"/>
              <a:stretch/>
            </p:blipFill>
            <p:spPr>
              <a:xfrm>
                <a:off x="7387920" y="2692440"/>
                <a:ext cx="1171800" cy="142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7126200" y="4094280"/>
                <a:ext cx="1695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Palm III Organiz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3528000" y="2236680"/>
              <a:ext cx="1316160" cy="1500120"/>
              <a:chOff x="3528000" y="2236680"/>
              <a:chExt cx="1316160" cy="1500120"/>
            </a:xfrm>
          </p:grpSpPr>
          <p:pic>
            <p:nvPicPr>
              <p:cNvPr id="1194" name="rterm" descr=""/>
              <p:cNvPicPr/>
              <p:nvPr/>
            </p:nvPicPr>
            <p:blipFill>
              <a:blip r:embed="rId2"/>
              <a:stretch/>
            </p:blipFill>
            <p:spPr>
              <a:xfrm>
                <a:off x="3774960" y="2236680"/>
                <a:ext cx="822240" cy="63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>
                <a:off x="3528000" y="2911320"/>
                <a:ext cx="13161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Prox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Machin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1488960" y="1096920"/>
              <a:ext cx="1703520" cy="1278000"/>
              <a:chOff x="1488960" y="1096920"/>
              <a:chExt cx="1703520" cy="1278000"/>
            </a:xfrm>
          </p:grpSpPr>
          <p:sp>
            <p:nvSpPr>
              <p:cNvPr id="1197" name=""/>
              <p:cNvSpPr/>
              <p:nvPr/>
            </p:nvSpPr>
            <p:spPr>
              <a:xfrm>
                <a:off x="1488960" y="1096920"/>
                <a:ext cx="1703520" cy="127800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493640" y="1589040"/>
                <a:ext cx="1692360" cy="785880"/>
              </a:xfrm>
              <a:prstGeom prst="ellipse">
                <a:avLst/>
              </a:prstGeom>
              <a:solidFill>
                <a:srgbClr val="ff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alm 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1860840" y="1127160"/>
                <a:ext cx="95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g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0" name=""/>
            <p:cNvSpPr/>
            <p:nvPr/>
          </p:nvSpPr>
          <p:spPr>
            <a:xfrm>
              <a:off x="5583240" y="1967040"/>
              <a:ext cx="1692360" cy="785880"/>
            </a:xfrm>
            <a:prstGeom prst="ellipse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lm 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36320" y="2362320"/>
              <a:ext cx="3240360" cy="284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797360" y="2689200"/>
              <a:ext cx="2711520" cy="728640"/>
            </a:xfrm>
            <a:custGeom>
              <a:avLst/>
              <a:gdLst/>
              <a:ahLst/>
              <a:rect l="l" t="t" r="r" b="b"/>
              <a:pathLst>
                <a:path w="1708" h="459">
                  <a:moveTo>
                    <a:pt x="0" y="0"/>
                  </a:moveTo>
                  <a:cubicBezTo>
                    <a:pt x="295" y="4"/>
                    <a:pt x="590" y="9"/>
                    <a:pt x="875" y="85"/>
                  </a:cubicBezTo>
                  <a:cubicBezTo>
                    <a:pt x="1160" y="161"/>
                    <a:pt x="1434" y="310"/>
                    <a:pt x="1708" y="459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119560" y="3913200"/>
              <a:ext cx="1692360" cy="78588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707000" y="2924280"/>
              <a:ext cx="2735280" cy="985680"/>
            </a:xfrm>
            <a:custGeom>
              <a:avLst/>
              <a:gdLst/>
              <a:ahLst/>
              <a:rect l="l" t="t" r="r" b="b"/>
              <a:pathLst>
                <a:path w="1723" h="621">
                  <a:moveTo>
                    <a:pt x="1723" y="501"/>
                  </a:moveTo>
                  <a:cubicBezTo>
                    <a:pt x="1386" y="561"/>
                    <a:pt x="1050" y="621"/>
                    <a:pt x="763" y="537"/>
                  </a:cubicBezTo>
                  <a:cubicBezTo>
                    <a:pt x="476" y="453"/>
                    <a:pt x="238" y="226"/>
                    <a:pt x="0" y="0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>
              <a:off x="325080" y="2913120"/>
              <a:ext cx="3282840" cy="1446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6" name=""/>
            <p:cNvGrpSpPr/>
            <p:nvPr/>
          </p:nvGrpSpPr>
          <p:grpSpPr>
            <a:xfrm>
              <a:off x="1488960" y="3870360"/>
              <a:ext cx="1703520" cy="1277640"/>
              <a:chOff x="1488960" y="3870360"/>
              <a:chExt cx="1703520" cy="1277640"/>
            </a:xfrm>
          </p:grpSpPr>
          <p:sp>
            <p:nvSpPr>
              <p:cNvPr id="1207" name=""/>
              <p:cNvSpPr/>
              <p:nvPr/>
            </p:nvSpPr>
            <p:spPr>
              <a:xfrm>
                <a:off x="1488960" y="3870360"/>
                <a:ext cx="1703520" cy="127764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1861200" y="3900240"/>
                <a:ext cx="95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g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1497240" y="4356000"/>
                <a:ext cx="1692000" cy="78588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sul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0" name=""/>
          <p:cNvSpPr/>
          <p:nvPr/>
        </p:nvSpPr>
        <p:spPr>
          <a:xfrm>
            <a:off x="1084320" y="5549760"/>
            <a:ext cx="69818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90760" indent="-1490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urrent work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Design and development of a new Windows NT/CE mobile-agent syst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FE9B-802D-4BEF-B4A5-636700E3A052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arket-based resource control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212" name="tecra" descr=""/>
          <p:cNvPicPr/>
          <p:nvPr/>
        </p:nvPicPr>
        <p:blipFill>
          <a:blip r:embed="rId1"/>
          <a:stretch/>
        </p:blipFill>
        <p:spPr>
          <a:xfrm>
            <a:off x="5904000" y="1668600"/>
            <a:ext cx="795240" cy="981000"/>
          </a:xfrm>
          <a:prstGeom prst="rect">
            <a:avLst/>
          </a:prstGeom>
          <a:ln w="0">
            <a:noFill/>
          </a:ln>
        </p:spPr>
      </p:pic>
      <p:sp>
        <p:nvSpPr>
          <p:cNvPr id="1213" name=""/>
          <p:cNvSpPr/>
          <p:nvPr/>
        </p:nvSpPr>
        <p:spPr>
          <a:xfrm>
            <a:off x="5924520" y="2719440"/>
            <a:ext cx="68580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4" name="gateway" descr=""/>
          <p:cNvPicPr/>
          <p:nvPr/>
        </p:nvPicPr>
        <p:blipFill>
          <a:blip r:embed="rId2"/>
          <a:stretch/>
        </p:blipFill>
        <p:spPr>
          <a:xfrm>
            <a:off x="3083040" y="1071720"/>
            <a:ext cx="738000" cy="906480"/>
          </a:xfrm>
          <a:prstGeom prst="rect">
            <a:avLst/>
          </a:prstGeom>
          <a:ln w="0">
            <a:noFill/>
          </a:ln>
        </p:spPr>
      </p:pic>
      <p:pic>
        <p:nvPicPr>
          <p:cNvPr id="1215" name="agentred" descr=""/>
          <p:cNvPicPr/>
          <p:nvPr/>
        </p:nvPicPr>
        <p:blipFill>
          <a:blip r:embed="rId3"/>
          <a:stretch/>
        </p:blipFill>
        <p:spPr>
          <a:xfrm>
            <a:off x="3068640" y="2906640"/>
            <a:ext cx="706320" cy="776520"/>
          </a:xfrm>
          <a:prstGeom prst="rect">
            <a:avLst/>
          </a:prstGeom>
          <a:ln w="0">
            <a:noFill/>
          </a:ln>
        </p:spPr>
      </p:pic>
      <p:sp>
        <p:nvSpPr>
          <p:cNvPr id="1216" name=""/>
          <p:cNvSpPr/>
          <p:nvPr/>
        </p:nvSpPr>
        <p:spPr>
          <a:xfrm>
            <a:off x="2137680" y="1876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$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138560" y="1755720"/>
            <a:ext cx="341280" cy="5223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138560" y="1987560"/>
            <a:ext cx="341280" cy="5223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138560" y="2227320"/>
            <a:ext cx="341280" cy="5223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698920" y="1839960"/>
            <a:ext cx="312480" cy="1054080"/>
          </a:xfrm>
          <a:custGeom>
            <a:avLst/>
            <a:gdLst/>
            <a:ahLst/>
            <a:rect l="l" t="t" r="r" b="b"/>
            <a:pathLst>
              <a:path w="197" h="664">
                <a:moveTo>
                  <a:pt x="197" y="664"/>
                </a:moveTo>
                <a:cubicBezTo>
                  <a:pt x="98" y="529"/>
                  <a:pt x="0" y="394"/>
                  <a:pt x="0" y="283"/>
                </a:cubicBezTo>
                <a:cubicBezTo>
                  <a:pt x="0" y="172"/>
                  <a:pt x="98" y="86"/>
                  <a:pt x="197" y="0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706920" y="1974960"/>
            <a:ext cx="295200" cy="896760"/>
          </a:xfrm>
          <a:custGeom>
            <a:avLst/>
            <a:gdLst/>
            <a:ahLst/>
            <a:rect l="l" t="t" r="r" b="b"/>
            <a:pathLst>
              <a:path w="186" h="565">
                <a:moveTo>
                  <a:pt x="0" y="0"/>
                </a:moveTo>
                <a:cubicBezTo>
                  <a:pt x="84" y="66"/>
                  <a:pt x="168" y="132"/>
                  <a:pt x="177" y="226"/>
                </a:cubicBezTo>
                <a:cubicBezTo>
                  <a:pt x="186" y="320"/>
                  <a:pt x="121" y="442"/>
                  <a:pt x="57" y="565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71480" y="3228840"/>
            <a:ext cx="2263680" cy="66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3819600" y="3127320"/>
            <a:ext cx="2060640" cy="168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6665760" y="2499840"/>
            <a:ext cx="1703520" cy="505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040040" y="27208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075800" y="21686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818240" y="2655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68280" y="4178160"/>
            <a:ext cx="3633840" cy="18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conomic incentive to accept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Resource 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o “runaway”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156200" y="4057560"/>
            <a:ext cx="491940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Gets resource share proportional to ticket 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Optimizes utility function (parameters include risk tolerance, resource needs, and initial cas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7AB8-2D0A-42E2-B9F8-EE1A1FA074E8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ocking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231" name="agentred" descr=""/>
          <p:cNvPicPr/>
          <p:nvPr/>
        </p:nvPicPr>
        <p:blipFill>
          <a:blip r:embed="rId1"/>
          <a:stretch/>
        </p:blipFill>
        <p:spPr>
          <a:xfrm>
            <a:off x="604800" y="652320"/>
            <a:ext cx="615960" cy="676440"/>
          </a:xfrm>
          <a:prstGeom prst="rect">
            <a:avLst/>
          </a:prstGeom>
          <a:ln w="0">
            <a:noFill/>
          </a:ln>
        </p:spPr>
      </p:pic>
      <p:grpSp>
        <p:nvGrpSpPr>
          <p:cNvPr id="1232" name=""/>
          <p:cNvGrpSpPr/>
          <p:nvPr/>
        </p:nvGrpSpPr>
        <p:grpSpPr>
          <a:xfrm>
            <a:off x="4828320" y="2311560"/>
            <a:ext cx="1351080" cy="1292760"/>
            <a:chOff x="4828320" y="2311560"/>
            <a:chExt cx="1351080" cy="1292760"/>
          </a:xfrm>
        </p:grpSpPr>
        <p:pic>
          <p:nvPicPr>
            <p:cNvPr id="1233" name="gateway" descr=""/>
            <p:cNvPicPr/>
            <p:nvPr/>
          </p:nvPicPr>
          <p:blipFill>
            <a:blip r:embed="rId2"/>
            <a:stretch/>
          </p:blipFill>
          <p:spPr>
            <a:xfrm>
              <a:off x="5129280" y="2311560"/>
              <a:ext cx="7491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4" name=""/>
            <p:cNvSpPr/>
            <p:nvPr/>
          </p:nvSpPr>
          <p:spPr>
            <a:xfrm>
              <a:off x="4828320" y="3205440"/>
              <a:ext cx="135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M (laptop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222120" y="4241880"/>
            <a:ext cx="1814400" cy="1971000"/>
            <a:chOff x="222120" y="4241880"/>
            <a:chExt cx="1814400" cy="1971000"/>
          </a:xfrm>
        </p:grpSpPr>
        <p:pic>
          <p:nvPicPr>
            <p:cNvPr id="1236" name="rterm" descr=""/>
            <p:cNvPicPr/>
            <p:nvPr/>
          </p:nvPicPr>
          <p:blipFill>
            <a:blip r:embed="rId3"/>
            <a:stretch/>
          </p:blipFill>
          <p:spPr>
            <a:xfrm>
              <a:off x="703080" y="4241880"/>
              <a:ext cx="8524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7" name=""/>
            <p:cNvSpPr/>
            <p:nvPr/>
          </p:nvSpPr>
          <p:spPr>
            <a:xfrm>
              <a:off x="222120" y="4899240"/>
              <a:ext cx="18144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M_dock (permanently connected machi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7497720" y="511200"/>
            <a:ext cx="1376280" cy="1335240"/>
            <a:chOff x="7497720" y="511200"/>
            <a:chExt cx="1376280" cy="1335240"/>
          </a:xfrm>
        </p:grpSpPr>
        <p:sp>
          <p:nvSpPr>
            <p:cNvPr id="1239" name=""/>
            <p:cNvSpPr/>
            <p:nvPr/>
          </p:nvSpPr>
          <p:spPr>
            <a:xfrm flipH="1" flipV="1">
              <a:off x="7619760" y="885600"/>
              <a:ext cx="22320" cy="83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7619760" y="627120"/>
              <a:ext cx="62712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8124480" y="627120"/>
              <a:ext cx="122040" cy="695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619760" y="863640"/>
              <a:ext cx="505080" cy="46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V="1">
              <a:off x="7630920" y="1333440"/>
              <a:ext cx="493920" cy="39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8124840" y="1322280"/>
              <a:ext cx="649080" cy="39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497720" y="762120"/>
              <a:ext cx="234720" cy="2347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8119800" y="511200"/>
              <a:ext cx="23508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993080" y="1201680"/>
              <a:ext cx="23472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518240" y="1611360"/>
              <a:ext cx="23508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638920" y="1600200"/>
              <a:ext cx="23508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0" name=""/>
          <p:cNvSpPr/>
          <p:nvPr/>
        </p:nvSpPr>
        <p:spPr>
          <a:xfrm>
            <a:off x="1278000" y="1087560"/>
            <a:ext cx="3932280" cy="160164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H="1">
            <a:off x="5882760" y="1849320"/>
            <a:ext cx="1568520" cy="919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963720" y="1400040"/>
            <a:ext cx="101520" cy="19051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3" name=""/>
          <p:cNvGrpSpPr/>
          <p:nvPr/>
        </p:nvGrpSpPr>
        <p:grpSpPr>
          <a:xfrm>
            <a:off x="651960" y="3900600"/>
            <a:ext cx="952200" cy="266760"/>
            <a:chOff x="651960" y="3900600"/>
            <a:chExt cx="952200" cy="266760"/>
          </a:xfrm>
        </p:grpSpPr>
        <p:sp>
          <p:nvSpPr>
            <p:cNvPr id="1254" name=""/>
            <p:cNvSpPr/>
            <p:nvPr/>
          </p:nvSpPr>
          <p:spPr>
            <a:xfrm>
              <a:off x="663480" y="3911760"/>
              <a:ext cx="930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582560" y="3900600"/>
              <a:ext cx="0" cy="2462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H="1">
              <a:off x="651960" y="4146840"/>
              <a:ext cx="952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083960" y="391824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260360" y="3915000"/>
              <a:ext cx="0" cy="2462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423800" y="392148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0" name=""/>
          <p:cNvGrpSpPr/>
          <p:nvPr/>
        </p:nvGrpSpPr>
        <p:grpSpPr>
          <a:xfrm>
            <a:off x="5003280" y="2001960"/>
            <a:ext cx="952200" cy="266040"/>
            <a:chOff x="5003280" y="2001960"/>
            <a:chExt cx="952200" cy="266040"/>
          </a:xfrm>
        </p:grpSpPr>
        <p:sp>
          <p:nvSpPr>
            <p:cNvPr id="1261" name=""/>
            <p:cNvSpPr/>
            <p:nvPr/>
          </p:nvSpPr>
          <p:spPr>
            <a:xfrm>
              <a:off x="5014800" y="2012760"/>
              <a:ext cx="930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933880" y="200196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5003280" y="2247840"/>
              <a:ext cx="952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435280" y="2019240"/>
              <a:ext cx="0" cy="245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611680" y="201600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775120" y="2022480"/>
              <a:ext cx="0" cy="245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7" name=""/>
          <p:cNvSpPr/>
          <p:nvPr/>
        </p:nvSpPr>
        <p:spPr>
          <a:xfrm>
            <a:off x="133200" y="323064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Queue of agents waiting to go to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649760" y="1341360"/>
            <a:ext cx="17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Queue of agents waiting to le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1590480" y="3506760"/>
            <a:ext cx="3205080" cy="941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625760" y="3575160"/>
            <a:ext cx="3327120" cy="1457280"/>
          </a:xfrm>
          <a:custGeom>
            <a:avLst/>
            <a:gdLst/>
            <a:ahLst/>
            <a:rect l="l" t="t" r="r" b="b"/>
            <a:pathLst>
              <a:path w="2096" h="918">
                <a:moveTo>
                  <a:pt x="0" y="635"/>
                </a:moveTo>
                <a:cubicBezTo>
                  <a:pt x="485" y="776"/>
                  <a:pt x="971" y="918"/>
                  <a:pt x="1320" y="812"/>
                </a:cubicBezTo>
                <a:cubicBezTo>
                  <a:pt x="1669" y="706"/>
                  <a:pt x="1882" y="353"/>
                  <a:pt x="2096" y="0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103480" y="86688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 Jump directly to lap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995400" y="1874880"/>
            <a:ext cx="168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. If laptop unreachable, go to d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642000" y="228924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. Change in network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428920" y="3119400"/>
            <a:ext cx="19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4. Notify dock of new 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787480" y="499896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5. Transfer waiting agents in both dir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432400" y="4057560"/>
            <a:ext cx="3419640" cy="2104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simple approach has been extended into a more general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active-networking schem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where any machine can act as a dock for any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F8CB-EF29-4B20-ADBD-67B663CB5376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Yellow pages”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265400" y="987480"/>
            <a:ext cx="661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ing vs. matchmaking/yellow-page ser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913200" y="2138400"/>
            <a:ext cx="1339920" cy="882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039560" y="23814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584360" y="233208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060640" y="1627200"/>
            <a:ext cx="934920" cy="6699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413080" y="2755800"/>
            <a:ext cx="142884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170840" y="2766960"/>
            <a:ext cx="758880" cy="65268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9040 h 652680"/>
              <a:gd name="textAreaBottom" fmla="*/ 503640 h 65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164360" y="159552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5327640" y="2045880"/>
            <a:ext cx="1835280" cy="4050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3720" y="3755880"/>
            <a:ext cx="836136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519360" y="3930480"/>
            <a:ext cx="1339920" cy="882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908880" y="41734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1630440" y="490068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106720" y="4195800"/>
            <a:ext cx="934920" cy="6699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 flipV="1">
            <a:off x="2424240" y="4565520"/>
            <a:ext cx="1039680" cy="61776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180200" y="545796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7210440" y="442764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V="1">
            <a:off x="2498760" y="4791240"/>
            <a:ext cx="4762440" cy="58104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129040" y="3170160"/>
            <a:ext cx="50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 mediates all communic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396800" y="5792760"/>
            <a:ext cx="579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P locates, but then direct commun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FBF8-B4D9-45D9-A3C8-BAF29667501D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AC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299" name="mace" descr=""/>
          <p:cNvPicPr/>
          <p:nvPr/>
        </p:nvPicPr>
        <p:blipFill>
          <a:blip r:embed="rId1"/>
          <a:stretch/>
        </p:blipFill>
        <p:spPr>
          <a:xfrm>
            <a:off x="2575080" y="868320"/>
            <a:ext cx="6181560" cy="5388120"/>
          </a:xfrm>
          <a:prstGeom prst="rect">
            <a:avLst/>
          </a:prstGeom>
          <a:ln w="0">
            <a:noFill/>
          </a:ln>
        </p:spPr>
      </p:pic>
      <p:sp>
        <p:nvSpPr>
          <p:cNvPr id="1300" name=""/>
          <p:cNvSpPr/>
          <p:nvPr/>
        </p:nvSpPr>
        <p:spPr>
          <a:xfrm>
            <a:off x="333000" y="2786040"/>
            <a:ext cx="19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il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C43D-8F63-4E66-9A1E-07B70111280B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54000" y="-360"/>
            <a:ext cx="4191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ebugging 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(Tcl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302" name="debugbot" descr=""/>
          <p:cNvPicPr/>
          <p:nvPr/>
        </p:nvPicPr>
        <p:blipFill>
          <a:blip r:embed="rId1"/>
          <a:stretch/>
        </p:blipFill>
        <p:spPr>
          <a:xfrm>
            <a:off x="4281480" y="304920"/>
            <a:ext cx="4754520" cy="5867280"/>
          </a:xfrm>
          <a:prstGeom prst="rect">
            <a:avLst/>
          </a:prstGeom>
          <a:ln w="0">
            <a:noFill/>
          </a:ln>
        </p:spPr>
      </p:pic>
      <p:sp>
        <p:nvSpPr>
          <p:cNvPr id="1303" name=""/>
          <p:cNvSpPr/>
          <p:nvPr/>
        </p:nvSpPr>
        <p:spPr>
          <a:xfrm>
            <a:off x="217440" y="548496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049480" y="548496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60520" y="512748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247760" y="5594400"/>
            <a:ext cx="1179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262160" y="27194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805040" y="232416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442880" y="1922400"/>
            <a:ext cx="14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Debu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0" name="agentred" descr=""/>
          <p:cNvPicPr/>
          <p:nvPr/>
        </p:nvPicPr>
        <p:blipFill>
          <a:blip r:embed="rId2"/>
          <a:stretch/>
        </p:blipFill>
        <p:spPr>
          <a:xfrm>
            <a:off x="2419200" y="5113440"/>
            <a:ext cx="706680" cy="776160"/>
          </a:xfrm>
          <a:prstGeom prst="rect">
            <a:avLst/>
          </a:prstGeom>
          <a:ln w="0">
            <a:noFill/>
          </a:ln>
        </p:spPr>
      </p:pic>
      <p:sp>
        <p:nvSpPr>
          <p:cNvPr id="1311" name=""/>
          <p:cNvSpPr/>
          <p:nvPr/>
        </p:nvSpPr>
        <p:spPr>
          <a:xfrm flipV="1">
            <a:off x="885960" y="2935080"/>
            <a:ext cx="1164960" cy="211932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00080" y="3247920"/>
            <a:ext cx="148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 Notify: About to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306440" y="5048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562120" y="3400560"/>
            <a:ext cx="136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. Notify: Jum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H="1" flipV="1">
            <a:off x="2270160" y="2931840"/>
            <a:ext cx="471600" cy="211932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F631-F1B3-43C5-8D12-5DEB4494653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78840" y="167760"/>
            <a:ext cx="25290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acking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317" name="tracker" descr=""/>
          <p:cNvPicPr/>
          <p:nvPr/>
        </p:nvPicPr>
        <p:blipFill>
          <a:blip r:embed="rId1"/>
          <a:stretch/>
        </p:blipFill>
        <p:spPr>
          <a:xfrm>
            <a:off x="2817720" y="196920"/>
            <a:ext cx="6167520" cy="5983200"/>
          </a:xfrm>
          <a:prstGeom prst="rect">
            <a:avLst/>
          </a:prstGeom>
          <a:ln w="0">
            <a:noFill/>
          </a:ln>
        </p:spPr>
      </p:pic>
      <p:sp>
        <p:nvSpPr>
          <p:cNvPr id="1318" name=""/>
          <p:cNvSpPr/>
          <p:nvPr/>
        </p:nvSpPr>
        <p:spPr>
          <a:xfrm>
            <a:off x="209520" y="1719360"/>
            <a:ext cx="238752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ks in same way as debu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actively or via lo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 work: Merge with debu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 work: Zoom in and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FF5E-4C2C-4666-A3F7-3137B63D86AE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276280" y="2635200"/>
            <a:ext cx="459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233360" y="3254400"/>
            <a:ext cx="990720" cy="609480"/>
          </a:xfrm>
          <a:prstGeom prst="rightArrow">
            <a:avLst>
              <a:gd name="adj1" fmla="val 50000"/>
              <a:gd name="adj2" fmla="val 4063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D731-9272-4DC1-A6D0-8122F4732CE9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14360" y="7632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Current trends lead to mobile agents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74840" y="1122480"/>
            <a:ext cx="1423800" cy="850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ver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74840" y="2260440"/>
            <a:ext cx="1423800" cy="8510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vers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76280" y="4024440"/>
            <a:ext cx="1423800" cy="850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nd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76280" y="5173560"/>
            <a:ext cx="1423800" cy="8510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de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587680" y="1693800"/>
            <a:ext cx="1805040" cy="862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stomiz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762440" y="2597040"/>
            <a:ext cx="1479600" cy="862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xy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808520" y="1058760"/>
            <a:ext cx="1479600" cy="862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er-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829600" y="409248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void l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rans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751480" y="524196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Disconn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729320" y="4560840"/>
            <a:ext cx="1477800" cy="819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091280" y="1679400"/>
            <a:ext cx="1478160" cy="11336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ser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 prox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091280" y="3624120"/>
            <a:ext cx="1478160" cy="9320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095880" y="5710320"/>
            <a:ext cx="1424160" cy="850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ig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916280" y="1546200"/>
            <a:ext cx="728640" cy="370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1916280" y="2328480"/>
            <a:ext cx="739440" cy="382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063160" y="966960"/>
            <a:ext cx="182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creased n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person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4381560" y="1658880"/>
            <a:ext cx="469800" cy="301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370400" y="2263680"/>
            <a:ext cx="480960" cy="538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264360" y="1636560"/>
            <a:ext cx="806400" cy="370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V="1">
            <a:off x="6253200" y="2521080"/>
            <a:ext cx="81756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545000" y="1920960"/>
            <a:ext cx="246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o many uniqu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persed clients to 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1916280" y="4381200"/>
            <a:ext cx="907920" cy="111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905120" y="4448160"/>
            <a:ext cx="907920" cy="863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927080" y="5557680"/>
            <a:ext cx="8524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flipV="1">
            <a:off x="1938240" y="4616280"/>
            <a:ext cx="885960" cy="841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078440" y="4448160"/>
            <a:ext cx="617400" cy="212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4191120" y="5322960"/>
            <a:ext cx="515880" cy="223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4102200" y="3327120"/>
            <a:ext cx="761760" cy="896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V="1">
            <a:off x="4146480" y="3406680"/>
            <a:ext cx="8064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7832880" y="2846520"/>
            <a:ext cx="0" cy="739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7183440" y="4616280"/>
            <a:ext cx="649440" cy="1043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6479280" y="2898720"/>
            <a:ext cx="13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ltip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tes to vi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7590240" y="4799160"/>
            <a:ext cx="104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v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tine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F411-40A7-4E1B-A67D-D5AE7A4C2DC1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at is an agent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75280" y="1033560"/>
            <a:ext cx="42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bots (“physical agents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84200" y="1628640"/>
            <a:ext cx="8128080" cy="476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5C86-C535-4368-B181-DEE0791368F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igrating to migrating cod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1357" name=""/>
          <p:cNvGrpSpPr/>
          <p:nvPr/>
        </p:nvGrpSpPr>
        <p:grpSpPr>
          <a:xfrm>
            <a:off x="399960" y="1197000"/>
            <a:ext cx="3395880" cy="4770360"/>
            <a:chOff x="399960" y="1197000"/>
            <a:chExt cx="3395880" cy="4770360"/>
          </a:xfrm>
        </p:grpSpPr>
        <p:sp>
          <p:nvSpPr>
            <p:cNvPr id="1358" name=""/>
            <p:cNvSpPr/>
            <p:nvPr/>
          </p:nvSpPr>
          <p:spPr>
            <a:xfrm>
              <a:off x="399960" y="1197000"/>
              <a:ext cx="1546200" cy="862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pp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249640" y="2355840"/>
              <a:ext cx="1546200" cy="1041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roxies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th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ccep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rv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246400" y="3765600"/>
              <a:ext cx="1546200" cy="1041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ervices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th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rv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020240" y="2376720"/>
              <a:ext cx="1229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roxi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rovi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by exis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ISP’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01760" y="5094360"/>
              <a:ext cx="1546200" cy="87300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ob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g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952640" y="2036880"/>
              <a:ext cx="334800" cy="3142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016080" y="3425760"/>
              <a:ext cx="0" cy="292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H="1">
              <a:off x="1936440" y="4788000"/>
              <a:ext cx="368280" cy="347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6" name=""/>
          <p:cNvGrpSpPr/>
          <p:nvPr/>
        </p:nvGrpSpPr>
        <p:grpSpPr>
          <a:xfrm>
            <a:off x="4382640" y="1197000"/>
            <a:ext cx="4437360" cy="5135040"/>
            <a:chOff x="4382640" y="1197000"/>
            <a:chExt cx="4437360" cy="5135040"/>
          </a:xfrm>
        </p:grpSpPr>
        <p:grpSp>
          <p:nvGrpSpPr>
            <p:cNvPr id="1367" name=""/>
            <p:cNvGrpSpPr/>
            <p:nvPr/>
          </p:nvGrpSpPr>
          <p:grpSpPr>
            <a:xfrm>
              <a:off x="4920840" y="1197000"/>
              <a:ext cx="3362760" cy="957240"/>
              <a:chOff x="4920840" y="1197000"/>
              <a:chExt cx="3362760" cy="957240"/>
            </a:xfrm>
          </p:grpSpPr>
          <p:grpSp>
            <p:nvGrpSpPr>
              <p:cNvPr id="1368" name=""/>
              <p:cNvGrpSpPr/>
              <p:nvPr/>
            </p:nvGrpSpPr>
            <p:grpSpPr>
              <a:xfrm>
                <a:off x="5672160" y="1301760"/>
                <a:ext cx="2611440" cy="852480"/>
                <a:chOff x="5672160" y="1301760"/>
                <a:chExt cx="2611440" cy="852480"/>
              </a:xfrm>
            </p:grpSpPr>
            <p:sp>
              <p:nvSpPr>
                <p:cNvPr id="1369" name=""/>
                <p:cNvSpPr/>
                <p:nvPr/>
              </p:nvSpPr>
              <p:spPr>
                <a:xfrm>
                  <a:off x="5672160" y="1301760"/>
                  <a:ext cx="2611440" cy="852480"/>
                </a:xfrm>
                <a:prstGeom prst="parallelogram">
                  <a:avLst>
                    <a:gd name="adj" fmla="val 112110"/>
                  </a:avLst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 flipV="1">
                  <a:off x="6367320" y="1536480"/>
                  <a:ext cx="381240" cy="3474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6759360" y="1548000"/>
                  <a:ext cx="527040" cy="2919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 flipV="1">
                  <a:off x="6759360" y="1447560"/>
                  <a:ext cx="650880" cy="889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 flipH="1">
                  <a:off x="7286040" y="1459080"/>
                  <a:ext cx="135000" cy="3697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6692760" y="1479600"/>
                  <a:ext cx="122400" cy="12240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6296040" y="1844640"/>
                  <a:ext cx="122040" cy="12240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7221600" y="1784520"/>
                  <a:ext cx="122040" cy="12204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7340400" y="1398600"/>
                  <a:ext cx="122400" cy="12240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8" name=""/>
              <p:cNvSpPr/>
              <p:nvPr/>
            </p:nvSpPr>
            <p:spPr>
              <a:xfrm>
                <a:off x="4920840" y="1197000"/>
                <a:ext cx="1265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ff0000"/>
                    </a:solidFill>
                    <a:uFillTx/>
                    <a:latin typeface="Times New Roman"/>
                  </a:rPr>
                  <a:t>Intra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n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9" name=""/>
            <p:cNvGrpSpPr/>
            <p:nvPr/>
          </p:nvGrpSpPr>
          <p:grpSpPr>
            <a:xfrm>
              <a:off x="4382640" y="3902040"/>
              <a:ext cx="4437360" cy="2430000"/>
              <a:chOff x="4382640" y="3902040"/>
              <a:chExt cx="4437360" cy="2430000"/>
            </a:xfrm>
          </p:grpSpPr>
          <p:grpSp>
            <p:nvGrpSpPr>
              <p:cNvPr id="1380" name=""/>
              <p:cNvGrpSpPr/>
              <p:nvPr/>
            </p:nvGrpSpPr>
            <p:grpSpPr>
              <a:xfrm>
                <a:off x="5700600" y="4412880"/>
                <a:ext cx="1165320" cy="380880"/>
                <a:chOff x="5700600" y="4412880"/>
                <a:chExt cx="1165320" cy="380880"/>
              </a:xfrm>
            </p:grpSpPr>
            <p:sp>
              <p:nvSpPr>
                <p:cNvPr id="1381" name=""/>
                <p:cNvSpPr/>
                <p:nvPr/>
              </p:nvSpPr>
              <p:spPr>
                <a:xfrm>
                  <a:off x="5700600" y="441288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 flipV="1">
                  <a:off x="6010560" y="451728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6185520" y="452268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 flipV="1">
                  <a:off x="6185520" y="447804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 flipH="1">
                  <a:off x="6420600" y="448308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6156000" y="44920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5978880" y="4655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6391800" y="4628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6445080" y="44560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0" name=""/>
              <p:cNvGrpSpPr/>
              <p:nvPr/>
            </p:nvGrpSpPr>
            <p:grpSpPr>
              <a:xfrm>
                <a:off x="5649840" y="5719320"/>
                <a:ext cx="1165320" cy="380880"/>
                <a:chOff x="5649840" y="5719320"/>
                <a:chExt cx="1165320" cy="380880"/>
              </a:xfrm>
            </p:grpSpPr>
            <p:sp>
              <p:nvSpPr>
                <p:cNvPr id="1391" name=""/>
                <p:cNvSpPr/>
                <p:nvPr/>
              </p:nvSpPr>
              <p:spPr>
                <a:xfrm>
                  <a:off x="5649840" y="571932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 flipV="1">
                  <a:off x="5959800" y="582372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6134760" y="582912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 flipV="1">
                  <a:off x="6134760" y="578448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 flipH="1">
                  <a:off x="6369840" y="578952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6105240" y="5798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5928120" y="59619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6341040" y="59349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6394320" y="5762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0" name=""/>
              <p:cNvGrpSpPr/>
              <p:nvPr/>
            </p:nvGrpSpPr>
            <p:grpSpPr>
              <a:xfrm>
                <a:off x="4603680" y="5073480"/>
                <a:ext cx="1165320" cy="380520"/>
                <a:chOff x="4603680" y="5073480"/>
                <a:chExt cx="1165320" cy="38052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4603680" y="5073480"/>
                  <a:ext cx="1165320" cy="380520"/>
                </a:xfrm>
                <a:prstGeom prst="parallelogram">
                  <a:avLst>
                    <a:gd name="adj" fmla="val 112077"/>
                  </a:avLst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 flipV="1">
                  <a:off x="4913640" y="5178240"/>
                  <a:ext cx="169920" cy="1548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5088600" y="518328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 flipV="1">
                  <a:off x="5088600" y="513864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 flipH="1">
                  <a:off x="5323680" y="5143680"/>
                  <a:ext cx="60120" cy="16488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5059080" y="5152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4881960" y="53157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5294880" y="52887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5348160" y="5116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0" name=""/>
              <p:cNvGrpSpPr/>
              <p:nvPr/>
            </p:nvGrpSpPr>
            <p:grpSpPr>
              <a:xfrm>
                <a:off x="7242120" y="4824000"/>
                <a:ext cx="1165320" cy="380880"/>
                <a:chOff x="7242120" y="4824000"/>
                <a:chExt cx="1165320" cy="380880"/>
              </a:xfrm>
            </p:grpSpPr>
            <p:sp>
              <p:nvSpPr>
                <p:cNvPr id="1411" name=""/>
                <p:cNvSpPr/>
                <p:nvPr/>
              </p:nvSpPr>
              <p:spPr>
                <a:xfrm>
                  <a:off x="7242120" y="482400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 flipV="1">
                  <a:off x="7552080" y="492840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7727040" y="493380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 flipV="1">
                  <a:off x="7727040" y="488916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 flipH="1">
                  <a:off x="7962120" y="489420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7697520" y="490320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7520400" y="50666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7933320" y="50396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7986600" y="486720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0" name=""/>
              <p:cNvGrpSpPr/>
              <p:nvPr/>
            </p:nvGrpSpPr>
            <p:grpSpPr>
              <a:xfrm>
                <a:off x="7261200" y="3902040"/>
                <a:ext cx="1165320" cy="380880"/>
                <a:chOff x="7261200" y="3902040"/>
                <a:chExt cx="1165320" cy="380880"/>
              </a:xfrm>
            </p:grpSpPr>
            <p:sp>
              <p:nvSpPr>
                <p:cNvPr id="1421" name=""/>
                <p:cNvSpPr/>
                <p:nvPr/>
              </p:nvSpPr>
              <p:spPr>
                <a:xfrm>
                  <a:off x="7261200" y="390204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 flipV="1">
                  <a:off x="7571160" y="400644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7746120" y="401184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 flipV="1">
                  <a:off x="7746120" y="396720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 flipH="1">
                  <a:off x="7981200" y="397224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7716600" y="39812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7539480" y="4144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7952400" y="4117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8005680" y="39452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0" name=""/>
              <p:cNvSpPr/>
              <p:nvPr/>
            </p:nvSpPr>
            <p:spPr>
              <a:xfrm flipV="1">
                <a:off x="6859440" y="4281120"/>
                <a:ext cx="414360" cy="1346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7677000" y="4292280"/>
                <a:ext cx="281160" cy="5155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6680160" y="4595400"/>
                <a:ext cx="795240" cy="380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flipH="1">
                <a:off x="5772240" y="4797000"/>
                <a:ext cx="336240" cy="2682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6210360" y="4797000"/>
                <a:ext cx="201600" cy="9190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8259840" y="4057200"/>
                <a:ext cx="537840" cy="55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8137440" y="5054400"/>
                <a:ext cx="682560" cy="415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6511680" y="5995800"/>
                <a:ext cx="358920" cy="3362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 flipH="1">
                <a:off x="4382640" y="5457600"/>
                <a:ext cx="235080" cy="2138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4644360" y="3947760"/>
                <a:ext cx="124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ff0000"/>
                    </a:solidFill>
                    <a:uFillTx/>
                    <a:latin typeface="Times New Roman"/>
                  </a:rPr>
                  <a:t>Inter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n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0" name=""/>
            <p:cNvSpPr/>
            <p:nvPr/>
          </p:nvSpPr>
          <p:spPr>
            <a:xfrm>
              <a:off x="6208560" y="2566800"/>
              <a:ext cx="784440" cy="1043280"/>
            </a:xfrm>
            <a:prstGeom prst="downArrow">
              <a:avLst>
                <a:gd name="adj1" fmla="val 50000"/>
                <a:gd name="adj2" fmla="val 3324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0071-0679-4A66-B52D-48DC2ADDF9D6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onclusion: Con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80320" y="1360440"/>
            <a:ext cx="6879960" cy="25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rity is too big a conc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head for moving code is too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backward compatible with Fortran, C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works will be so fast, performance not an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3" name="" descr=""/>
          <p:cNvPicPr/>
          <p:nvPr/>
        </p:nvPicPr>
        <p:blipFill>
          <a:blip r:embed="rId1"/>
          <a:stretch/>
        </p:blipFill>
        <p:spPr>
          <a:xfrm>
            <a:off x="7286760" y="196056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D158-9001-4030-9D23-45E72C97045D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onclusion: Pro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912960" y="1565280"/>
            <a:ext cx="75895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unifying framework for making many application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ats data and code symmetr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ple-language support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s disconnected networks in a way that oth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ies can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ner programm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6" name="" descr=""/>
          <p:cNvPicPr/>
          <p:nvPr/>
        </p:nvPicPr>
        <p:blipFill>
          <a:blip r:embed="rId1"/>
          <a:stretch/>
        </p:blipFill>
        <p:spPr>
          <a:xfrm>
            <a:off x="361800" y="349200"/>
            <a:ext cx="1641600" cy="1120680"/>
          </a:xfrm>
          <a:prstGeom prst="rect">
            <a:avLst/>
          </a:prstGeom>
          <a:ln w="0">
            <a:noFill/>
          </a:ln>
        </p:spPr>
      </p:pic>
      <p:pic>
        <p:nvPicPr>
          <p:cNvPr id="1447" name="" descr=""/>
          <p:cNvPicPr/>
          <p:nvPr/>
        </p:nvPicPr>
        <p:blipFill>
          <a:blip r:embed="rId2"/>
          <a:stretch/>
        </p:blipFill>
        <p:spPr>
          <a:xfrm>
            <a:off x="7093080" y="0"/>
            <a:ext cx="2050920" cy="192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E527-E0AC-42A4-B35C-202722726AB0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d more about it (redux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42360" y="1190520"/>
            <a:ext cx="16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45960" y="3780000"/>
            <a:ext cx="38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ctComm (DoD MU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42000" y="506268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ther mobile-agen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034720" y="1743120"/>
            <a:ext cx="41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2034000" y="4361040"/>
            <a:ext cx="43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ctcomm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2032920" y="5638680"/>
            <a:ext cx="67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etus-links.org/oo_mobile_agent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39840" y="2476440"/>
            <a:ext cx="43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is tutorial (final 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2032560" y="3029040"/>
            <a:ext cx="53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tutorial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FB68-8D4B-48BB-976F-611CBCE5EEA7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ource cod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1458" name=""/>
          <p:cNvGrpSpPr/>
          <p:nvPr/>
        </p:nvGrpSpPr>
        <p:grpSpPr>
          <a:xfrm>
            <a:off x="853560" y="1306440"/>
            <a:ext cx="7439040" cy="4844520"/>
            <a:chOff x="853560" y="1306440"/>
            <a:chExt cx="7439040" cy="4844520"/>
          </a:xfrm>
        </p:grpSpPr>
        <p:sp>
          <p:nvSpPr>
            <p:cNvPr id="1459" name=""/>
            <p:cNvSpPr/>
            <p:nvPr/>
          </p:nvSpPr>
          <p:spPr>
            <a:xfrm>
              <a:off x="855000" y="1306440"/>
              <a:ext cx="533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’Agents (server and Tcl modu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459880" y="1897200"/>
              <a:ext cx="415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ttp://agent.cs.dartmouth.edu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853560" y="2903400"/>
              <a:ext cx="385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’Agents (Java modu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460240" y="3451320"/>
              <a:ext cx="5832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vailable by request (due to Sun licensing restrictions).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tact </a:t>
              </a: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robert.s.gray@dartmouth.ed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55720" y="5095800"/>
              <a:ext cx="430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’Agents (Scheme modu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460240" y="5691240"/>
              <a:ext cx="293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vailable by reques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9DE4-CF8A-4F3C-AC0C-AC9BF4560F4A}" type="slidenum">
              <a:t>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6840" y="1109160"/>
            <a:ext cx="45198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at is an agent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788000" y="485640"/>
            <a:ext cx="3838320" cy="5759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063800" y="2703600"/>
            <a:ext cx="276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toon 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“synthetic agent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example,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Oz proj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t C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Joseph B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9C19-DE81-4A95-B5B1-FBE8BA01188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31T15:54:48Z</dcterms:created>
  <dc:creator>hiro</dc:creator>
  <dc:description/>
  <dc:language>en-US</dc:language>
  <cp:lastModifiedBy>David Kotz</cp:lastModifiedBy>
  <cp:lastPrinted>1999-04-27T12:51:47Z</cp:lastPrinted>
  <dcterms:modified xsi:type="dcterms:W3CDTF">1999-09-07T21:36:20Z</dcterms:modified>
  <cp:revision>745</cp:revision>
  <dc:subject/>
  <dc:title>Mobile Agents in Distributed Compu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actcomm.dartmouth.edu/~rgray/</vt:lpwstr>
  </property>
  <property fmtid="{D5CDD505-2E9C-101B-9397-08002B2CF9AE}" pid="9" name="LinkColor">
    <vt:r8>16711782</vt:r8>
  </property>
  <property fmtid="{D5CDD505-2E9C-101B-9397-08002B2CF9AE}" pid="10" name="MailAddress">
    <vt:lpwstr>robert.s.gray@dartmouth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F:\bob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