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8.png" ContentType="image/png"/>
  <Override PartName="/ppt/media/image5.pct" ContentType="image/x-pict"/>
  <Override PartName="/ppt/media/image38.png" ContentType="image/png"/>
  <Override PartName="/ppt/media/image33.png" ContentType="image/png"/>
  <Override PartName="/ppt/media/image30.pct" ContentType="image/x-pict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4.png" ContentType="image/png"/>
  <Override PartName="/ppt/media/image28.pct" ContentType="image/x-pict"/>
  <Override PartName="/ppt/media/image2.png" ContentType="image/png"/>
  <Override PartName="/ppt/media/image62.pct" ContentType="image/x-pict"/>
  <Override PartName="/ppt/media/image61.pct" ContentType="image/x-pict"/>
  <Override PartName="/ppt/media/image17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31.png" ContentType="image/png"/>
  <Override PartName="/ppt/media/image22.png" ContentType="image/png"/>
  <Override PartName="/ppt/media/image59.png" ContentType="image/png"/>
  <Override PartName="/ppt/media/image10.pct" ContentType="image/x-pict"/>
  <Override PartName="/ppt/media/image1.png" ContentType="image/png"/>
  <Override PartName="/ppt/media/image1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ct" ContentType="image/x-pict"/>
  <Override PartName="/ppt/media/image35.png" ContentType="image/png"/>
  <Override PartName="/ppt/media/image39.png" ContentType="image/png"/>
  <Override PartName="/ppt/media/image54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86D-C55E-46A8-947E-DC35D46E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F41-9FE2-4D81-A4EE-AD530AA4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304-1656-43EA-B8E7-040F60F0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C43-CB4D-4F5D-87BC-F155C339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428-D236-44E2-819D-A854E5B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209-62E6-4FBA-AABC-C7E5F59A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B35-4300-4753-833A-F911A31B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5A9-FE29-47E9-9EDE-EB1AF894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E5A-41B5-469D-BC01-158A928E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998-B282-4D14-BC7A-9BEF409E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3CA-6183-4C11-B72C-C4C2CD21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DB7-CA70-457B-B569-0E5DAEA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4141-C451-4AF6-949B-CCFEEE4D3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28.pct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ct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1.png"/><Relationship Id="rId10" Type="http://schemas.openxmlformats.org/officeDocument/2006/relationships/image" Target="../media/image22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1.png"/><Relationship Id="rId3" Type="http://schemas.openxmlformats.org/officeDocument/2006/relationships/image" Target="../media/image16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5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lmond.srv.cs.cmu.edu/afs/cs.cmu.edu/project/oz/web/overview2.html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s, Mobile Agents,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nd D’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vid Kot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artment of Computer Sc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k@cs.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L, Rome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7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85040" y="5043600"/>
            <a:ext cx="265896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600" y="5076720"/>
            <a:ext cx="1579680" cy="163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41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(“software agent”), e.g.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ssistant (mail filter, schedul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agent (tactical picture ag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commerce agent (stock trader, bidd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 agent (Firefly, Amazon.co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that c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 with users, applications, and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aborate with the u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agents help with repetitive tas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6EB-9306-4220-AA40-37D73840EA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s everything an “agent”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all programs are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s 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66040" y="1987560"/>
            <a:ext cx="1638000" cy="39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986-8674-4F65-ADE2-18D4ABA3A7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84400" y="1460520"/>
          <a:ext cx="31752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0" y="1460520"/>
                    <a:ext cx="31752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179-0669-425E-B6D0-64C4D17B12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9400" y="3267000"/>
            <a:ext cx="17035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gentred" descr=""/>
          <p:cNvPicPr/>
          <p:nvPr/>
        </p:nvPicPr>
        <p:blipFill>
          <a:blip r:embed="rId1"/>
          <a:stretch/>
        </p:blipFill>
        <p:spPr>
          <a:xfrm>
            <a:off x="206064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56120" y="3267000"/>
            <a:ext cx="17017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5784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5784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61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258120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3896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gentred" descr=""/>
          <p:cNvPicPr/>
          <p:nvPr/>
        </p:nvPicPr>
        <p:blipFill>
          <a:blip r:embed="rId2"/>
          <a:stretch/>
        </p:blipFill>
        <p:spPr>
          <a:xfrm>
            <a:off x="531828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80000" y="1962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0" y="18860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7360" y="235692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9920" y="21146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27241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51400" y="2876400"/>
            <a:ext cx="1828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2960" y="4376880"/>
            <a:ext cx="7483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E19-0C8A-49AF-B79A-68B9150668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2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6160" y="2819520"/>
            <a:ext cx="259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4720" y="5486400"/>
            <a:ext cx="296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D2F-10A0-4D71-898F-A0E614C366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360" y="196524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8764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60" y="378936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7023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552-7BCC-4CC1-9909-89433A9F3C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8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18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19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0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653-AEF5-4963-B2E4-DB8166768D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96920" y="1042920"/>
            <a:ext cx="4919760" cy="5214960"/>
          </a:xfrm>
          <a:custGeom>
            <a:avLst/>
            <a:gdLst/>
            <a:ahLst/>
            <a:rect l="l" t="t" r="r" b="b"/>
            <a:pathLst>
              <a:path w="3099" h="3285">
                <a:moveTo>
                  <a:pt x="2277" y="8"/>
                </a:moveTo>
                <a:cubicBezTo>
                  <a:pt x="2068" y="15"/>
                  <a:pt x="1657" y="7"/>
                  <a:pt x="1462" y="121"/>
                </a:cubicBezTo>
                <a:cubicBezTo>
                  <a:pt x="1266" y="234"/>
                  <a:pt x="1243" y="529"/>
                  <a:pt x="1103" y="689"/>
                </a:cubicBezTo>
                <a:cubicBezTo>
                  <a:pt x="962" y="848"/>
                  <a:pt x="772" y="988"/>
                  <a:pt x="617" y="1078"/>
                </a:cubicBezTo>
                <a:cubicBezTo>
                  <a:pt x="461" y="1167"/>
                  <a:pt x="250" y="1061"/>
                  <a:pt x="169" y="1227"/>
                </a:cubicBezTo>
                <a:cubicBezTo>
                  <a:pt x="88" y="1392"/>
                  <a:pt x="0" y="1891"/>
                  <a:pt x="131" y="2072"/>
                </a:cubicBezTo>
                <a:cubicBezTo>
                  <a:pt x="261" y="2252"/>
                  <a:pt x="768" y="2176"/>
                  <a:pt x="954" y="2311"/>
                </a:cubicBezTo>
                <a:cubicBezTo>
                  <a:pt x="1139" y="2445"/>
                  <a:pt x="1110" y="2730"/>
                  <a:pt x="1246" y="2880"/>
                </a:cubicBezTo>
                <a:cubicBezTo>
                  <a:pt x="1381" y="3029"/>
                  <a:pt x="1537" y="3155"/>
                  <a:pt x="1769" y="3209"/>
                </a:cubicBezTo>
                <a:cubicBezTo>
                  <a:pt x="2000" y="3262"/>
                  <a:pt x="2426" y="3285"/>
                  <a:pt x="2636" y="3201"/>
                </a:cubicBezTo>
                <a:cubicBezTo>
                  <a:pt x="2845" y="3116"/>
                  <a:pt x="2950" y="2942"/>
                  <a:pt x="3025" y="2700"/>
                </a:cubicBezTo>
                <a:cubicBezTo>
                  <a:pt x="3099" y="2457"/>
                  <a:pt x="3083" y="2120"/>
                  <a:pt x="3085" y="1743"/>
                </a:cubicBezTo>
                <a:cubicBezTo>
                  <a:pt x="3086" y="1365"/>
                  <a:pt x="3094" y="712"/>
                  <a:pt x="3032" y="435"/>
                </a:cubicBezTo>
                <a:cubicBezTo>
                  <a:pt x="2969" y="157"/>
                  <a:pt x="2836" y="145"/>
                  <a:pt x="2711" y="76"/>
                </a:cubicBezTo>
                <a:cubicBezTo>
                  <a:pt x="2585" y="6"/>
                  <a:pt x="2485" y="0"/>
                  <a:pt x="2277" y="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RPC vs.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3040" y="5516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48160" y="4518000"/>
            <a:ext cx="1828800" cy="969840"/>
            <a:chOff x="3548160" y="4518000"/>
            <a:chExt cx="1828800" cy="969840"/>
          </a:xfrm>
        </p:grpSpPr>
        <p:sp>
          <p:nvSpPr>
            <p:cNvPr id="215" name=""/>
            <p:cNvSpPr/>
            <p:nvPr/>
          </p:nvSpPr>
          <p:spPr>
            <a:xfrm>
              <a:off x="3548160" y="495468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7200" y="451800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agentred" descr=""/>
            <p:cNvPicPr/>
            <p:nvPr/>
          </p:nvPicPr>
          <p:blipFill>
            <a:blip r:embed="rId1"/>
            <a:stretch/>
          </p:blipFill>
          <p:spPr>
            <a:xfrm>
              <a:off x="3749760" y="499428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565440" y="1328760"/>
            <a:ext cx="1828800" cy="1374840"/>
            <a:chOff x="3565440" y="1328760"/>
            <a:chExt cx="1828800" cy="1374840"/>
          </a:xfrm>
        </p:grpSpPr>
        <p:sp>
          <p:nvSpPr>
            <p:cNvPr id="219" name=""/>
            <p:cNvSpPr/>
            <p:nvPr/>
          </p:nvSpPr>
          <p:spPr>
            <a:xfrm>
              <a:off x="3818880" y="23047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565440" y="1328760"/>
              <a:ext cx="1828800" cy="960120"/>
              <a:chOff x="3565440" y="1328760"/>
              <a:chExt cx="1828800" cy="96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565440" y="17557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44640" y="1328760"/>
                <a:ext cx="68436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7560" y="17953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 flipV="1">
            <a:off x="4243320" y="1731960"/>
            <a:ext cx="547920" cy="24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7240" y="492552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93240" y="37940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38360" y="2795760"/>
            <a:ext cx="1828800" cy="969840"/>
            <a:chOff x="3438360" y="2795760"/>
            <a:chExt cx="1828800" cy="969840"/>
          </a:xfrm>
        </p:grpSpPr>
        <p:sp>
          <p:nvSpPr>
            <p:cNvPr id="228" name=""/>
            <p:cNvSpPr/>
            <p:nvPr/>
          </p:nvSpPr>
          <p:spPr>
            <a:xfrm>
              <a:off x="3438360" y="32324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7400" y="279576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agentred" descr=""/>
            <p:cNvPicPr/>
            <p:nvPr/>
          </p:nvPicPr>
          <p:blipFill>
            <a:blip r:embed="rId3"/>
            <a:stretch/>
          </p:blipFill>
          <p:spPr>
            <a:xfrm>
              <a:off x="3639960" y="32720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 flipV="1">
            <a:off x="4087800" y="320328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58800" y="2989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70200" y="3456000"/>
            <a:ext cx="1057320" cy="414360"/>
          </a:xfrm>
          <a:prstGeom prst="parallelogram">
            <a:avLst>
              <a:gd name="adj" fmla="val 785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gentred" descr=""/>
          <p:cNvPicPr/>
          <p:nvPr/>
        </p:nvPicPr>
        <p:blipFill>
          <a:blip r:embed="rId4"/>
          <a:stretch/>
        </p:blipFill>
        <p:spPr>
          <a:xfrm>
            <a:off x="2201760" y="3389400"/>
            <a:ext cx="430200" cy="444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59560" y="2784600"/>
            <a:ext cx="1208160" cy="1479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31640" y="4976640"/>
            <a:ext cx="1016280" cy="1243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18080" y="1722600"/>
            <a:ext cx="3073320" cy="1434960"/>
          </a:xfrm>
          <a:custGeom>
            <a:avLst/>
            <a:gdLst/>
            <a:ahLst/>
            <a:rect l="l" t="t" r="r" b="b"/>
            <a:pathLst>
              <a:path w="1936" h="904">
                <a:moveTo>
                  <a:pt x="1936" y="904"/>
                </a:moveTo>
                <a:cubicBezTo>
                  <a:pt x="1744" y="570"/>
                  <a:pt x="1553" y="237"/>
                  <a:pt x="1263" y="119"/>
                </a:cubicBezTo>
                <a:cubicBezTo>
                  <a:pt x="972" y="0"/>
                  <a:pt x="387" y="177"/>
                  <a:pt x="194" y="194"/>
                </a:cubicBezTo>
                <a:cubicBezTo>
                  <a:pt x="0" y="210"/>
                  <a:pt x="52" y="213"/>
                  <a:pt x="104" y="21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2124000"/>
            <a:ext cx="2789280" cy="1152720"/>
          </a:xfrm>
          <a:custGeom>
            <a:avLst/>
            <a:gdLst/>
            <a:ahLst/>
            <a:rect l="l" t="t" r="r" b="b"/>
            <a:pathLst>
              <a:path w="1757" h="726">
                <a:moveTo>
                  <a:pt x="0" y="0"/>
                </a:moveTo>
                <a:cubicBezTo>
                  <a:pt x="302" y="209"/>
                  <a:pt x="604" y="418"/>
                  <a:pt x="897" y="539"/>
                </a:cubicBezTo>
                <a:cubicBezTo>
                  <a:pt x="1189" y="660"/>
                  <a:pt x="1613" y="693"/>
                  <a:pt x="1757" y="72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7080" y="3095640"/>
            <a:ext cx="2754360" cy="477720"/>
          </a:xfrm>
          <a:custGeom>
            <a:avLst/>
            <a:gdLst/>
            <a:ahLst/>
            <a:rect l="l" t="t" r="r" b="b"/>
            <a:pathLst>
              <a:path w="1690" h="324">
                <a:moveTo>
                  <a:pt x="1690" y="324"/>
                </a:moveTo>
                <a:cubicBezTo>
                  <a:pt x="1385" y="178"/>
                  <a:pt x="1081" y="33"/>
                  <a:pt x="800" y="17"/>
                </a:cubicBezTo>
                <a:cubicBezTo>
                  <a:pt x="518" y="0"/>
                  <a:pt x="259" y="113"/>
                  <a:pt x="0" y="22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4760" y="3467160"/>
            <a:ext cx="2705040" cy="736560"/>
          </a:xfrm>
          <a:custGeom>
            <a:avLst/>
            <a:gdLst/>
            <a:ahLst/>
            <a:rect l="l" t="t" r="r" b="b"/>
            <a:pathLst>
              <a:path w="1712" h="367">
                <a:moveTo>
                  <a:pt x="0" y="0"/>
                </a:moveTo>
                <a:cubicBezTo>
                  <a:pt x="309" y="160"/>
                  <a:pt x="618" y="320"/>
                  <a:pt x="904" y="344"/>
                </a:cubicBezTo>
                <a:cubicBezTo>
                  <a:pt x="1189" y="367"/>
                  <a:pt x="1450" y="254"/>
                  <a:pt x="1712" y="14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8640" y="4154400"/>
            <a:ext cx="2766960" cy="1044720"/>
          </a:xfrm>
          <a:custGeom>
            <a:avLst/>
            <a:gdLst/>
            <a:ahLst/>
            <a:rect l="l" t="t" r="r" b="b"/>
            <a:pathLst>
              <a:path w="1743" h="658">
                <a:moveTo>
                  <a:pt x="1743" y="0"/>
                </a:moveTo>
                <a:cubicBezTo>
                  <a:pt x="1480" y="203"/>
                  <a:pt x="1218" y="406"/>
                  <a:pt x="928" y="516"/>
                </a:cubicBezTo>
                <a:cubicBezTo>
                  <a:pt x="637" y="625"/>
                  <a:pt x="318" y="641"/>
                  <a:pt x="0" y="65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56200" y="4154400"/>
            <a:ext cx="3043080" cy="1494000"/>
          </a:xfrm>
          <a:custGeom>
            <a:avLst/>
            <a:gdLst/>
            <a:ahLst/>
            <a:rect l="l" t="t" r="r" b="b"/>
            <a:pathLst>
              <a:path w="1917" h="986">
                <a:moveTo>
                  <a:pt x="0" y="710"/>
                </a:moveTo>
                <a:cubicBezTo>
                  <a:pt x="309" y="848"/>
                  <a:pt x="619" y="986"/>
                  <a:pt x="912" y="965"/>
                </a:cubicBezTo>
                <a:cubicBezTo>
                  <a:pt x="1204" y="943"/>
                  <a:pt x="1596" y="743"/>
                  <a:pt x="1757" y="583"/>
                </a:cubicBezTo>
                <a:cubicBezTo>
                  <a:pt x="1917" y="422"/>
                  <a:pt x="1897" y="211"/>
                  <a:pt x="1877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2920" y="1542960"/>
            <a:ext cx="18831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requ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ts of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77000" y="1555920"/>
            <a:ext cx="606600" cy="499572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589080" y="57675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9206000">
            <a:off x="1366920" y="3454200"/>
            <a:ext cx="606240" cy="305244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700000">
            <a:off x="554760" y="4097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3822840"/>
            <a:ext cx="1496880" cy="2028600"/>
          </a:xfrm>
          <a:custGeom>
            <a:avLst/>
            <a:gdLst/>
            <a:ahLst/>
            <a:rect l="l" t="t" r="r" b="b"/>
            <a:pathLst>
              <a:path w="943" h="1278">
                <a:moveTo>
                  <a:pt x="0" y="1278"/>
                </a:moveTo>
                <a:cubicBezTo>
                  <a:pt x="335" y="1130"/>
                  <a:pt x="670" y="982"/>
                  <a:pt x="807" y="770"/>
                </a:cubicBezTo>
                <a:cubicBezTo>
                  <a:pt x="943" y="557"/>
                  <a:pt x="882" y="278"/>
                  <a:pt x="82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28760" y="3833640"/>
            <a:ext cx="1087560" cy="1852920"/>
          </a:xfrm>
          <a:custGeom>
            <a:avLst/>
            <a:gdLst/>
            <a:ahLst/>
            <a:rect l="l" t="t" r="r" b="b"/>
            <a:pathLst>
              <a:path w="685" h="1167">
                <a:moveTo>
                  <a:pt x="658" y="0"/>
                </a:moveTo>
                <a:cubicBezTo>
                  <a:pt x="671" y="250"/>
                  <a:pt x="685" y="501"/>
                  <a:pt x="576" y="696"/>
                </a:cubicBezTo>
                <a:cubicBezTo>
                  <a:pt x="466" y="890"/>
                  <a:pt x="233" y="1028"/>
                  <a:pt x="0" y="1167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76560" y="1900080"/>
            <a:ext cx="103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720" y="62643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agent moves across wireless only 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5200" y="2184480"/>
            <a:ext cx="1163520" cy="1328760"/>
          </a:xfrm>
          <a:custGeom>
            <a:avLst/>
            <a:gdLst/>
            <a:ahLst/>
            <a:rect l="l" t="t" r="r" b="b"/>
            <a:pathLst>
              <a:path w="733" h="837">
                <a:moveTo>
                  <a:pt x="0" y="837"/>
                </a:moveTo>
                <a:cubicBezTo>
                  <a:pt x="159" y="802"/>
                  <a:pt x="318" y="767"/>
                  <a:pt x="441" y="628"/>
                </a:cubicBezTo>
                <a:cubicBezTo>
                  <a:pt x="563" y="488"/>
                  <a:pt x="648" y="244"/>
                  <a:pt x="73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8840" y="2089080"/>
            <a:ext cx="1176120" cy="1317600"/>
          </a:xfrm>
          <a:custGeom>
            <a:avLst/>
            <a:gdLst/>
            <a:ahLst/>
            <a:rect l="l" t="t" r="r" b="b"/>
            <a:pathLst>
              <a:path w="741" h="830">
                <a:moveTo>
                  <a:pt x="741" y="0"/>
                </a:moveTo>
                <a:cubicBezTo>
                  <a:pt x="600" y="151"/>
                  <a:pt x="460" y="302"/>
                  <a:pt x="337" y="441"/>
                </a:cubicBezTo>
                <a:cubicBezTo>
                  <a:pt x="213" y="579"/>
                  <a:pt x="106" y="704"/>
                  <a:pt x="0" y="83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2600" y="3475080"/>
            <a:ext cx="1009440" cy="146160"/>
          </a:xfrm>
          <a:custGeom>
            <a:avLst/>
            <a:gdLst/>
            <a:ahLst/>
            <a:rect l="l" t="t" r="r" b="b"/>
            <a:pathLst>
              <a:path w="636" h="92">
                <a:moveTo>
                  <a:pt x="0" y="92"/>
                </a:moveTo>
                <a:cubicBezTo>
                  <a:pt x="168" y="54"/>
                  <a:pt x="336" y="17"/>
                  <a:pt x="442" y="9"/>
                </a:cubicBezTo>
                <a:cubicBezTo>
                  <a:pt x="548" y="0"/>
                  <a:pt x="605" y="30"/>
                  <a:pt x="636" y="39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2600" y="3656160"/>
            <a:ext cx="1009440" cy="180720"/>
          </a:xfrm>
          <a:custGeom>
            <a:avLst/>
            <a:gdLst/>
            <a:ahLst/>
            <a:rect l="l" t="t" r="r" b="b"/>
            <a:pathLst>
              <a:path w="636" h="114">
                <a:moveTo>
                  <a:pt x="636" y="15"/>
                </a:moveTo>
                <a:cubicBezTo>
                  <a:pt x="539" y="64"/>
                  <a:pt x="443" y="114"/>
                  <a:pt x="337" y="112"/>
                </a:cubicBezTo>
                <a:cubicBezTo>
                  <a:pt x="231" y="109"/>
                  <a:pt x="53" y="15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1440" y="3762360"/>
            <a:ext cx="1332000" cy="1211400"/>
          </a:xfrm>
          <a:custGeom>
            <a:avLst/>
            <a:gdLst/>
            <a:ahLst/>
            <a:rect l="l" t="t" r="r" b="b"/>
            <a:pathLst>
              <a:path w="839" h="763">
                <a:moveTo>
                  <a:pt x="0" y="0"/>
                </a:moveTo>
                <a:cubicBezTo>
                  <a:pt x="283" y="142"/>
                  <a:pt x="566" y="284"/>
                  <a:pt x="703" y="412"/>
                </a:cubicBezTo>
                <a:cubicBezTo>
                  <a:pt x="839" y="539"/>
                  <a:pt x="830" y="651"/>
                  <a:pt x="822" y="76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5200" y="3846600"/>
            <a:ext cx="1103400" cy="1317600"/>
          </a:xfrm>
          <a:custGeom>
            <a:avLst/>
            <a:gdLst/>
            <a:ahLst/>
            <a:rect l="l" t="t" r="r" b="b"/>
            <a:pathLst>
              <a:path w="695" h="830">
                <a:moveTo>
                  <a:pt x="695" y="830"/>
                </a:moveTo>
                <a:cubicBezTo>
                  <a:pt x="592" y="723"/>
                  <a:pt x="489" y="616"/>
                  <a:pt x="374" y="478"/>
                </a:cubicBezTo>
                <a:cubicBezTo>
                  <a:pt x="258" y="339"/>
                  <a:pt x="129" y="16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E08-BCF9-4A0F-A987-2F29CDC96CD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73400" y="517536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6068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BCA-3F60-4095-AA65-6CE3FF45ADC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84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6"/>
              <a:endCxn id="285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4" idx="2"/>
              <a:endCxn id="286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90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91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92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93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94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96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305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312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21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30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56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679-9FC6-435D-948F-EAE3F741A4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3160" y="3232080"/>
            <a:ext cx="8808840" cy="307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Cybenko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 Gray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rpa" descr=""/>
          <p:cNvPicPr/>
          <p:nvPr/>
        </p:nvPicPr>
        <p:blipFill>
          <a:blip r:embed="rId1"/>
          <a:stretch/>
        </p:blipFill>
        <p:spPr>
          <a:xfrm>
            <a:off x="258840" y="5091120"/>
            <a:ext cx="1828800" cy="107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5372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RPA 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2-0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uri-dod" descr=""/>
          <p:cNvPicPr/>
          <p:nvPr/>
        </p:nvPicPr>
        <p:blipFill>
          <a:blip r:embed="rId2"/>
          <a:stretch/>
        </p:blipFill>
        <p:spPr>
          <a:xfrm>
            <a:off x="7304040" y="330516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4040" y="353232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D MURI (AFOSR contract F49620-97-1-038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1240" y="420048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0280" y="429084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RL/Rome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C-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15120" y="4869000"/>
            <a:ext cx="1549440" cy="81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48783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R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00014-95-1-1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1880" y="33750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655-7F3A-4A9A-9852-F25ECE5D87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2840" y="1546200"/>
            <a:ext cx="8457840" cy="4041360"/>
            <a:chOff x="402840" y="1546200"/>
            <a:chExt cx="8457840" cy="40413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4880" y="2952360"/>
              <a:ext cx="158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70280" y="472716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840" y="1546200"/>
              <a:ext cx="8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in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842360" y="59562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e now use Lucent WaveLAN2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EFC-B343-480E-88A3-F932B9E833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DARPA CoABS Proje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24080" y="2782800"/>
            <a:ext cx="3270240" cy="2886120"/>
            <a:chOff x="1324080" y="2782800"/>
            <a:chExt cx="3270240" cy="2886120"/>
          </a:xfrm>
        </p:grpSpPr>
        <p:sp>
          <p:nvSpPr>
            <p:cNvPr id="375" name=""/>
            <p:cNvSpPr/>
            <p:nvPr/>
          </p:nvSpPr>
          <p:spPr>
            <a:xfrm>
              <a:off x="1324080" y="2782800"/>
              <a:ext cx="3270240" cy="2886120"/>
            </a:xfrm>
            <a:custGeom>
              <a:avLst/>
              <a:gdLst/>
              <a:ahLst/>
              <a:rect l="l" t="t" r="r" b="b"/>
              <a:pathLst>
                <a:path w="2381" h="2101">
                  <a:moveTo>
                    <a:pt x="352" y="471"/>
                  </a:moveTo>
                  <a:cubicBezTo>
                    <a:pt x="370" y="340"/>
                    <a:pt x="361" y="199"/>
                    <a:pt x="432" y="86"/>
                  </a:cubicBezTo>
                  <a:cubicBezTo>
                    <a:pt x="456" y="45"/>
                    <a:pt x="508" y="30"/>
                    <a:pt x="549" y="6"/>
                  </a:cubicBezTo>
                  <a:cubicBezTo>
                    <a:pt x="756" y="24"/>
                    <a:pt x="695" y="0"/>
                    <a:pt x="862" y="108"/>
                  </a:cubicBezTo>
                  <a:cubicBezTo>
                    <a:pt x="928" y="208"/>
                    <a:pt x="905" y="178"/>
                    <a:pt x="942" y="268"/>
                  </a:cubicBezTo>
                  <a:cubicBezTo>
                    <a:pt x="949" y="258"/>
                    <a:pt x="954" y="247"/>
                    <a:pt x="963" y="239"/>
                  </a:cubicBezTo>
                  <a:cubicBezTo>
                    <a:pt x="969" y="232"/>
                    <a:pt x="979" y="231"/>
                    <a:pt x="985" y="224"/>
                  </a:cubicBezTo>
                  <a:cubicBezTo>
                    <a:pt x="1024" y="169"/>
                    <a:pt x="959" y="158"/>
                    <a:pt x="1087" y="130"/>
                  </a:cubicBezTo>
                  <a:cubicBezTo>
                    <a:pt x="1126" y="121"/>
                    <a:pt x="1164" y="113"/>
                    <a:pt x="1203" y="101"/>
                  </a:cubicBezTo>
                  <a:cubicBezTo>
                    <a:pt x="1311" y="104"/>
                    <a:pt x="1383" y="103"/>
                    <a:pt x="1480" y="122"/>
                  </a:cubicBezTo>
                  <a:cubicBezTo>
                    <a:pt x="1543" y="165"/>
                    <a:pt x="1611" y="201"/>
                    <a:pt x="1669" y="253"/>
                  </a:cubicBezTo>
                  <a:cubicBezTo>
                    <a:pt x="1773" y="346"/>
                    <a:pt x="1562" y="300"/>
                    <a:pt x="1785" y="319"/>
                  </a:cubicBezTo>
                  <a:cubicBezTo>
                    <a:pt x="1884" y="337"/>
                    <a:pt x="1954" y="394"/>
                    <a:pt x="2040" y="442"/>
                  </a:cubicBezTo>
                  <a:cubicBezTo>
                    <a:pt x="2075" y="461"/>
                    <a:pt x="2113" y="475"/>
                    <a:pt x="2149" y="493"/>
                  </a:cubicBezTo>
                  <a:cubicBezTo>
                    <a:pt x="2158" y="510"/>
                    <a:pt x="2164" y="529"/>
                    <a:pt x="2178" y="544"/>
                  </a:cubicBezTo>
                  <a:cubicBezTo>
                    <a:pt x="2270" y="645"/>
                    <a:pt x="2183" y="505"/>
                    <a:pt x="2243" y="610"/>
                  </a:cubicBezTo>
                  <a:cubicBezTo>
                    <a:pt x="2257" y="702"/>
                    <a:pt x="2279" y="793"/>
                    <a:pt x="2287" y="886"/>
                  </a:cubicBezTo>
                  <a:cubicBezTo>
                    <a:pt x="2289" y="913"/>
                    <a:pt x="2277" y="939"/>
                    <a:pt x="2272" y="966"/>
                  </a:cubicBezTo>
                  <a:cubicBezTo>
                    <a:pt x="2270" y="973"/>
                    <a:pt x="2272" y="985"/>
                    <a:pt x="2265" y="988"/>
                  </a:cubicBezTo>
                  <a:cubicBezTo>
                    <a:pt x="2234" y="996"/>
                    <a:pt x="2202" y="992"/>
                    <a:pt x="2171" y="995"/>
                  </a:cubicBezTo>
                  <a:cubicBezTo>
                    <a:pt x="2264" y="1093"/>
                    <a:pt x="2329" y="1119"/>
                    <a:pt x="2345" y="1235"/>
                  </a:cubicBezTo>
                  <a:cubicBezTo>
                    <a:pt x="2323" y="1472"/>
                    <a:pt x="2381" y="1463"/>
                    <a:pt x="2236" y="1526"/>
                  </a:cubicBezTo>
                  <a:cubicBezTo>
                    <a:pt x="2055" y="1516"/>
                    <a:pt x="2090" y="1486"/>
                    <a:pt x="2149" y="1570"/>
                  </a:cubicBezTo>
                  <a:cubicBezTo>
                    <a:pt x="2158" y="1583"/>
                    <a:pt x="2163" y="1598"/>
                    <a:pt x="2171" y="1613"/>
                  </a:cubicBezTo>
                  <a:cubicBezTo>
                    <a:pt x="2188" y="1761"/>
                    <a:pt x="2146" y="1920"/>
                    <a:pt x="1974" y="1948"/>
                  </a:cubicBezTo>
                  <a:cubicBezTo>
                    <a:pt x="1947" y="1946"/>
                    <a:pt x="1802" y="1968"/>
                    <a:pt x="1851" y="1897"/>
                  </a:cubicBezTo>
                  <a:cubicBezTo>
                    <a:pt x="1815" y="2062"/>
                    <a:pt x="1835" y="2010"/>
                    <a:pt x="1647" y="2101"/>
                  </a:cubicBezTo>
                  <a:cubicBezTo>
                    <a:pt x="1457" y="2088"/>
                    <a:pt x="1452" y="2093"/>
                    <a:pt x="1320" y="2050"/>
                  </a:cubicBezTo>
                  <a:cubicBezTo>
                    <a:pt x="1255" y="2002"/>
                    <a:pt x="1208" y="1976"/>
                    <a:pt x="1160" y="1919"/>
                  </a:cubicBezTo>
                  <a:cubicBezTo>
                    <a:pt x="1123" y="1875"/>
                    <a:pt x="1129" y="1849"/>
                    <a:pt x="1072" y="1839"/>
                  </a:cubicBezTo>
                  <a:cubicBezTo>
                    <a:pt x="1048" y="1863"/>
                    <a:pt x="1030" y="1867"/>
                    <a:pt x="1000" y="1882"/>
                  </a:cubicBezTo>
                  <a:cubicBezTo>
                    <a:pt x="871" y="1877"/>
                    <a:pt x="754" y="1880"/>
                    <a:pt x="636" y="1831"/>
                  </a:cubicBezTo>
                  <a:cubicBezTo>
                    <a:pt x="628" y="1821"/>
                    <a:pt x="614" y="1814"/>
                    <a:pt x="614" y="1802"/>
                  </a:cubicBezTo>
                  <a:cubicBezTo>
                    <a:pt x="609" y="1712"/>
                    <a:pt x="685" y="1469"/>
                    <a:pt x="622" y="1533"/>
                  </a:cubicBezTo>
                  <a:cubicBezTo>
                    <a:pt x="614" y="1540"/>
                    <a:pt x="608" y="1549"/>
                    <a:pt x="600" y="1555"/>
                  </a:cubicBezTo>
                  <a:cubicBezTo>
                    <a:pt x="586" y="1564"/>
                    <a:pt x="571" y="1571"/>
                    <a:pt x="556" y="1577"/>
                  </a:cubicBezTo>
                  <a:cubicBezTo>
                    <a:pt x="541" y="1581"/>
                    <a:pt x="526" y="1581"/>
                    <a:pt x="512" y="1584"/>
                  </a:cubicBezTo>
                  <a:cubicBezTo>
                    <a:pt x="459" y="1601"/>
                    <a:pt x="410" y="1559"/>
                    <a:pt x="367" y="1533"/>
                  </a:cubicBezTo>
                  <a:cubicBezTo>
                    <a:pt x="282" y="1481"/>
                    <a:pt x="212" y="1416"/>
                    <a:pt x="163" y="1330"/>
                  </a:cubicBezTo>
                  <a:cubicBezTo>
                    <a:pt x="151" y="1267"/>
                    <a:pt x="124" y="1205"/>
                    <a:pt x="127" y="1141"/>
                  </a:cubicBezTo>
                  <a:cubicBezTo>
                    <a:pt x="127" y="1125"/>
                    <a:pt x="157" y="1133"/>
                    <a:pt x="171" y="1126"/>
                  </a:cubicBezTo>
                  <a:cubicBezTo>
                    <a:pt x="294" y="1063"/>
                    <a:pt x="99" y="1142"/>
                    <a:pt x="236" y="1090"/>
                  </a:cubicBezTo>
                  <a:cubicBezTo>
                    <a:pt x="243" y="1080"/>
                    <a:pt x="262" y="1072"/>
                    <a:pt x="258" y="1061"/>
                  </a:cubicBezTo>
                  <a:cubicBezTo>
                    <a:pt x="245" y="1026"/>
                    <a:pt x="213" y="1003"/>
                    <a:pt x="192" y="973"/>
                  </a:cubicBezTo>
                  <a:cubicBezTo>
                    <a:pt x="147" y="909"/>
                    <a:pt x="130" y="831"/>
                    <a:pt x="83" y="770"/>
                  </a:cubicBezTo>
                  <a:cubicBezTo>
                    <a:pt x="56" y="695"/>
                    <a:pt x="0" y="612"/>
                    <a:pt x="54" y="530"/>
                  </a:cubicBezTo>
                  <a:cubicBezTo>
                    <a:pt x="68" y="507"/>
                    <a:pt x="107" y="520"/>
                    <a:pt x="134" y="515"/>
                  </a:cubicBezTo>
                  <a:cubicBezTo>
                    <a:pt x="214" y="530"/>
                    <a:pt x="146" y="520"/>
                    <a:pt x="127" y="501"/>
                  </a:cubicBezTo>
                  <a:cubicBezTo>
                    <a:pt x="119" y="493"/>
                    <a:pt x="122" y="481"/>
                    <a:pt x="120" y="471"/>
                  </a:cubicBezTo>
                  <a:cubicBezTo>
                    <a:pt x="148" y="428"/>
                    <a:pt x="161" y="386"/>
                    <a:pt x="214" y="370"/>
                  </a:cubicBezTo>
                  <a:cubicBezTo>
                    <a:pt x="257" y="374"/>
                    <a:pt x="345" y="384"/>
                    <a:pt x="345" y="384"/>
                  </a:cubicBezTo>
                </a:path>
              </a:pathLst>
            </a:custGeom>
            <a:solidFill>
              <a:srgbClr val="99cc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7880" y="3101400"/>
              <a:ext cx="519120" cy="50940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218"/>
                  </a:moveTo>
                  <a:cubicBezTo>
                    <a:pt x="24" y="176"/>
                    <a:pt x="45" y="133"/>
                    <a:pt x="73" y="94"/>
                  </a:cubicBezTo>
                  <a:cubicBezTo>
                    <a:pt x="119" y="26"/>
                    <a:pt x="233" y="20"/>
                    <a:pt x="298" y="0"/>
                  </a:cubicBezTo>
                  <a:cubicBezTo>
                    <a:pt x="339" y="6"/>
                    <a:pt x="368" y="29"/>
                    <a:pt x="407" y="29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5130360"/>
              <a:ext cx="784080" cy="358200"/>
            </a:xfrm>
            <a:custGeom>
              <a:avLst/>
              <a:gdLst/>
              <a:ahLst/>
              <a:rect l="l" t="t" r="r" b="b"/>
              <a:pathLst>
                <a:path w="644" h="211">
                  <a:moveTo>
                    <a:pt x="0" y="0"/>
                  </a:moveTo>
                  <a:cubicBezTo>
                    <a:pt x="0" y="0"/>
                    <a:pt x="67" y="148"/>
                    <a:pt x="102" y="167"/>
                  </a:cubicBezTo>
                  <a:cubicBezTo>
                    <a:pt x="115" y="174"/>
                    <a:pt x="131" y="171"/>
                    <a:pt x="146" y="174"/>
                  </a:cubicBezTo>
                  <a:cubicBezTo>
                    <a:pt x="210" y="206"/>
                    <a:pt x="183" y="195"/>
                    <a:pt x="226" y="211"/>
                  </a:cubicBezTo>
                  <a:cubicBezTo>
                    <a:pt x="330" y="208"/>
                    <a:pt x="434" y="209"/>
                    <a:pt x="539" y="203"/>
                  </a:cubicBezTo>
                  <a:cubicBezTo>
                    <a:pt x="575" y="200"/>
                    <a:pt x="587" y="134"/>
                    <a:pt x="611" y="123"/>
                  </a:cubicBezTo>
                  <a:cubicBezTo>
                    <a:pt x="644" y="106"/>
                    <a:pt x="640" y="119"/>
                    <a:pt x="640" y="94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97840" y="4378680"/>
              <a:ext cx="628560" cy="441000"/>
            </a:xfrm>
            <a:custGeom>
              <a:avLst/>
              <a:gdLst/>
              <a:ahLst/>
              <a:rect l="l" t="t" r="r" b="b"/>
              <a:pathLst>
                <a:path w="458" h="321">
                  <a:moveTo>
                    <a:pt x="0" y="0"/>
                  </a:moveTo>
                  <a:cubicBezTo>
                    <a:pt x="31" y="114"/>
                    <a:pt x="46" y="247"/>
                    <a:pt x="175" y="291"/>
                  </a:cubicBezTo>
                  <a:cubicBezTo>
                    <a:pt x="264" y="321"/>
                    <a:pt x="458" y="313"/>
                    <a:pt x="458" y="313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7120" y="3689280"/>
              <a:ext cx="22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he “Grid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78680" y="1015920"/>
            <a:ext cx="1760400" cy="21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21280" y="2008080"/>
            <a:ext cx="2401920" cy="1258920"/>
          </a:xfrm>
          <a:custGeom>
            <a:avLst/>
            <a:gdLst/>
            <a:ahLst/>
            <a:rect l="l" t="t" r="r" b="b"/>
            <a:pathLst>
              <a:path w="1513" h="793">
                <a:moveTo>
                  <a:pt x="1513" y="0"/>
                </a:moveTo>
                <a:cubicBezTo>
                  <a:pt x="1239" y="10"/>
                  <a:pt x="965" y="20"/>
                  <a:pt x="713" y="153"/>
                </a:cubicBezTo>
                <a:cubicBezTo>
                  <a:pt x="460" y="285"/>
                  <a:pt x="230" y="539"/>
                  <a:pt x="0" y="7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4120" y="1709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02160" y="4352760"/>
            <a:ext cx="1374840" cy="611280"/>
          </a:xfrm>
          <a:custGeom>
            <a:avLst/>
            <a:gdLst/>
            <a:ahLst/>
            <a:rect l="l" t="t" r="r" b="b"/>
            <a:pathLst>
              <a:path w="866" h="385">
                <a:moveTo>
                  <a:pt x="866" y="385"/>
                </a:moveTo>
                <a:cubicBezTo>
                  <a:pt x="781" y="257"/>
                  <a:pt x="697" y="129"/>
                  <a:pt x="553" y="65"/>
                </a:cubicBezTo>
                <a:cubicBezTo>
                  <a:pt x="408" y="0"/>
                  <a:pt x="92" y="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7240" y="4167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5400" y="1133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8880" y="4735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00160" y="5537160"/>
            <a:ext cx="2050920" cy="1206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212840" y="5124600"/>
            <a:ext cx="959040" cy="406080"/>
          </a:xfrm>
          <a:custGeom>
            <a:avLst/>
            <a:gdLst/>
            <a:ahLst/>
            <a:rect l="l" t="t" r="r" b="b"/>
            <a:pathLst>
              <a:path w="596" h="176">
                <a:moveTo>
                  <a:pt x="0" y="176"/>
                </a:moveTo>
                <a:cubicBezTo>
                  <a:pt x="22" y="117"/>
                  <a:pt x="45" y="59"/>
                  <a:pt x="145" y="30"/>
                </a:cubicBezTo>
                <a:cubicBezTo>
                  <a:pt x="244" y="0"/>
                  <a:pt x="420" y="0"/>
                  <a:pt x="596" y="1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0720" y="1847880"/>
            <a:ext cx="1062000" cy="554040"/>
            <a:chOff x="450720" y="1847880"/>
            <a:chExt cx="1062000" cy="554040"/>
          </a:xfrm>
        </p:grpSpPr>
        <p:sp>
          <p:nvSpPr>
            <p:cNvPr id="390" name=""/>
            <p:cNvSpPr/>
            <p:nvPr/>
          </p:nvSpPr>
          <p:spPr>
            <a:xfrm>
              <a:off x="450720" y="1847880"/>
              <a:ext cx="1062000" cy="554040"/>
            </a:xfrm>
            <a:prstGeom prst="ellipse">
              <a:avLst/>
            </a:prstGeom>
            <a:solidFill>
              <a:srgbClr val="ffcc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240" y="19414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362240" y="1592280"/>
            <a:ext cx="1120680" cy="473040"/>
          </a:xfrm>
          <a:prstGeom prst="ellipse">
            <a:avLst/>
          </a:prstGeom>
          <a:solidFill>
            <a:srgbClr val="ff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4120" y="2033640"/>
            <a:ext cx="1501560" cy="426960"/>
          </a:xfrm>
          <a:prstGeom prst="ellipse">
            <a:avLst/>
          </a:prstGeom>
          <a:solidFill>
            <a:srgbClr val="00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2367000"/>
            <a:ext cx="623880" cy="623880"/>
          </a:xfrm>
          <a:custGeom>
            <a:avLst/>
            <a:gdLst/>
            <a:ahLst/>
            <a:rect l="l" t="t" r="r" b="b"/>
            <a:pathLst>
              <a:path w="393" h="393">
                <a:moveTo>
                  <a:pt x="0" y="0"/>
                </a:moveTo>
                <a:cubicBezTo>
                  <a:pt x="11" y="105"/>
                  <a:pt x="22" y="210"/>
                  <a:pt x="88" y="276"/>
                </a:cubicBezTo>
                <a:cubicBezTo>
                  <a:pt x="153" y="341"/>
                  <a:pt x="341" y="373"/>
                  <a:pt x="393" y="3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2470320"/>
            <a:ext cx="204840" cy="380880"/>
          </a:xfrm>
          <a:custGeom>
            <a:avLst/>
            <a:gdLst/>
            <a:ahLst/>
            <a:rect l="l" t="t" r="r" b="b"/>
            <a:pathLst>
              <a:path w="129" h="240">
                <a:moveTo>
                  <a:pt x="80" y="0"/>
                </a:moveTo>
                <a:cubicBezTo>
                  <a:pt x="104" y="42"/>
                  <a:pt x="129" y="84"/>
                  <a:pt x="116" y="124"/>
                </a:cubicBezTo>
                <a:cubicBezTo>
                  <a:pt x="102" y="163"/>
                  <a:pt x="51" y="201"/>
                  <a:pt x="0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4880" y="2055960"/>
            <a:ext cx="403200" cy="772920"/>
          </a:xfrm>
          <a:custGeom>
            <a:avLst/>
            <a:gdLst/>
            <a:ahLst/>
            <a:rect l="l" t="t" r="r" b="b"/>
            <a:pathLst>
              <a:path w="254" h="487">
                <a:moveTo>
                  <a:pt x="80" y="0"/>
                </a:moveTo>
                <a:cubicBezTo>
                  <a:pt x="40" y="97"/>
                  <a:pt x="0" y="194"/>
                  <a:pt x="29" y="276"/>
                </a:cubicBezTo>
                <a:cubicBezTo>
                  <a:pt x="57" y="357"/>
                  <a:pt x="155" y="422"/>
                  <a:pt x="254" y="48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857920" y="46324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FD0-EDFF-4AFF-A2C6-49ED469E75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CoABS Gri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ynamic mix of resou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s come and 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infrastructure for communication and directory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id-ready agents provide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lp to find info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pid construction of new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mble unexpected apps in days or wee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components (agen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D17-0624-4FF3-8218-9AA54B146C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NE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271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combatant Evacuation Op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wait 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route plan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ffic and weather monito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icopter schedu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image1-new" descr=""/>
          <p:cNvPicPr/>
          <p:nvPr/>
        </p:nvPicPr>
        <p:blipFill>
          <a:blip r:embed="rId1"/>
          <a:stretch/>
        </p:blipFill>
        <p:spPr>
          <a:xfrm>
            <a:off x="316080" y="3814920"/>
            <a:ext cx="6765840" cy="30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7A5-732C-4724-BCF4-E71D96C66C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s for 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407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410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420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D8C-F18D-42AC-B4E6-000DEE641EF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EC6-CED6-4A3D-9485-7002F76F84B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9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062-F277-4368-9329-DF061CE72A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70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A15-AC6B-4BF9-9734-7DD4D20BFA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020-22BC-429C-8379-3D85EA05DDD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720" y="119052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 and the DARPA CoAB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24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2040" y="1743120"/>
            <a:ext cx="52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CoAB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024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916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080" y="259560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8800" y="31478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3E4-290E-43EF-B904-A8399729C5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27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27D-ABDF-48D6-86CE-37D2A0F8713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CAF-43FF-4879-B5FE-6E19C94A186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688-C658-4BB9-9F41-0885B32D0F8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2F9-766C-40AF-B8C1-32CCE7111F7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5400" y="1509840"/>
            <a:ext cx="74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4DD-3223-4CAC-8659-0809A052A43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84400" y="1635120"/>
            <a:ext cx="6953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 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ar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based on strong code mobility, to solve many 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72D-57ED-4C19-BBBD-C651AA9AFB2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058840" y="1905120"/>
            <a:ext cx="4902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2840" y="317988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A4B-F712-46C2-AE0B-B7CBEAB468C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34720" y="18320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52440" y="263376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67840" y="414648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11000" y="18129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lets, Voy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10640" y="2979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12080" y="43117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coma, 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61400" y="5599080"/>
            <a:ext cx="52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There are many others; too many to describe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F77-133D-4691-AB50-C203187DF63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9F8-DC56-4C9A-BC40-8CA1C8588F3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1440" y="2478240"/>
            <a:ext cx="6264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633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E3A-EB0F-4AD7-AAEC-B685FAF52FA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97360" y="1233360"/>
            <a:ext cx="5177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“agent”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DFD-1052-4AE2-81EA-373CA3885F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1720" y="2544840"/>
            <a:ext cx="754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641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643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5AE-DC31-4E78-80D9-2217EB32EA0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, in standard 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B58-BB2A-4182-8502-CEF7086EF687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649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651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446040" y="2533680"/>
            <a:ext cx="8258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EBE-3DA0-4370-8E56-A6A183D783E4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24120" y="2556000"/>
            <a:ext cx="5816520" cy="155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4EB-0721-483B-B8A9-1C8037C1B8E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39760" y="2773440"/>
            <a:ext cx="68691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659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2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F68-23EE-4E64-9B25-0E66C511D4F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94120" y="1981080"/>
            <a:ext cx="47480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0320" y="19922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A9F-79BE-42C1-838E-486F94A692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670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673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5D9-86F1-4131-94CF-865B5A619838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40480" y="1138320"/>
            <a:ext cx="52419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686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687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B75-7484-4556-A85C-AEA4E06AAA6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4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706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7E1-CD2B-4BED-A98A-9AC2605644A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723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725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6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7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5E7-D84E-45E1-8315-F766C4B36346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30760" y="1074600"/>
            <a:ext cx="50666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60B-7132-458D-B235-98EF7E6DD9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749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753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761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763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D29-2882-4EEC-9342-296598E6404D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781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88B-0C56-4254-97A7-30D4AB9BAC4A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C69-ECCC-4CE7-9434-F07B4A961BC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807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33E-9F80-4E00-A2B3-DBB83549F5B7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819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2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3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7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8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832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DDA-E5C8-4856-8A36-2E4500EC7B5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s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results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BF2-6D75-401E-925F-7125C031F3AB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613-40C5-4767-BFB4-1F4338BAC6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74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875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885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8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890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A7E-67A1-42FB-B3F9-CC6150ABFAA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me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me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140-9F0A-400D-9F7A-D71E719E3C2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925560"/>
            <a:ext cx="6883560" cy="56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searchAgent -varlist {me query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me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partial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0F4-AE32-4F3F-9086-6D07EDAE096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roduction to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30032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” is an old concept in A.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sky’s boo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ety of Min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980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hn and Cerf “Knobots” at CN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“agent” is a system tha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ong-lived (persistent)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s goals, sensors, and effectors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ides autonomously what actions to take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maximize progress toward its time-varying goa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884-D918-4076-A114-130BF68DA5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FDE-C497-4E69-8346-8E10EA66BBA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15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916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925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7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929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7A1-ECE7-4DD8-885B-DC94AA3D13E0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e-commer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737400" y="3543480"/>
            <a:ext cx="1915920" cy="23461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5708520" y="3181320"/>
            <a:ext cx="2719440" cy="735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638680" y="4700520"/>
            <a:ext cx="2814840" cy="1271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21480" y="4546440"/>
            <a:ext cx="1388880" cy="34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5697000" y="3596760"/>
            <a:ext cx="1460520" cy="117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930240" y="3152880"/>
            <a:ext cx="4778280" cy="28749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1352520" y="3370320"/>
            <a:ext cx="488880" cy="48888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649520" y="2633760"/>
            <a:ext cx="2351160" cy="73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920" y="1293840"/>
            <a:ext cx="997200" cy="45072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43160" y="1009800"/>
            <a:ext cx="961920" cy="461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26040" y="1008000"/>
            <a:ext cx="110304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86400" y="2379600"/>
            <a:ext cx="1779840" cy="439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47000" y="1076400"/>
            <a:ext cx="110340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57800" y="2600280"/>
            <a:ext cx="1093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29240" y="1542600"/>
            <a:ext cx="129960" cy="80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116680" y="1436760"/>
            <a:ext cx="1944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7400" y="3379680"/>
            <a:ext cx="488880" cy="48888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961920" y="2825640"/>
            <a:ext cx="177840" cy="557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90640" y="1744200"/>
            <a:ext cx="272880" cy="652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914400" y="1436400"/>
            <a:ext cx="1530360" cy="97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901800" y="1375920"/>
            <a:ext cx="3348000" cy="1033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215880" y="1222200"/>
            <a:ext cx="996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00680" y="2351160"/>
            <a:ext cx="1234800" cy="498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000" y="2421000"/>
            <a:ext cx="1257120" cy="41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070-2235-4AA2-AF01-A179C0E2B3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1CA-D64B-4CE2-A838-DCFE8D2A3BF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6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912-FB99-40D8-A85A-A7CCFE242BF6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9E7-227C-4EC3-86FB-FD2FF2B1C602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E53-2A08-44C0-A0F2-55DBCF336EF3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09D-1F67-4558-9B0F-A0A6CB620C97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98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98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98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98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99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100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100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100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101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0C0-5B16-4BE5-80BC-5D553B00F1E2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02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05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07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8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11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4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981840" y="5692680"/>
            <a:ext cx="186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is optimization is already reflected in the preced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162-2B5D-4855-9AC6-3DBC30A94AF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search in AI commun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selection (plann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representation and infer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learning and adap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and collabo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t properties of group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314-E81B-4354-A434-DB4CB25191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69640" y="212760"/>
            <a:ext cx="69404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large platforms: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r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lable Document Server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30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72880" y="1506600"/>
            <a:ext cx="4475160" cy="46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4720" y="15876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-node Linux clus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internal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6726240" y="3792600"/>
            <a:ext cx="1916280" cy="2346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04760" y="4226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902120" y="2954160"/>
            <a:ext cx="2051280" cy="1579680"/>
            <a:chOff x="4902120" y="2954160"/>
            <a:chExt cx="2051280" cy="1579680"/>
          </a:xfrm>
        </p:grpSpPr>
        <p:sp>
          <p:nvSpPr>
            <p:cNvPr id="1164" name=""/>
            <p:cNvSpPr/>
            <p:nvPr/>
          </p:nvSpPr>
          <p:spPr>
            <a:xfrm>
              <a:off x="4902120" y="2954160"/>
              <a:ext cx="2051280" cy="1579680"/>
            </a:xfrm>
            <a:custGeom>
              <a:avLst/>
              <a:gdLst/>
              <a:ahLst/>
              <a:rect l="l" t="t" r="r" b="b"/>
              <a:pathLst>
                <a:path w="1088" h="838">
                  <a:moveTo>
                    <a:pt x="120" y="112"/>
                  </a:moveTo>
                  <a:cubicBezTo>
                    <a:pt x="188" y="43"/>
                    <a:pt x="260" y="9"/>
                    <a:pt x="352" y="0"/>
                  </a:cubicBezTo>
                  <a:cubicBezTo>
                    <a:pt x="371" y="6"/>
                    <a:pt x="393" y="4"/>
                    <a:pt x="411" y="15"/>
                  </a:cubicBezTo>
                  <a:cubicBezTo>
                    <a:pt x="421" y="21"/>
                    <a:pt x="438" y="69"/>
                    <a:pt x="441" y="75"/>
                  </a:cubicBezTo>
                  <a:cubicBezTo>
                    <a:pt x="479" y="63"/>
                    <a:pt x="503" y="58"/>
                    <a:pt x="546" y="53"/>
                  </a:cubicBezTo>
                  <a:cubicBezTo>
                    <a:pt x="623" y="65"/>
                    <a:pt x="632" y="79"/>
                    <a:pt x="673" y="150"/>
                  </a:cubicBezTo>
                  <a:cubicBezTo>
                    <a:pt x="655" y="223"/>
                    <a:pt x="578" y="190"/>
                    <a:pt x="748" y="202"/>
                  </a:cubicBezTo>
                  <a:cubicBezTo>
                    <a:pt x="793" y="218"/>
                    <a:pt x="842" y="216"/>
                    <a:pt x="890" y="225"/>
                  </a:cubicBezTo>
                  <a:cubicBezTo>
                    <a:pt x="900" y="239"/>
                    <a:pt x="918" y="251"/>
                    <a:pt x="920" y="269"/>
                  </a:cubicBezTo>
                  <a:cubicBezTo>
                    <a:pt x="921" y="295"/>
                    <a:pt x="888" y="319"/>
                    <a:pt x="897" y="344"/>
                  </a:cubicBezTo>
                  <a:cubicBezTo>
                    <a:pt x="906" y="370"/>
                    <a:pt x="963" y="372"/>
                    <a:pt x="987" y="382"/>
                  </a:cubicBezTo>
                  <a:cubicBezTo>
                    <a:pt x="1007" y="390"/>
                    <a:pt x="1047" y="411"/>
                    <a:pt x="1047" y="411"/>
                  </a:cubicBezTo>
                  <a:cubicBezTo>
                    <a:pt x="1063" y="482"/>
                    <a:pt x="1033" y="523"/>
                    <a:pt x="972" y="554"/>
                  </a:cubicBezTo>
                  <a:cubicBezTo>
                    <a:pt x="1011" y="568"/>
                    <a:pt x="1055" y="577"/>
                    <a:pt x="1069" y="621"/>
                  </a:cubicBezTo>
                  <a:cubicBezTo>
                    <a:pt x="1071" y="643"/>
                    <a:pt x="1088" y="668"/>
                    <a:pt x="1077" y="688"/>
                  </a:cubicBezTo>
                  <a:cubicBezTo>
                    <a:pt x="1033" y="762"/>
                    <a:pt x="931" y="766"/>
                    <a:pt x="860" y="778"/>
                  </a:cubicBezTo>
                  <a:cubicBezTo>
                    <a:pt x="835" y="775"/>
                    <a:pt x="809" y="773"/>
                    <a:pt x="785" y="770"/>
                  </a:cubicBezTo>
                  <a:cubicBezTo>
                    <a:pt x="772" y="768"/>
                    <a:pt x="759" y="757"/>
                    <a:pt x="748" y="763"/>
                  </a:cubicBezTo>
                  <a:cubicBezTo>
                    <a:pt x="735" y="769"/>
                    <a:pt x="736" y="790"/>
                    <a:pt x="725" y="800"/>
                  </a:cubicBezTo>
                  <a:cubicBezTo>
                    <a:pt x="705" y="816"/>
                    <a:pt x="680" y="825"/>
                    <a:pt x="658" y="838"/>
                  </a:cubicBezTo>
                  <a:cubicBezTo>
                    <a:pt x="635" y="835"/>
                    <a:pt x="613" y="834"/>
                    <a:pt x="591" y="830"/>
                  </a:cubicBezTo>
                  <a:cubicBezTo>
                    <a:pt x="558" y="824"/>
                    <a:pt x="494" y="808"/>
                    <a:pt x="494" y="808"/>
                  </a:cubicBezTo>
                  <a:cubicBezTo>
                    <a:pt x="452" y="766"/>
                    <a:pt x="457" y="773"/>
                    <a:pt x="404" y="793"/>
                  </a:cubicBezTo>
                  <a:cubicBezTo>
                    <a:pt x="371" y="788"/>
                    <a:pt x="337" y="788"/>
                    <a:pt x="307" y="778"/>
                  </a:cubicBezTo>
                  <a:cubicBezTo>
                    <a:pt x="251" y="759"/>
                    <a:pt x="332" y="750"/>
                    <a:pt x="284" y="726"/>
                  </a:cubicBezTo>
                  <a:cubicBezTo>
                    <a:pt x="263" y="716"/>
                    <a:pt x="239" y="720"/>
                    <a:pt x="217" y="718"/>
                  </a:cubicBezTo>
                  <a:cubicBezTo>
                    <a:pt x="172" y="692"/>
                    <a:pt x="130" y="671"/>
                    <a:pt x="112" y="621"/>
                  </a:cubicBezTo>
                  <a:cubicBezTo>
                    <a:pt x="119" y="593"/>
                    <a:pt x="143" y="566"/>
                    <a:pt x="135" y="539"/>
                  </a:cubicBezTo>
                  <a:cubicBezTo>
                    <a:pt x="129" y="521"/>
                    <a:pt x="98" y="531"/>
                    <a:pt x="82" y="524"/>
                  </a:cubicBezTo>
                  <a:cubicBezTo>
                    <a:pt x="53" y="511"/>
                    <a:pt x="21" y="477"/>
                    <a:pt x="0" y="456"/>
                  </a:cubicBezTo>
                  <a:cubicBezTo>
                    <a:pt x="7" y="415"/>
                    <a:pt x="8" y="380"/>
                    <a:pt x="52" y="367"/>
                  </a:cubicBezTo>
                  <a:cubicBezTo>
                    <a:pt x="73" y="305"/>
                    <a:pt x="50" y="390"/>
                    <a:pt x="45" y="314"/>
                  </a:cubicBezTo>
                  <a:cubicBezTo>
                    <a:pt x="39" y="235"/>
                    <a:pt x="48" y="191"/>
                    <a:pt x="120" y="172"/>
                  </a:cubicBezTo>
                  <a:cubicBezTo>
                    <a:pt x="158" y="145"/>
                    <a:pt x="132" y="152"/>
                    <a:pt x="120" y="112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61760" y="35604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018120" y="4071960"/>
            <a:ext cx="936720" cy="1147680"/>
          </a:xfrm>
          <a:custGeom>
            <a:avLst/>
            <a:gdLst/>
            <a:ahLst/>
            <a:rect l="l" t="t" r="r" b="b"/>
            <a:pathLst>
              <a:path w="590" h="723">
                <a:moveTo>
                  <a:pt x="590" y="710"/>
                </a:moveTo>
                <a:cubicBezTo>
                  <a:pt x="426" y="716"/>
                  <a:pt x="262" y="723"/>
                  <a:pt x="164" y="605"/>
                </a:cubicBezTo>
                <a:cubicBezTo>
                  <a:pt x="65" y="486"/>
                  <a:pt x="28" y="102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144960" y="1957320"/>
            <a:ext cx="133020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73760" y="2038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89320" y="2671920"/>
            <a:ext cx="1685880" cy="888840"/>
          </a:xfrm>
          <a:custGeom>
            <a:avLst/>
            <a:gdLst/>
            <a:ahLst/>
            <a:rect l="l" t="t" r="r" b="b"/>
            <a:pathLst>
              <a:path w="972" h="553">
                <a:moveTo>
                  <a:pt x="972" y="553"/>
                </a:moveTo>
                <a:cubicBezTo>
                  <a:pt x="933" y="382"/>
                  <a:pt x="894" y="212"/>
                  <a:pt x="733" y="120"/>
                </a:cubicBezTo>
                <a:cubicBezTo>
                  <a:pt x="571" y="27"/>
                  <a:pt x="285" y="13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2320" y="2357280"/>
            <a:ext cx="1449360" cy="110520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47800" y="298764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41240" y="255276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66680" y="342432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62160" y="405432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55600" y="3619440"/>
            <a:ext cx="1270080" cy="331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81040" y="449100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76520" y="512136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69960" y="468648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993680" y="2622600"/>
            <a:ext cx="1733400" cy="126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409840" y="2754360"/>
            <a:ext cx="1341360" cy="8668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871720" y="2862360"/>
            <a:ext cx="951120" cy="184932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910880" y="2706840"/>
            <a:ext cx="1816200" cy="4381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338200" y="2789280"/>
            <a:ext cx="1400040" cy="142380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2741400" y="2895480"/>
            <a:ext cx="1198440" cy="23749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14840" y="2433600"/>
            <a:ext cx="498240" cy="49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73600" y="2216160"/>
            <a:ext cx="19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d 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6320" y="576576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s and index are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6D9-47F9-45F3-996F-EC2AC30E60C0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1190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1191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1194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1207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0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sign and development of a new Windows NT/CE mobile-agen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27D-AD2A-4E16-9430-DFC60F97216B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2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1215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9A4-3294-4698-9FC3-62C5B1AB5522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31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1232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1233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1236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1239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1254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1261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EA5-7448-403D-8AD7-0FD918BCEE11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DF6-064C-4ADA-8A5B-1002EC4F1C9D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99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400-1837-46AE-A82E-0650E57A2DCF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02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732-3A35-42A7-A502-33AEE346BE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17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7C6-2A24-4FA3-90F9-DE880BF25E5C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5F1-809A-42BE-8C21-E830A5DDFA54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F90-F124-4230-92D0-BC8FA56227EC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75280" y="103356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 (“physical agent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4200" y="1628640"/>
            <a:ext cx="812808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CEA-7009-4505-85A9-51B9C00178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1358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1367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0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BB4-72B9-483D-9B24-C30662F68497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0320" y="1360440"/>
            <a:ext cx="68799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CB4-5550-4238-A810-693551DF7CDF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12960" y="1565280"/>
            <a:ext cx="7589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45F-D6BC-4602-8EBF-8AEE9684CF17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F9D-8B12-45BE-BD6C-36C6BDF88A57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1459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0240" y="569124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328-F14E-4958-B5C8-55590D0DB280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840" y="1109160"/>
            <a:ext cx="4519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88000" y="485640"/>
            <a:ext cx="3838320" cy="575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3800" y="2703600"/>
            <a:ext cx="276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oo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synthetic agent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z 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oseph B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0A0-2CEF-4108-BB14-1100ED8739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David Kotz</cp:lastModifiedBy>
  <cp:lastPrinted>1999-04-27T12:51:47Z</cp:lastPrinted>
  <dcterms:modified xsi:type="dcterms:W3CDTF">1999-09-07T21:36:20Z</dcterms:modified>
  <cp:revision>745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