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8B31-CC84-4986-93F7-D9BF9B49F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F2B62-B84F-49B9-B785-2D62932DD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34409-F361-45D7-9352-C760DE9D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462F4-EFC0-464A-8989-E1BB058AA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34F49-2DD2-4413-BE0D-CD756F57A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A749-44C1-46F7-8EC2-9A58CF6DC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D3B3-526E-46A3-A231-7F634D37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41F23-00EF-42D0-BB88-2CA7EDD3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8322-086C-4898-94ED-1AA380E74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3E32-3AA9-4C3D-A21E-75FF2D55B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12239-4DFA-4B16-8B76-3ECA4C2A1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14E1-CAFD-45A3-9D10-50A28CE0B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4C3C4-1CED-4181-B57A-ABE935A67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C587-BCE7-49BC-AFCD-BAE0D1282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7AF808-413C-450D-83A4-D354CCECAAFC}"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DDC7A10-3B34-40F8-A8B8-CA4A9102E226}"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49BA282-AACC-4621-A584-D6665D22AF83}"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5A8C0CF-3C93-4160-BAB3-03A063B992F5}"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8EA040E-D191-48A1-BD25-99C12273EDC5}"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6122082-AD13-45BF-B53D-D4FFE9C2765D}"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33C3C5-34AE-42C8-B328-9B62998569A0}"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991F8BC-86F0-4278-8EC9-6F46E35FABE1}"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D4AD4FA-A3D3-4794-92E7-F7F5DF972839}"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45B396F-EBEB-4242-9B56-100FA9C7CFF3}"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43BBE54-18A1-4629-BBE9-51E1FF0D3DCA}"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2B09815-33A1-4C57-9C30-7C6947D3EC0D}"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E8FD14D-876A-4147-96F0-F6D32CE7AAE5}"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9FD07DA-3638-4E1D-8955-47437311B214}"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B13D4A1-AEF0-4ED3-9B91-481BEB6DD6C8}"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FA2FC11-B9BB-44A8-8511-FCB01A5C37B3}"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64CB8E7-27ED-45C4-BAF5-E17AB6DE6E1D}"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B2EC29-DAB0-4834-85C2-0727B614E2A8}"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550B8AB-5C68-4B88-8641-D00B14199675}"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E1ECC88-8CA9-4A08-BD44-512839A921C9}"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BF5A7A8-8C65-4235-9136-EBBF89436968}"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A0A1EE9-1EE7-44E4-9B62-AD445B8E1F59}"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FA17D6-606D-41E3-9F4F-E4871C027ADB}"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8758A7B-00AF-4D78-A59F-175ED387CB35}"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7ED7474-D3D1-460E-9628-64B0E711876D}"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58F9003-AAFB-417C-850E-04E1814BA95B}"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380F737-86BF-44BA-8684-A437E05E4966}"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D69E84D-5259-4150-B999-FBE4D51FF688}"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FCE5561-F82F-43FF-B0BE-7841B36613CA}"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8FB092D-ED00-4421-9BB4-CBD8773CD439}"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D5CAE3A-8A99-40B3-9E7A-0CA4FF1E482D}"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CCA2661-87A3-47E7-8F4A-B4F6828F4DE5}"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457BDA6-8441-45BC-AB64-A1ECD66DDBA9}"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1D14167-5947-4391-B355-736AFD26DA76}"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333E7CD-1658-44CB-B5AF-79DC9231BF80}"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CDADDBE-6F53-4F43-831F-96A355C1E8A6}"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C9E58B2-D687-4A7B-B09E-9B68C71AC7AE}"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A5DB4F7-E6C4-48E3-B746-4757782D3B89}"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2E4CC05-D6C6-4410-A906-8A04018CE207}"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0D40B0B-39AF-4109-B5E2-D732B6B4D942}"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7EFF33F-ED7E-4856-B8A8-533F5B4E560A}"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FAC305A-7764-4DE7-9AAC-3006335786F7}"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22B9CC1-B62E-4312-BA08-F35073CA0531}"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9D7853-CB72-45CD-93AD-A0006664D59B}"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959E120-FEA6-490D-8676-A29F59C4C05E}"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0376D07-2B30-4006-9725-D96BEF914189}"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CFBE334-A9A1-42BA-921B-721629EB5C88}"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31E8E9-C5AC-40A6-ABAA-1528BE4ED09C}"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6634CCF-503B-431B-8E5B-AF60764410E2}"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9B53AC7-8E9D-4F99-90EC-5CC966706715}"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BD7B321-7FEF-4C91-B122-5CB4D50DE6AB}"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FF7695C-55A1-4624-98B7-B52FC238571C}"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890EDC1-B272-4663-B868-E4A6DC86D96B}"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C633E70-EF0C-4598-9EEE-5E09F76ED034}"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FF41D25-B904-4AD2-AD32-3CD165CA499F}"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572DA0D-88A2-4B61-96DC-97F9DC307D70}"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5D29FA6-686D-46DE-B831-8DAED4468E32}"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ED45DEE-461F-4B2C-A233-BA1CD9462789}"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31EDD07-AD60-4DD6-82AB-084AB8FA813F}"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9305EB6-74A5-45C0-ACDD-F100865F3FCE}"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B34C3CC-EF31-451A-A56C-F34610A61428}"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32531F9-C855-4EAD-B932-0D761686C8FD}"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CF90A76-8D59-4F7E-9D7A-EADA0B6C5D79}"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865EA3E-633C-4C4E-B79B-0C732CB6D320}"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8691D5A-FD65-4EDA-8AC2-1F43080E27F3}"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E427A3A-BC40-4A9A-A22C-6189DEB08A16}"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9F931D6-275B-4382-AA86-818663A73782}"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20AFB29-4265-440F-899D-50DA28D9E407}"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0F126E5-1439-43D5-9CA1-16A03A0EA353}"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F42BB54-2B22-42FB-97BC-2847808E984A}"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FE5433B-86E6-4237-A936-5F79BDA1FC8E}"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509586E-AFED-44B2-9A9C-12D9C1E5FB61}"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75904C3-37F9-4B8F-B2AD-B7BA5722CFCF}"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96FBBF5-1EAE-4932-BA73-142B49267BFB}"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1F08891-E993-477A-87C6-1CDC2DCF0329}"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88D960D-728A-4F9B-9BA2-924B5BC31390}"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EC4232D-4ADA-4C13-A5AF-5E935DDB220D}"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B1A5FC2-A351-413C-ABCF-4B6BB91B4AF6}"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5156831-3538-4E61-96C5-855A6B84BE86}"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7AAD748-F472-46F8-9246-38F338F3FBC6}"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273793E-0128-4D5D-93DD-80A58C140C01}"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8559887-7EB9-40C2-B249-B9F078FACB6E}"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624B1F7-35C7-4E5B-9436-5D636714A188}"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577912F-C98C-4438-96A2-01E056E32C1E}"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0EF0294-7FEC-4F5F-A936-ED29D38092A1}"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F496378-AAA2-4D17-ADE3-D82786E53A90}"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582AB78-3D60-40D4-B116-FEAE1E2EB029}"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A9A9293-66F3-46BE-BEDA-CCBF22F569AB}"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69F47E1-A55F-48DD-8E02-61186AB5F4BB}"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1CEFF5D-B642-431E-BD45-64C62D98FB51}"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AA0C129-00F0-4AAE-B9BB-B740D4C1A9ED}"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E392054-4347-47BE-84C9-37ABCEE37906}"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D2DC1F2-36CE-45F0-8808-56408FB1A860}"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5516BCF-01D0-4565-9936-50A68390D6E3}"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98D8C5D-A0A3-4271-8DDF-DA4196180AB2}"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49594DC-31DF-4374-A5CA-E70D407E4838}"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B02CF65-D996-4857-AD8C-A12049E2086E}"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CF36E07-652E-4C5D-B82D-573102231120}"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926D6C6-1418-45C0-9050-CB8632A55B1E}"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A847AE5-D40B-4455-AACC-74709CFFF740}"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3AD4C8D-AD06-4F7B-8784-B4617A6EC482}"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75424D9-27F7-4FF1-AD05-C07669C21736}"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925F663-D55E-4B15-91FF-B28A9962E91C}"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A3AEC96-C522-48A3-9260-202F2B4BEBCA}"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0F926B6-0F4A-42FD-A83F-A8BA3DA95893}"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37A751B-8B58-4FA9-B5D8-902C6F1E0CCF}"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F84B97B-B6E1-49F5-9A6B-078A173469F7}"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145483-3782-4BEA-9D63-49E283B4237D}"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27D32EA-0AF1-4425-8ACC-715115B95994}"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54D5055-8956-4DC9-A932-12EC37A75C22}"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39E78EB-5B33-46C0-AB2C-2BD01F91A139}"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41F8300-BFE5-4C2E-80BF-3224ABF68BB1}"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6B5A2E7-FC00-4ACE-8C3A-31E625259540}"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E9164E9-5816-4819-9526-F522E281DF97}"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7A0B3DC-9F0C-420B-B468-C635997DD628}"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DB52861-55BA-4478-A861-305DD994BA44}"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20E5229-DD12-48DD-BF94-1ABFA0AB043B}"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A1F6E12-5E07-4128-A1EE-A4C642526333}"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A6DB4FC-CD18-477D-90AB-348958CEAE63}"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6E9DE08-1068-44BA-B418-3DC373FCB383}"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AE5CB1D-DB8B-4ED8-A3C3-0E430ED55164}"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4652F9E-3873-4650-9FEF-24A32D6D794C}"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B2178F7-DD43-4C51-8A7B-D4E85E001AC6}"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3758458-FE5B-418F-8B9B-FA13507BBBDA}"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D00284B-2F39-410B-8FA3-C812A5EF73B5}"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93E4DFB-AE62-406F-B2B7-69BB061EABC2}"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7E18ADC-A597-486A-B5DB-315CF82491D7}"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362E6D5-1AAB-47FF-BA68-12019C36AA81}"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AA4B310-A637-4E50-A87E-7D9CEE488A2B}"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10B5D20-2BC0-4AA8-8EA2-6982B930C07B}"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2E3139B-D29E-44D9-80EB-C857B2B4F9FA}"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967F7D2-D845-40C5-BD3B-068B9CBFB5F1}"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