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65.wmf" ContentType="image/x-wmf"/>
  <Override PartName="/ppt/media/image17.png" ContentType="image/png"/>
  <Override PartName="/ppt/media/image64.wmf" ContentType="image/x-wmf"/>
  <Override PartName="/ppt/media/image24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60.png" ContentType="image/png"/>
  <Override PartName="/ppt/media/image21.wmf" ContentType="image/x-wmf"/>
  <Override PartName="/ppt/media/image26.png" ContentType="image/png"/>
  <Override PartName="/ppt/media/image63.png" ContentType="image/png"/>
  <Override PartName="/ppt/media/image62.wmf" ContentType="image/x-wmf"/>
  <Override PartName="/ppt/media/image59.png" ContentType="image/png"/>
  <Override PartName="/ppt/media/image22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23.png" ContentType="image/png"/>
  <Override PartName="/ppt/media/image61.png" ContentType="image/png"/>
  <Override PartName="/ppt/media/image5.jpeg" ContentType="image/jpeg"/>
  <Override PartName="/ppt/media/image50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1.png" ContentType="image/png"/>
  <Override PartName="/ppt/media/image48.png" ContentType="image/png"/>
  <Override PartName="/ppt/media/image30.png" ContentType="image/png"/>
  <Override PartName="/ppt/media/image35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51.png" ContentType="image/png"/>
  <Override PartName="/ppt/media/image5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9E6-5156-475E-A6E8-834D02DF2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50AB-F984-4BBD-8B58-7C3BD6A9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363-1483-4D6F-B5EE-B2478A11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EB8A-FB31-4B16-952D-356E0C1D4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51A7-C4F8-4CCE-AA5B-073633506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CCC-8744-4F85-A24C-59773DC4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8BF3-8E2F-4E97-9713-A822F966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CF5-8CBE-43FA-BBCF-977687B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724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6CE9-48B8-4A90-B7B4-BFF21A3F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9D3C-6C00-48BF-A651-87112366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9EA1-37E5-4C4A-B84E-E39AF916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735F-6836-4450-8C63-E60E3DB0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05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05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6A15-5E6C-4BB3-9641-91A26023C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6.jpeg"/><Relationship Id="rId13" Type="http://schemas.openxmlformats.org/officeDocument/2006/relationships/image" Target="../media/image6.jpeg"/><Relationship Id="rId14" Type="http://schemas.openxmlformats.org/officeDocument/2006/relationships/image" Target="../media/image6.jpeg"/><Relationship Id="rId15" Type="http://schemas.openxmlformats.org/officeDocument/2006/relationships/image" Target="../media/image21.wmf"/><Relationship Id="rId16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0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29.png"/><Relationship Id="rId4" Type="http://schemas.openxmlformats.org/officeDocument/2006/relationships/image" Target="../media/image1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3.png"/><Relationship Id="rId8" Type="http://schemas.openxmlformats.org/officeDocument/2006/relationships/image" Target="../media/image34.png"/><Relationship Id="rId9" Type="http://schemas.openxmlformats.org/officeDocument/2006/relationships/image" Target="../media/image29.png"/><Relationship Id="rId10" Type="http://schemas.openxmlformats.org/officeDocument/2006/relationships/image" Target="../media/image15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6.png"/><Relationship Id="rId3" Type="http://schemas.openxmlformats.org/officeDocument/2006/relationships/image" Target="../media/image9.png"/><Relationship Id="rId4" Type="http://schemas.openxmlformats.org/officeDocument/2006/relationships/image" Target="../media/image37.png"/><Relationship Id="rId5" Type="http://schemas.openxmlformats.org/officeDocument/2006/relationships/image" Target="../media/image2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5.jpeg"/><Relationship Id="rId5" Type="http://schemas.openxmlformats.org/officeDocument/2006/relationships/image" Target="../media/image20.png"/><Relationship Id="rId6" Type="http://schemas.openxmlformats.org/officeDocument/2006/relationships/image" Target="../media/image5.jpeg"/><Relationship Id="rId7" Type="http://schemas.openxmlformats.org/officeDocument/2006/relationships/image" Target="../media/image20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Agents in Distributed Comput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eorge Cybenko and Bob Gra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ayer School of Enginee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artmouth Colle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{george.cybenko,robert.gray}@dartmouth.ed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46732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PPS/SPDP ‘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pril 12-16, San Juan, Puerto 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68480" y="1989000"/>
            <a:ext cx="44928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0240" y="222084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0440" y="304164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388476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920" y="4716360"/>
            <a:ext cx="252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 / no prox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17640" y="14875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16600" y="1487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2680" y="14860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52760" y="199872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43520" y="2006640"/>
            <a:ext cx="0" cy="338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2600" y="2852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67040" y="369396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74960" y="4535640"/>
            <a:ext cx="448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8200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9112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88000" y="30416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2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9112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22208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91120" y="3884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1120" y="47163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33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33120" y="304164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39120" y="47163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39120" y="388476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33440" y="2098800"/>
            <a:ext cx="12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ad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l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55680" y="304164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’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92200" y="38862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40280" y="4716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B71-2BBA-449B-94FA-26B4427B768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325520" y="27036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765440" y="1982880"/>
            <a:ext cx="811080" cy="635040"/>
          </a:xfrm>
          <a:prstGeom prst="cloudCallout">
            <a:avLst>
              <a:gd name="adj1" fmla="val -85226"/>
              <a:gd name="adj2" fmla="val 18999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87480" y="3387600"/>
            <a:ext cx="25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to g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clo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4158360" y="1959120"/>
            <a:ext cx="46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end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locations of candidate servic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latenci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network bandwidth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machine l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95240" y="1311120"/>
            <a:ext cx="2998800" cy="3510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1269720" y="5187960"/>
            <a:ext cx="660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requires an infrastructure for supplying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of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840E-9BA9-4B4B-9581-C29F47B4E6CE}" type="slidenum">
              <a:t>10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twork sensing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962280" y="1600200"/>
            <a:ext cx="6004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rr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measured by “p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widths measured by “bing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rectory services to locate re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hierarchical network structur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SNMP, et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ized machine load metr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8703-AA9B-4B1D-B105-777E8945F707}" type="slidenum">
              <a:t>10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ellow pages”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1265400" y="987480"/>
            <a:ext cx="661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ing vs. matchmaking/yellow-page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913200" y="213840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4039560" y="238140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1584360" y="23320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2060640" y="16272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2413080" y="2755800"/>
            <a:ext cx="142884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170840" y="2766960"/>
            <a:ext cx="758880" cy="65268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9040 h 652680"/>
              <a:gd name="textAreaBottom" fmla="*/ 503640 h 6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164360" y="159552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327640" y="2045880"/>
            <a:ext cx="1835280" cy="4050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23720" y="3755880"/>
            <a:ext cx="83613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3519360" y="3930480"/>
            <a:ext cx="1339920" cy="882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>
            <a:off x="3908880" y="41734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1630440" y="490068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106720" y="4195800"/>
            <a:ext cx="934920" cy="6699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2424240" y="4565520"/>
            <a:ext cx="1039680" cy="6177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7180200" y="545796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7210440" y="4427640"/>
            <a:ext cx="758880" cy="652320"/>
          </a:xfrm>
          <a:custGeom>
            <a:avLst/>
            <a:gdLst>
              <a:gd name="textAreaLeft" fmla="*/ 173160 w 758880"/>
              <a:gd name="textAreaRight" fmla="*/ 585720 w 758880"/>
              <a:gd name="textAreaTop" fmla="*/ 148680 h 652320"/>
              <a:gd name="textAreaBottom" fmla="*/ 503640 h 65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98760" y="4791240"/>
            <a:ext cx="4762440" cy="5810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129040" y="3170160"/>
            <a:ext cx="50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 mediates all communic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1396800" y="5792760"/>
            <a:ext cx="579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P locates, but then direct commun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C24F-64A2-4D69-9D78-FC6398A92D89}" type="slidenum">
              <a:t>10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395280" y="30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 of Sentinel Ag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680760" y="1528920"/>
            <a:ext cx="27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 Statement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684360" y="41194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6872400" y="19843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6872400" y="228924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872400" y="259380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6872400" y="2898720"/>
            <a:ext cx="2286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3059280" y="25938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259680" y="221256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flipV="1">
            <a:off x="6335640" y="244152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6259680" y="2670120"/>
            <a:ext cx="60948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335640" y="2593800"/>
            <a:ext cx="533520" cy="76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3387600" y="25970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175880" y="2048040"/>
            <a:ext cx="114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549756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553680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>
            <a:off x="849240" y="2166840"/>
            <a:ext cx="1371600" cy="1265400"/>
          </a:xfrm>
          <a:prstGeom prst="rect">
            <a:avLst/>
          </a:prstGeom>
          <a:ln w="0">
            <a:noFill/>
          </a:ln>
        </p:spPr>
      </p:pic>
      <p:sp>
        <p:nvSpPr>
          <p:cNvPr id="2354" name=""/>
          <p:cNvSpPr/>
          <p:nvPr/>
        </p:nvSpPr>
        <p:spPr>
          <a:xfrm>
            <a:off x="2373480" y="2289240"/>
            <a:ext cx="8380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2412720" y="2747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072080" y="367524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should limited bandwidth/capacity be alloc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222920" y="4540320"/>
            <a:ext cx="7061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ormulated model using data resourc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Find optimal scheduling using efficient transpor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 with look-ah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318960" y="1527120"/>
            <a:ext cx="8610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0A6-5409-497A-9B2E-4AE62F5A5869}" type="slidenum">
              <a:t>10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aling to small platfor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"/>
          <p:cNvGrpSpPr/>
          <p:nvPr/>
        </p:nvGrpSpPr>
        <p:grpSpPr>
          <a:xfrm>
            <a:off x="325080" y="1096920"/>
            <a:ext cx="8496360" cy="4051080"/>
            <a:chOff x="325080" y="1096920"/>
            <a:chExt cx="8496360" cy="4051080"/>
          </a:xfrm>
        </p:grpSpPr>
        <p:grpSp>
          <p:nvGrpSpPr>
            <p:cNvPr id="2361" name=""/>
            <p:cNvGrpSpPr/>
            <p:nvPr/>
          </p:nvGrpSpPr>
          <p:grpSpPr>
            <a:xfrm>
              <a:off x="7126200" y="2692440"/>
              <a:ext cx="1695240" cy="2227320"/>
              <a:chOff x="7126200" y="2692440"/>
              <a:chExt cx="1695240" cy="2227320"/>
            </a:xfrm>
          </p:grpSpPr>
          <p:pic>
            <p:nvPicPr>
              <p:cNvPr id="2362" name="ppilot" descr=""/>
              <p:cNvPicPr/>
              <p:nvPr/>
            </p:nvPicPr>
            <p:blipFill>
              <a:blip r:embed="rId1"/>
              <a:stretch/>
            </p:blipFill>
            <p:spPr>
              <a:xfrm>
                <a:off x="7387920" y="2692440"/>
                <a:ext cx="1171800" cy="142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3" name=""/>
              <p:cNvSpPr/>
              <p:nvPr/>
            </p:nvSpPr>
            <p:spPr>
              <a:xfrm>
                <a:off x="7126200" y="4094280"/>
                <a:ext cx="169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alm III Organiz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3528000" y="2236680"/>
              <a:ext cx="1316160" cy="1500120"/>
              <a:chOff x="3528000" y="2236680"/>
              <a:chExt cx="1316160" cy="1500120"/>
            </a:xfrm>
          </p:grpSpPr>
          <p:pic>
            <p:nvPicPr>
              <p:cNvPr id="2365" name="rterm" descr=""/>
              <p:cNvPicPr/>
              <p:nvPr/>
            </p:nvPicPr>
            <p:blipFill>
              <a:blip r:embed="rId2"/>
              <a:stretch/>
            </p:blipFill>
            <p:spPr>
              <a:xfrm>
                <a:off x="3774960" y="2236680"/>
                <a:ext cx="822240" cy="636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6" name=""/>
              <p:cNvSpPr/>
              <p:nvPr/>
            </p:nvSpPr>
            <p:spPr>
              <a:xfrm>
                <a:off x="3528000" y="2911320"/>
                <a:ext cx="131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Mach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7" name=""/>
            <p:cNvGrpSpPr/>
            <p:nvPr/>
          </p:nvGrpSpPr>
          <p:grpSpPr>
            <a:xfrm>
              <a:off x="1488960" y="1096920"/>
              <a:ext cx="1703520" cy="1278000"/>
              <a:chOff x="1488960" y="1096920"/>
              <a:chExt cx="1703520" cy="1278000"/>
            </a:xfrm>
          </p:grpSpPr>
          <p:sp>
            <p:nvSpPr>
              <p:cNvPr id="2368" name=""/>
              <p:cNvSpPr/>
              <p:nvPr/>
            </p:nvSpPr>
            <p:spPr>
              <a:xfrm>
                <a:off x="1488960" y="1096920"/>
                <a:ext cx="1703520" cy="127800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493640" y="1589040"/>
                <a:ext cx="1692360" cy="785880"/>
              </a:xfrm>
              <a:prstGeom prst="ellipse">
                <a:avLst/>
              </a:prstGeom>
              <a:solidFill>
                <a:srgbClr val="ff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lm II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860840" y="112716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1" name=""/>
            <p:cNvSpPr/>
            <p:nvPr/>
          </p:nvSpPr>
          <p:spPr>
            <a:xfrm>
              <a:off x="5583240" y="1967040"/>
              <a:ext cx="1692360" cy="78588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lm II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36320" y="2362320"/>
              <a:ext cx="3240360" cy="2840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797360" y="2689200"/>
              <a:ext cx="2711520" cy="728640"/>
            </a:xfrm>
            <a:custGeom>
              <a:avLst/>
              <a:gdLst/>
              <a:ahLst/>
              <a:rect l="l" t="t" r="r" b="b"/>
              <a:pathLst>
                <a:path w="1708" h="459">
                  <a:moveTo>
                    <a:pt x="0" y="0"/>
                  </a:moveTo>
                  <a:cubicBezTo>
                    <a:pt x="295" y="4"/>
                    <a:pt x="590" y="9"/>
                    <a:pt x="875" y="85"/>
                  </a:cubicBezTo>
                  <a:cubicBezTo>
                    <a:pt x="1160" y="161"/>
                    <a:pt x="1434" y="310"/>
                    <a:pt x="1708" y="459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119560" y="3913200"/>
              <a:ext cx="1692360" cy="785880"/>
            </a:xfrm>
            <a:prstGeom prst="ellipse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sul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07000" y="2924280"/>
              <a:ext cx="2735280" cy="985680"/>
            </a:xfrm>
            <a:custGeom>
              <a:avLst/>
              <a:gdLst/>
              <a:ahLst/>
              <a:rect l="l" t="t" r="r" b="b"/>
              <a:pathLst>
                <a:path w="1723" h="621">
                  <a:moveTo>
                    <a:pt x="1723" y="501"/>
                  </a:moveTo>
                  <a:cubicBezTo>
                    <a:pt x="1386" y="561"/>
                    <a:pt x="1050" y="621"/>
                    <a:pt x="763" y="537"/>
                  </a:cubicBezTo>
                  <a:cubicBezTo>
                    <a:pt x="476" y="453"/>
                    <a:pt x="238" y="226"/>
                    <a:pt x="0" y="0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325080" y="2913120"/>
              <a:ext cx="3282840" cy="14461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7" name=""/>
            <p:cNvGrpSpPr/>
            <p:nvPr/>
          </p:nvGrpSpPr>
          <p:grpSpPr>
            <a:xfrm>
              <a:off x="1488960" y="3870360"/>
              <a:ext cx="1703520" cy="1277640"/>
              <a:chOff x="1488960" y="3870360"/>
              <a:chExt cx="1703520" cy="1277640"/>
            </a:xfrm>
          </p:grpSpPr>
          <p:sp>
            <p:nvSpPr>
              <p:cNvPr id="2378" name=""/>
              <p:cNvSpPr/>
              <p:nvPr/>
            </p:nvSpPr>
            <p:spPr>
              <a:xfrm>
                <a:off x="1488960" y="3870360"/>
                <a:ext cx="1703520" cy="1277640"/>
              </a:xfrm>
              <a:prstGeom prst="roundRect">
                <a:avLst>
                  <a:gd name="adj" fmla="val 16667"/>
                </a:avLst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861200" y="3900240"/>
                <a:ext cx="95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g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497240" y="4356000"/>
                <a:ext cx="1692000" cy="7858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ul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81" name=""/>
          <p:cNvSpPr/>
          <p:nvPr/>
        </p:nvSpPr>
        <p:spPr>
          <a:xfrm>
            <a:off x="1084320" y="5549760"/>
            <a:ext cx="6981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90760" indent="-1490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Current work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Move entire agent onto the Palm, so that it can return through a different prox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25A-D1E8-4D54-96F3-3C5AE32A7B3C}" type="slidenum">
              <a:t>10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o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3" name="agentred" descr=""/>
          <p:cNvPicPr/>
          <p:nvPr/>
        </p:nvPicPr>
        <p:blipFill>
          <a:blip r:embed="rId1"/>
          <a:stretch/>
        </p:blipFill>
        <p:spPr>
          <a:xfrm>
            <a:off x="604800" y="652320"/>
            <a:ext cx="615960" cy="676440"/>
          </a:xfrm>
          <a:prstGeom prst="rect">
            <a:avLst/>
          </a:prstGeom>
          <a:ln w="0">
            <a:noFill/>
          </a:ln>
        </p:spPr>
      </p:pic>
      <p:grpSp>
        <p:nvGrpSpPr>
          <p:cNvPr id="2384" name=""/>
          <p:cNvGrpSpPr/>
          <p:nvPr/>
        </p:nvGrpSpPr>
        <p:grpSpPr>
          <a:xfrm>
            <a:off x="4828320" y="2311560"/>
            <a:ext cx="1351080" cy="1292760"/>
            <a:chOff x="4828320" y="2311560"/>
            <a:chExt cx="1351080" cy="1292760"/>
          </a:xfrm>
        </p:grpSpPr>
        <p:pic>
          <p:nvPicPr>
            <p:cNvPr id="2385" name="gateway" descr=""/>
            <p:cNvPicPr/>
            <p:nvPr/>
          </p:nvPicPr>
          <p:blipFill>
            <a:blip r:embed="rId2"/>
            <a:stretch/>
          </p:blipFill>
          <p:spPr>
            <a:xfrm>
              <a:off x="5129280" y="2311560"/>
              <a:ext cx="749160" cy="9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4828320" y="3205440"/>
              <a:ext cx="135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 (laptop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222120" y="4241880"/>
            <a:ext cx="1814400" cy="1971000"/>
            <a:chOff x="222120" y="4241880"/>
            <a:chExt cx="1814400" cy="1971000"/>
          </a:xfrm>
        </p:grpSpPr>
        <p:pic>
          <p:nvPicPr>
            <p:cNvPr id="2388" name="rterm" descr=""/>
            <p:cNvPicPr/>
            <p:nvPr/>
          </p:nvPicPr>
          <p:blipFill>
            <a:blip r:embed="rId3"/>
            <a:stretch/>
          </p:blipFill>
          <p:spPr>
            <a:xfrm>
              <a:off x="703080" y="4241880"/>
              <a:ext cx="85248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222120" y="4899240"/>
              <a:ext cx="18144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Times New Roman"/>
                </a:rPr>
                <a:t>M_dock (permanently connected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0" name=""/>
          <p:cNvGrpSpPr/>
          <p:nvPr/>
        </p:nvGrpSpPr>
        <p:grpSpPr>
          <a:xfrm>
            <a:off x="7497720" y="511200"/>
            <a:ext cx="1376280" cy="1335240"/>
            <a:chOff x="7497720" y="511200"/>
            <a:chExt cx="1376280" cy="1335240"/>
          </a:xfrm>
        </p:grpSpPr>
        <p:sp>
          <p:nvSpPr>
            <p:cNvPr id="2391" name=""/>
            <p:cNvSpPr/>
            <p:nvPr/>
          </p:nvSpPr>
          <p:spPr>
            <a:xfrm flipH="1" flipV="1">
              <a:off x="7619760" y="885600"/>
              <a:ext cx="22320" cy="83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7619760" y="627120"/>
              <a:ext cx="62712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>
              <a:off x="8124480" y="627120"/>
              <a:ext cx="122040" cy="69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619760" y="863640"/>
              <a:ext cx="505080" cy="469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7630920" y="1333440"/>
              <a:ext cx="49392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124840" y="1322280"/>
              <a:ext cx="649080" cy="392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497720" y="762120"/>
              <a:ext cx="234720" cy="23472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119800" y="511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993080" y="1201680"/>
              <a:ext cx="23472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518240" y="161136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638920" y="1600200"/>
              <a:ext cx="235080" cy="2350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1278000" y="1087560"/>
            <a:ext cx="3932280" cy="160164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 flipH="1">
            <a:off x="5882760" y="1849320"/>
            <a:ext cx="1568520" cy="919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963720" y="1400040"/>
            <a:ext cx="101520" cy="19051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651960" y="3900600"/>
            <a:ext cx="952200" cy="266760"/>
            <a:chOff x="651960" y="3900600"/>
            <a:chExt cx="952200" cy="266760"/>
          </a:xfrm>
        </p:grpSpPr>
        <p:sp>
          <p:nvSpPr>
            <p:cNvPr id="2406" name=""/>
            <p:cNvSpPr/>
            <p:nvPr/>
          </p:nvSpPr>
          <p:spPr>
            <a:xfrm>
              <a:off x="663480" y="3911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582560" y="39006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651960" y="4146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083960" y="391824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260360" y="3915000"/>
              <a:ext cx="0" cy="24624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423800" y="392148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5003280" y="2001960"/>
            <a:ext cx="952200" cy="266040"/>
            <a:chOff x="5003280" y="2001960"/>
            <a:chExt cx="952200" cy="266040"/>
          </a:xfrm>
        </p:grpSpPr>
        <p:sp>
          <p:nvSpPr>
            <p:cNvPr id="2413" name=""/>
            <p:cNvSpPr/>
            <p:nvPr/>
          </p:nvSpPr>
          <p:spPr>
            <a:xfrm>
              <a:off x="5014800" y="2012760"/>
              <a:ext cx="93024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933880" y="200196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5003280" y="2247840"/>
              <a:ext cx="9522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435280" y="201924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11680" y="2016000"/>
              <a:ext cx="0" cy="2458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775120" y="2022480"/>
              <a:ext cx="0" cy="2455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9" name=""/>
          <p:cNvSpPr/>
          <p:nvPr/>
        </p:nvSpPr>
        <p:spPr>
          <a:xfrm>
            <a:off x="133200" y="32306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go to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649760" y="1341360"/>
            <a:ext cx="17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Queue of agents waiting to le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>
            <a:off x="1590480" y="3506760"/>
            <a:ext cx="3205080" cy="9414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625760" y="3575160"/>
            <a:ext cx="3327120" cy="1457280"/>
          </a:xfrm>
          <a:custGeom>
            <a:avLst/>
            <a:gdLst/>
            <a:ahLst/>
            <a:rect l="l" t="t" r="r" b="b"/>
            <a:pathLst>
              <a:path w="2096" h="918">
                <a:moveTo>
                  <a:pt x="0" y="635"/>
                </a:moveTo>
                <a:cubicBezTo>
                  <a:pt x="485" y="776"/>
                  <a:pt x="971" y="918"/>
                  <a:pt x="1320" y="812"/>
                </a:cubicBezTo>
                <a:cubicBezTo>
                  <a:pt x="1669" y="706"/>
                  <a:pt x="1882" y="353"/>
                  <a:pt x="2096" y="0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2103480" y="86688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Jump directly to lap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995400" y="1874880"/>
            <a:ext cx="168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If laptop unreachable, go to d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6642000" y="22892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Change in network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428920" y="3119400"/>
            <a:ext cx="19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4. Notify dock of new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2787480" y="49989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5. Transfer waiting agents in both dir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5432400" y="4057560"/>
            <a:ext cx="3419640" cy="2104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imple approach has been extended into a more gener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active-networking schem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where any machine can act as a dock for any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8AF-6E98-4BA6-ACA2-56531AE5093F}" type="slidenum">
              <a:t>10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0" name="mace" descr=""/>
          <p:cNvPicPr/>
          <p:nvPr/>
        </p:nvPicPr>
        <p:blipFill>
          <a:blip r:embed="rId1"/>
          <a:stretch/>
        </p:blipFill>
        <p:spPr>
          <a:xfrm>
            <a:off x="2575080" y="868320"/>
            <a:ext cx="6181560" cy="5388120"/>
          </a:xfrm>
          <a:prstGeom prst="rect">
            <a:avLst/>
          </a:prstGeom>
          <a:ln w="0">
            <a:noFill/>
          </a:ln>
        </p:spPr>
      </p:pic>
      <p:sp>
        <p:nvSpPr>
          <p:cNvPr id="2431" name=""/>
          <p:cNvSpPr/>
          <p:nvPr/>
        </p:nvSpPr>
        <p:spPr>
          <a:xfrm>
            <a:off x="333000" y="2786040"/>
            <a:ext cx="19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il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D7A-8B08-4BE0-8C42-8EBA25EABACA}" type="slidenum">
              <a:t>10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4000" y="-36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Tcl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3" name="debugbot" descr=""/>
          <p:cNvPicPr/>
          <p:nvPr/>
        </p:nvPicPr>
        <p:blipFill>
          <a:blip r:embed="rId1"/>
          <a:stretch/>
        </p:blipFill>
        <p:spPr>
          <a:xfrm>
            <a:off x="4281480" y="304920"/>
            <a:ext cx="4754520" cy="5867280"/>
          </a:xfrm>
          <a:prstGeom prst="rect">
            <a:avLst/>
          </a:prstGeom>
          <a:ln w="0">
            <a:noFill/>
          </a:ln>
        </p:spPr>
      </p:pic>
      <p:sp>
        <p:nvSpPr>
          <p:cNvPr id="2434" name=""/>
          <p:cNvSpPr/>
          <p:nvPr/>
        </p:nvSpPr>
        <p:spPr>
          <a:xfrm>
            <a:off x="21744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2049480" y="54849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560520" y="51274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1247760" y="5594400"/>
            <a:ext cx="1179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1262160" y="27194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1805040" y="2324160"/>
            <a:ext cx="762120" cy="762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1442880" y="192240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1" name="agentred" descr=""/>
          <p:cNvPicPr/>
          <p:nvPr/>
        </p:nvPicPr>
        <p:blipFill>
          <a:blip r:embed="rId2"/>
          <a:stretch/>
        </p:blipFill>
        <p:spPr>
          <a:xfrm>
            <a:off x="2419200" y="5113440"/>
            <a:ext cx="706680" cy="776160"/>
          </a:xfrm>
          <a:prstGeom prst="rect">
            <a:avLst/>
          </a:prstGeom>
          <a:ln w="0">
            <a:noFill/>
          </a:ln>
        </p:spPr>
      </p:pic>
      <p:sp>
        <p:nvSpPr>
          <p:cNvPr id="2442" name=""/>
          <p:cNvSpPr/>
          <p:nvPr/>
        </p:nvSpPr>
        <p:spPr>
          <a:xfrm flipV="1">
            <a:off x="885960" y="2935080"/>
            <a:ext cx="116496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100080" y="3247920"/>
            <a:ext cx="14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Notify: About to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306440" y="5048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562120" y="3400560"/>
            <a:ext cx="136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Notify: Jum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 flipH="1" flipV="1">
            <a:off x="2270160" y="2931840"/>
            <a:ext cx="471600" cy="211932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595-437F-4192-A12B-CED9D89460D8}" type="slidenum">
              <a:t>10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7" name="PlaceHolder 1"/>
          <p:cNvSpPr>
            <a:spLocks noGrp="1"/>
          </p:cNvSpPr>
          <p:nvPr>
            <p:ph type="title"/>
          </p:nvPr>
        </p:nvSpPr>
        <p:spPr>
          <a:xfrm>
            <a:off x="78840" y="167760"/>
            <a:ext cx="252900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8" name="tracker" descr=""/>
          <p:cNvPicPr/>
          <p:nvPr/>
        </p:nvPicPr>
        <p:blipFill>
          <a:blip r:embed="rId1"/>
          <a:stretch/>
        </p:blipFill>
        <p:spPr>
          <a:xfrm>
            <a:off x="2817720" y="196920"/>
            <a:ext cx="6167520" cy="5983200"/>
          </a:xfrm>
          <a:prstGeom prst="rect">
            <a:avLst/>
          </a:prstGeom>
          <a:ln w="0">
            <a:noFill/>
          </a:ln>
        </p:spPr>
      </p:pic>
      <p:sp>
        <p:nvSpPr>
          <p:cNvPr id="2449" name=""/>
          <p:cNvSpPr/>
          <p:nvPr/>
        </p:nvSpPr>
        <p:spPr>
          <a:xfrm>
            <a:off x="209520" y="1719360"/>
            <a:ext cx="238752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ks in same way as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actively or via lo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Merge with debug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rent work: Zoom in an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56-B9A1-4F79-9497-7CCA4F1604EA}" type="slidenum">
              <a:t>10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arket-based resource contro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1" name="tecra" descr=""/>
          <p:cNvPicPr/>
          <p:nvPr/>
        </p:nvPicPr>
        <p:blipFill>
          <a:blip r:embed="rId1"/>
          <a:stretch/>
        </p:blipFill>
        <p:spPr>
          <a:xfrm>
            <a:off x="5904000" y="1668600"/>
            <a:ext cx="795240" cy="981000"/>
          </a:xfrm>
          <a:prstGeom prst="rect">
            <a:avLst/>
          </a:prstGeom>
          <a:ln w="0">
            <a:noFill/>
          </a:ln>
        </p:spPr>
      </p:pic>
      <p:sp>
        <p:nvSpPr>
          <p:cNvPr id="2452" name=""/>
          <p:cNvSpPr/>
          <p:nvPr/>
        </p:nvSpPr>
        <p:spPr>
          <a:xfrm>
            <a:off x="5924520" y="2719440"/>
            <a:ext cx="68580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3" name="gateway" descr=""/>
          <p:cNvPicPr/>
          <p:nvPr/>
        </p:nvPicPr>
        <p:blipFill>
          <a:blip r:embed="rId2"/>
          <a:stretch/>
        </p:blipFill>
        <p:spPr>
          <a:xfrm>
            <a:off x="3083040" y="1071720"/>
            <a:ext cx="738000" cy="906480"/>
          </a:xfrm>
          <a:prstGeom prst="rect">
            <a:avLst/>
          </a:prstGeom>
          <a:ln w="0">
            <a:noFill/>
          </a:ln>
        </p:spPr>
      </p:pic>
      <p:pic>
        <p:nvPicPr>
          <p:cNvPr id="2454" name="agentred" descr=""/>
          <p:cNvPicPr/>
          <p:nvPr/>
        </p:nvPicPr>
        <p:blipFill>
          <a:blip r:embed="rId3"/>
          <a:stretch/>
        </p:blipFill>
        <p:spPr>
          <a:xfrm>
            <a:off x="3068640" y="2906640"/>
            <a:ext cx="706320" cy="776520"/>
          </a:xfrm>
          <a:prstGeom prst="rect">
            <a:avLst/>
          </a:prstGeom>
          <a:ln w="0">
            <a:noFill/>
          </a:ln>
        </p:spPr>
      </p:pic>
      <p:sp>
        <p:nvSpPr>
          <p:cNvPr id="2455" name=""/>
          <p:cNvSpPr/>
          <p:nvPr/>
        </p:nvSpPr>
        <p:spPr>
          <a:xfrm>
            <a:off x="2137680" y="18763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$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138560" y="17557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38560" y="198756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138560" y="2227320"/>
            <a:ext cx="341280" cy="52236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2698920" y="1839960"/>
            <a:ext cx="312480" cy="1054080"/>
          </a:xfrm>
          <a:custGeom>
            <a:avLst/>
            <a:gdLst/>
            <a:ahLst/>
            <a:rect l="l" t="t" r="r" b="b"/>
            <a:pathLst>
              <a:path w="197" h="664">
                <a:moveTo>
                  <a:pt x="197" y="664"/>
                </a:moveTo>
                <a:cubicBezTo>
                  <a:pt x="98" y="529"/>
                  <a:pt x="0" y="394"/>
                  <a:pt x="0" y="283"/>
                </a:cubicBezTo>
                <a:cubicBezTo>
                  <a:pt x="0" y="172"/>
                  <a:pt x="98" y="86"/>
                  <a:pt x="197" y="0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706920" y="1974960"/>
            <a:ext cx="295200" cy="896760"/>
          </a:xfrm>
          <a:custGeom>
            <a:avLst/>
            <a:gdLst/>
            <a:ahLst/>
            <a:rect l="l" t="t" r="r" b="b"/>
            <a:pathLst>
              <a:path w="186" h="565">
                <a:moveTo>
                  <a:pt x="0" y="0"/>
                </a:moveTo>
                <a:cubicBezTo>
                  <a:pt x="84" y="66"/>
                  <a:pt x="168" y="132"/>
                  <a:pt x="177" y="226"/>
                </a:cubicBezTo>
                <a:cubicBezTo>
                  <a:pt x="186" y="320"/>
                  <a:pt x="121" y="442"/>
                  <a:pt x="57" y="565"/>
                </a:cubicBezTo>
              </a:path>
            </a:pathLst>
          </a:custGeom>
          <a:noFill/>
          <a:ln w="507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1480" y="3228840"/>
            <a:ext cx="2263680" cy="66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3819600" y="3127320"/>
            <a:ext cx="2060640" cy="1684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 flipV="1">
            <a:off x="6665760" y="2499840"/>
            <a:ext cx="1703520" cy="5050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040040" y="2720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7075800" y="216864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818240" y="26557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368280" y="4178160"/>
            <a:ext cx="363384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conomic incentive to accept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esource 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o “runaway”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156200" y="4057560"/>
            <a:ext cx="491940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ets resource share proportional to ticket sh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2332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Optimizes utility function (parameters include risk tolerance, resource needs, and initial cas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FBB-86C0-485A-AF1E-3667E5DF3C6A}" type="slidenum">
              <a:t>10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: Technical repor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mart" descr=""/>
          <p:cNvPicPr/>
          <p:nvPr/>
        </p:nvPicPr>
        <p:blipFill>
          <a:blip r:embed="rId1"/>
          <a:stretch/>
        </p:blipFill>
        <p:spPr>
          <a:xfrm>
            <a:off x="1219320" y="1108080"/>
            <a:ext cx="4038480" cy="2320920"/>
          </a:xfrm>
          <a:prstGeom prst="rect">
            <a:avLst/>
          </a:prstGeom>
          <a:ln w="0">
            <a:noFill/>
          </a:ln>
        </p:spPr>
      </p:pic>
      <p:pic>
        <p:nvPicPr>
          <p:cNvPr id="213" name="list" descr=""/>
          <p:cNvPicPr/>
          <p:nvPr/>
        </p:nvPicPr>
        <p:blipFill>
          <a:blip r:embed="rId2"/>
          <a:stretch/>
        </p:blipFill>
        <p:spPr>
          <a:xfrm>
            <a:off x="152280" y="2438280"/>
            <a:ext cx="2433600" cy="2438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657600" y="508644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agentred" descr=""/>
          <p:cNvPicPr/>
          <p:nvPr/>
        </p:nvPicPr>
        <p:blipFill>
          <a:blip r:embed="rId3"/>
          <a:stretch/>
        </p:blipFill>
        <p:spPr>
          <a:xfrm>
            <a:off x="3908520" y="485784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89520" y="5603760"/>
            <a:ext cx="246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ynamically sel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55720" y="29606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5880" y="3440160"/>
            <a:ext cx="772920" cy="14000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80840" y="3765600"/>
            <a:ext cx="163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Send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9960" y="5160960"/>
            <a:ext cx="228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Return merged and filter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49320" y="4638600"/>
            <a:ext cx="2016360" cy="71928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280" y="1297080"/>
            <a:ext cx="110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GUI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om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7015320" y="1601640"/>
            <a:ext cx="1846080" cy="4586760"/>
            <a:chOff x="7015320" y="1601640"/>
            <a:chExt cx="1846080" cy="4586760"/>
          </a:xfrm>
        </p:grpSpPr>
        <p:sp>
          <p:nvSpPr>
            <p:cNvPr id="224" name=""/>
            <p:cNvSpPr/>
            <p:nvPr/>
          </p:nvSpPr>
          <p:spPr>
            <a:xfrm>
              <a:off x="7270560" y="5789520"/>
              <a:ext cx="133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achine 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015320" y="4791240"/>
              <a:ext cx="1828800" cy="969840"/>
              <a:chOff x="7015320" y="4791240"/>
              <a:chExt cx="1828800" cy="969840"/>
            </a:xfrm>
          </p:grpSpPr>
          <p:sp>
            <p:nvSpPr>
              <p:cNvPr id="226" name=""/>
              <p:cNvSpPr/>
              <p:nvPr/>
            </p:nvSpPr>
            <p:spPr>
              <a:xfrm>
                <a:off x="7015320" y="5227920"/>
                <a:ext cx="1828800" cy="533160"/>
              </a:xfrm>
              <a:prstGeom prst="parallelogram">
                <a:avLst>
                  <a:gd name="adj" fmla="val 105555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974360" y="4791240"/>
                <a:ext cx="684000" cy="59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8" name="agentred" descr=""/>
              <p:cNvPicPr/>
              <p:nvPr/>
            </p:nvPicPr>
            <p:blipFill>
              <a:blip r:embed="rId4"/>
              <a:stretch/>
            </p:blipFill>
            <p:spPr>
              <a:xfrm>
                <a:off x="7216920" y="5267520"/>
                <a:ext cx="430200" cy="444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29" name=""/>
            <p:cNvGrpSpPr/>
            <p:nvPr/>
          </p:nvGrpSpPr>
          <p:grpSpPr>
            <a:xfrm>
              <a:off x="7032600" y="1601640"/>
              <a:ext cx="1828800" cy="1375200"/>
              <a:chOff x="7032600" y="1601640"/>
              <a:chExt cx="1828800" cy="1375200"/>
            </a:xfrm>
          </p:grpSpPr>
          <p:sp>
            <p:nvSpPr>
              <p:cNvPr id="230" name=""/>
              <p:cNvSpPr/>
              <p:nvPr/>
            </p:nvSpPr>
            <p:spPr>
              <a:xfrm>
                <a:off x="7286040" y="2577960"/>
                <a:ext cx="1320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cc"/>
                    </a:solidFill>
                    <a:latin typeface="Times New Roman"/>
                  </a:rPr>
                  <a:t>Machine 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7032600" y="1601640"/>
                <a:ext cx="1828800" cy="960120"/>
                <a:chOff x="7032600" y="1601640"/>
                <a:chExt cx="1828800" cy="9601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7032600" y="2028600"/>
                  <a:ext cx="1828800" cy="533160"/>
                </a:xfrm>
                <a:prstGeom prst="parallelogram">
                  <a:avLst>
                    <a:gd name="adj" fmla="val 105555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8011800" y="1601640"/>
                  <a:ext cx="684360" cy="593640"/>
                </a:xfrm>
                <a:prstGeom prst="can">
                  <a:avLst>
                    <a:gd name="adj" fmla="val 25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34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254720" y="2068200"/>
                  <a:ext cx="430200" cy="444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35" name=""/>
          <p:cNvSpPr/>
          <p:nvPr/>
        </p:nvSpPr>
        <p:spPr>
          <a:xfrm>
            <a:off x="7550640" y="3429000"/>
            <a:ext cx="10947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94320" y="2521080"/>
            <a:ext cx="2644560" cy="24206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83160" y="4997520"/>
            <a:ext cx="2611440" cy="393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49880" y="4254480"/>
            <a:ext cx="24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end child agents / collect partial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10480" y="200484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7664400" y="519876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5468-B62A-4BA2-AF64-F43B46606A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2276280" y="2635200"/>
            <a:ext cx="459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233360" y="325440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84F9-1466-4AF7-8D66-21516C23C53A}" type="slidenum">
              <a:t>1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xt-generation mobile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719640" y="1413000"/>
            <a:ext cx="770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ild on mass market technology - browser plug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 lightweight devices - Palm devic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ini- and CORBA-based global director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 “patterns”….what are they? 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br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uage support for mobile agents from within 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FEB-2D2E-4DAF-B5A8-FACFDFA37191}" type="slidenum">
              <a:t>1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will it take to get ther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1087200" y="1203480"/>
            <a:ext cx="5648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re people trying mobile-code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ome, but not too many,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mbracing the mobile-code paradig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6548400" y="1587600"/>
            <a:ext cx="1852560" cy="1263600"/>
          </a:xfrm>
          <a:prstGeom prst="rect">
            <a:avLst/>
          </a:prstGeom>
          <a:ln w="0">
            <a:noFill/>
          </a:ln>
        </p:spPr>
      </p:pic>
      <p:pic>
        <p:nvPicPr>
          <p:cNvPr id="2477" name="" descr=""/>
          <p:cNvPicPr/>
          <p:nvPr/>
        </p:nvPicPr>
        <p:blipFill>
          <a:blip r:embed="rId2"/>
          <a:stretch/>
        </p:blipFill>
        <p:spPr>
          <a:xfrm>
            <a:off x="2084400" y="3222720"/>
            <a:ext cx="3867120" cy="714240"/>
          </a:xfrm>
          <a:prstGeom prst="rect">
            <a:avLst/>
          </a:prstGeom>
          <a:ln w="0">
            <a:noFill/>
          </a:ln>
        </p:spPr>
      </p:pic>
      <p:pic>
        <p:nvPicPr>
          <p:cNvPr id="2478" name="" descr=""/>
          <p:cNvPicPr/>
          <p:nvPr/>
        </p:nvPicPr>
        <p:blipFill>
          <a:blip r:embed="rId3"/>
          <a:stretch/>
        </p:blipFill>
        <p:spPr>
          <a:xfrm>
            <a:off x="5083200" y="3951360"/>
            <a:ext cx="1981080" cy="47448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4"/>
          <a:stretch/>
        </p:blipFill>
        <p:spPr>
          <a:xfrm>
            <a:off x="2436840" y="1692360"/>
            <a:ext cx="2857320" cy="95256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5"/>
          <a:stretch/>
        </p:blipFill>
        <p:spPr>
          <a:xfrm>
            <a:off x="4572000" y="5016600"/>
            <a:ext cx="3809880" cy="119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40D-F3AA-423C-97F6-91F7FBD5F892}" type="slidenum">
              <a:t>1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cala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685800" y="157464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ent Scaling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  - Company - (approximately 600 agents required per compan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N - Battalion - (approximately 1,400 agents required per battal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D - Command - (approximately 2,400 agents required per comm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3" name=""/>
          <p:cNvGraphicFramePr/>
          <p:nvPr/>
        </p:nvGraphicFramePr>
        <p:xfrm>
          <a:off x="838080" y="2336760"/>
          <a:ext cx="746784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36760"/>
                    <a:ext cx="746784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5" name=""/>
          <p:cNvSpPr/>
          <p:nvPr/>
        </p:nvSpPr>
        <p:spPr>
          <a:xfrm>
            <a:off x="0" y="1160640"/>
            <a:ext cx="91440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3B9-3568-44E9-BD4C-677D5D519F24}" type="slidenum">
              <a:t>1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pull dir="d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896760" y="1600200"/>
            <a:ext cx="7366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can build on firm cryptographic basis in gen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questions:  How to protect code from malic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s?  What if an “intruder” or “enemy” cap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erver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aling with global, heterogeneous 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m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link is still weak, especially with PDA’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E38-D854-4DC3-BB48-3247B9AA26D7}" type="slidenum">
              <a:t>1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Key issue: Monitoring and contro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9" name="" descr=""/>
          <p:cNvPicPr/>
          <p:nvPr/>
        </p:nvPicPr>
        <p:blipFill>
          <a:blip r:embed="rId1"/>
          <a:stretch/>
        </p:blipFill>
        <p:spPr>
          <a:xfrm>
            <a:off x="222120" y="1719360"/>
            <a:ext cx="5888160" cy="3838320"/>
          </a:xfrm>
          <a:prstGeom prst="rect">
            <a:avLst/>
          </a:prstGeom>
          <a:ln w="0">
            <a:noFill/>
          </a:ln>
        </p:spPr>
      </p:pic>
      <p:sp>
        <p:nvSpPr>
          <p:cNvPr id="2490" name=""/>
          <p:cNvSpPr/>
          <p:nvPr/>
        </p:nvSpPr>
        <p:spPr>
          <a:xfrm>
            <a:off x="6367320" y="1584360"/>
            <a:ext cx="2620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w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deal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,000’s of nod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,000,000’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scal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deg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38BB-A3FC-4431-AB97-475AAE391C8C}" type="slidenum">
              <a:t>1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"/>
          <p:cNvSpPr/>
          <p:nvPr/>
        </p:nvSpPr>
        <p:spPr>
          <a:xfrm>
            <a:off x="409680" y="1536840"/>
            <a:ext cx="4533840" cy="3633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Key issue: Application Suit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132000" y="2028960"/>
            <a:ext cx="97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4" name="smart" descr=""/>
          <p:cNvPicPr/>
          <p:nvPr/>
        </p:nvPicPr>
        <p:blipFill>
          <a:blip r:embed="rId2"/>
          <a:stretch/>
        </p:blipFill>
        <p:spPr>
          <a:xfrm>
            <a:off x="857160" y="2084400"/>
            <a:ext cx="1173240" cy="720720"/>
          </a:xfrm>
          <a:prstGeom prst="rect">
            <a:avLst/>
          </a:prstGeom>
          <a:ln w="0">
            <a:noFill/>
          </a:ln>
        </p:spPr>
      </p:pic>
      <p:pic>
        <p:nvPicPr>
          <p:cNvPr id="2495" name="list" descr=""/>
          <p:cNvPicPr/>
          <p:nvPr/>
        </p:nvPicPr>
        <p:blipFill>
          <a:blip r:embed="rId3"/>
          <a:stretch/>
        </p:blipFill>
        <p:spPr>
          <a:xfrm>
            <a:off x="812880" y="2616120"/>
            <a:ext cx="407880" cy="434880"/>
          </a:xfrm>
          <a:prstGeom prst="rect">
            <a:avLst/>
          </a:prstGeom>
          <a:ln w="0">
            <a:noFill/>
          </a:ln>
        </p:spPr>
      </p:pic>
      <p:sp>
        <p:nvSpPr>
          <p:cNvPr id="2496" name=""/>
          <p:cNvSpPr/>
          <p:nvPr/>
        </p:nvSpPr>
        <p:spPr>
          <a:xfrm>
            <a:off x="2120760" y="4048200"/>
            <a:ext cx="682920" cy="212760"/>
          </a:xfrm>
          <a:prstGeom prst="parallelogram">
            <a:avLst>
              <a:gd name="adj" fmla="val 9877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7" name="agentred" descr=""/>
          <p:cNvPicPr/>
          <p:nvPr/>
        </p:nvPicPr>
        <p:blipFill>
          <a:blip r:embed="rId4"/>
          <a:stretch/>
        </p:blipFill>
        <p:spPr>
          <a:xfrm>
            <a:off x="2214720" y="3956040"/>
            <a:ext cx="247320" cy="273240"/>
          </a:xfrm>
          <a:prstGeom prst="rect">
            <a:avLst/>
          </a:prstGeom>
          <a:ln w="0">
            <a:noFill/>
          </a:ln>
        </p:spPr>
      </p:pic>
      <p:sp>
        <p:nvSpPr>
          <p:cNvPr id="2498" name=""/>
          <p:cNvSpPr/>
          <p:nvPr/>
        </p:nvSpPr>
        <p:spPr>
          <a:xfrm>
            <a:off x="1243080" y="2631960"/>
            <a:ext cx="199800" cy="2127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2055960" y="240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1389240" y="3209760"/>
            <a:ext cx="79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506400" y="43228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3375000" y="4103640"/>
            <a:ext cx="684360" cy="212760"/>
          </a:xfrm>
          <a:prstGeom prst="parallelogram">
            <a:avLst>
              <a:gd name="adj" fmla="val 989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603600" y="401940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3507480" y="304308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381480" y="2828880"/>
            <a:ext cx="684000" cy="212760"/>
          </a:xfrm>
          <a:prstGeom prst="parallelogram">
            <a:avLst>
              <a:gd name="adj" fmla="val 9893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3610080" y="2751120"/>
            <a:ext cx="255600" cy="236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V="1">
            <a:off x="2470320" y="2971440"/>
            <a:ext cx="1122120" cy="1017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467080" y="4011480"/>
            <a:ext cx="1112760" cy="1447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2757600" y="3657600"/>
            <a:ext cx="77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198520" y="2981160"/>
            <a:ext cx="5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2223000" y="427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760320" y="30448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227240" y="3070080"/>
            <a:ext cx="966600" cy="93672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444680" y="2814480"/>
            <a:ext cx="900000" cy="11080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585880" y="4226040"/>
            <a:ext cx="744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13976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895320" y="3832200"/>
            <a:ext cx="12528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903240" y="4035600"/>
            <a:ext cx="125640" cy="14256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896760" y="4226040"/>
            <a:ext cx="125640" cy="1429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7" idx="3"/>
            <a:endCxn id="2516" idx="1"/>
          </p:cNvCxnSpPr>
          <p:nvPr/>
        </p:nvCxnSpPr>
        <p:spPr>
          <a:xfrm>
            <a:off x="1025640" y="3903840"/>
            <a:ext cx="11016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8" idx="3"/>
            <a:endCxn id="2516" idx="1"/>
          </p:cNvCxnSpPr>
          <p:nvPr/>
        </p:nvCxnSpPr>
        <p:spPr>
          <a:xfrm>
            <a:off x="1033560" y="4106520"/>
            <a:ext cx="102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522" name=""/>
          <p:cNvCxnSpPr>
            <a:stCxn id="2519" idx="3"/>
            <a:endCxn id="2516" idx="1"/>
          </p:cNvCxnSpPr>
          <p:nvPr/>
        </p:nvCxnSpPr>
        <p:spPr>
          <a:xfrm flipV="1">
            <a:off x="1027080" y="4106160"/>
            <a:ext cx="108720" cy="1911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523" name=""/>
          <p:cNvSpPr/>
          <p:nvPr/>
        </p:nvSpPr>
        <p:spPr>
          <a:xfrm flipV="1">
            <a:off x="1276200" y="4100040"/>
            <a:ext cx="928800" cy="32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1380960" y="411012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5221800" y="1292400"/>
            <a:ext cx="3809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iting for a “killer app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rits of mobile agent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are based on sh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many application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improved by u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de mo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applications wi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e to be develop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groups, s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ill tak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987840" y="5491080"/>
            <a:ext cx="31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293-D16A-42E3-86F5-4C577F37F650}" type="slidenum">
              <a:t>1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414360" y="76320"/>
            <a:ext cx="8305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trends lead to mobile agen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74840" y="112248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ver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74840" y="226044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vers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76280" y="4024440"/>
            <a:ext cx="142380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6280" y="5173560"/>
            <a:ext cx="1423800" cy="8510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d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2587680" y="1693800"/>
            <a:ext cx="180504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iz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762440" y="259704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xy-b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808520" y="1058760"/>
            <a:ext cx="1479600" cy="862200"/>
          </a:xfrm>
          <a:prstGeom prst="ellipse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2829600" y="4092480"/>
            <a:ext cx="131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void l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rans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2751480" y="524196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Dis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729320" y="4560840"/>
            <a:ext cx="1477800" cy="819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7091280" y="1679400"/>
            <a:ext cx="1478160" cy="1133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 serv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7091280" y="3624120"/>
            <a:ext cx="1478160" cy="9320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095880" y="5710320"/>
            <a:ext cx="1424160" cy="8506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ig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1916280" y="1546200"/>
            <a:ext cx="72864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 flipV="1">
            <a:off x="1916280" y="2328480"/>
            <a:ext cx="739440" cy="38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2063160" y="966960"/>
            <a:ext cx="182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creased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 person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 flipV="1">
            <a:off x="4381560" y="1658880"/>
            <a:ext cx="469800" cy="30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4370400" y="2263680"/>
            <a:ext cx="480960" cy="53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6264360" y="1636560"/>
            <a:ext cx="806400" cy="370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 flipV="1">
            <a:off x="6253200" y="2521080"/>
            <a:ext cx="81756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4545000" y="1920960"/>
            <a:ext cx="246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o many uniqu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persed clients to 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 flipV="1">
            <a:off x="1916280" y="4381200"/>
            <a:ext cx="907920" cy="111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05120" y="4448160"/>
            <a:ext cx="907920" cy="863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1927080" y="5557680"/>
            <a:ext cx="852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 flipV="1">
            <a:off x="1938240" y="4616280"/>
            <a:ext cx="885960" cy="841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78440" y="4448160"/>
            <a:ext cx="617400" cy="212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flipV="1">
            <a:off x="4191120" y="5322960"/>
            <a:ext cx="515880" cy="223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flipV="1">
            <a:off x="4102200" y="3327120"/>
            <a:ext cx="761760" cy="89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 flipV="1">
            <a:off x="4146480" y="3406680"/>
            <a:ext cx="806400" cy="1905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7832880" y="2846520"/>
            <a:ext cx="0" cy="7398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 flipV="1">
            <a:off x="7183440" y="4616280"/>
            <a:ext cx="649440" cy="1043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479280" y="2898720"/>
            <a:ext cx="13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lti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tes to vis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7590240" y="4799160"/>
            <a:ext cx="10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tine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804A-4192-4C70-B89D-609E22C5DA76}" type="slidenum">
              <a:t>1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ng to migrating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2" name=""/>
          <p:cNvGrpSpPr/>
          <p:nvPr/>
        </p:nvGrpSpPr>
        <p:grpSpPr>
          <a:xfrm>
            <a:off x="399960" y="1197000"/>
            <a:ext cx="3395880" cy="4770360"/>
            <a:chOff x="399960" y="1197000"/>
            <a:chExt cx="3395880" cy="4770360"/>
          </a:xfrm>
        </p:grpSpPr>
        <p:sp>
          <p:nvSpPr>
            <p:cNvPr id="2563" name=""/>
            <p:cNvSpPr/>
            <p:nvPr/>
          </p:nvSpPr>
          <p:spPr>
            <a:xfrm>
              <a:off x="399960" y="1197000"/>
              <a:ext cx="1546200" cy="8622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pp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249640" y="235584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xi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2246400" y="3765600"/>
              <a:ext cx="1546200" cy="10414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s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th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ep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le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1020240" y="2376720"/>
              <a:ext cx="122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xie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provi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by exis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ISP’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401760" y="5094360"/>
              <a:ext cx="1546200" cy="873000"/>
            </a:xfrm>
            <a:prstGeom prst="roundRect">
              <a:avLst>
                <a:gd name="adj" fmla="val 16667"/>
              </a:avLst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ob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52640" y="2036880"/>
              <a:ext cx="334800" cy="314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3016080" y="3425760"/>
              <a:ext cx="0" cy="2923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 flipH="1">
              <a:off x="1936440" y="4788000"/>
              <a:ext cx="368280" cy="347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1" name=""/>
          <p:cNvGrpSpPr/>
          <p:nvPr/>
        </p:nvGrpSpPr>
        <p:grpSpPr>
          <a:xfrm>
            <a:off x="4382640" y="1197000"/>
            <a:ext cx="4437360" cy="5135040"/>
            <a:chOff x="4382640" y="1197000"/>
            <a:chExt cx="4437360" cy="5135040"/>
          </a:xfrm>
        </p:grpSpPr>
        <p:grpSp>
          <p:nvGrpSpPr>
            <p:cNvPr id="2572" name=""/>
            <p:cNvGrpSpPr/>
            <p:nvPr/>
          </p:nvGrpSpPr>
          <p:grpSpPr>
            <a:xfrm>
              <a:off x="4920840" y="1197000"/>
              <a:ext cx="3362760" cy="957240"/>
              <a:chOff x="4920840" y="1197000"/>
              <a:chExt cx="3362760" cy="957240"/>
            </a:xfrm>
          </p:grpSpPr>
          <p:grpSp>
            <p:nvGrpSpPr>
              <p:cNvPr id="2573" name=""/>
              <p:cNvGrpSpPr/>
              <p:nvPr/>
            </p:nvGrpSpPr>
            <p:grpSpPr>
              <a:xfrm>
                <a:off x="5672160" y="1301760"/>
                <a:ext cx="2611440" cy="852480"/>
                <a:chOff x="5672160" y="1301760"/>
                <a:chExt cx="2611440" cy="85248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5672160" y="1301760"/>
                  <a:ext cx="2611440" cy="852480"/>
                </a:xfrm>
                <a:prstGeom prst="parallelogram">
                  <a:avLst>
                    <a:gd name="adj" fmla="val 112110"/>
                  </a:avLst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 flipV="1">
                  <a:off x="6367320" y="1536480"/>
                  <a:ext cx="381240" cy="3474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6759360" y="1548000"/>
                  <a:ext cx="527040" cy="2919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flipV="1">
                  <a:off x="6759360" y="1447560"/>
                  <a:ext cx="650880" cy="889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 flipH="1">
                  <a:off x="7286040" y="1459080"/>
                  <a:ext cx="135000" cy="3697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6692760" y="1479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296040" y="1844640"/>
                  <a:ext cx="12204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1" name=""/>
                <p:cNvSpPr/>
                <p:nvPr/>
              </p:nvSpPr>
              <p:spPr>
                <a:xfrm>
                  <a:off x="7221600" y="1784520"/>
                  <a:ext cx="122040" cy="1220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7340400" y="1398600"/>
                  <a:ext cx="122400" cy="12240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3" name=""/>
              <p:cNvSpPr/>
              <p:nvPr/>
            </p:nvSpPr>
            <p:spPr>
              <a:xfrm>
                <a:off x="4920840" y="1197000"/>
                <a:ext cx="1265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ra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4" name=""/>
            <p:cNvGrpSpPr/>
            <p:nvPr/>
          </p:nvGrpSpPr>
          <p:grpSpPr>
            <a:xfrm>
              <a:off x="4382640" y="3902040"/>
              <a:ext cx="4437360" cy="2430000"/>
              <a:chOff x="4382640" y="3902040"/>
              <a:chExt cx="4437360" cy="2430000"/>
            </a:xfrm>
          </p:grpSpPr>
          <p:grpSp>
            <p:nvGrpSpPr>
              <p:cNvPr id="2585" name=""/>
              <p:cNvGrpSpPr/>
              <p:nvPr/>
            </p:nvGrpSpPr>
            <p:grpSpPr>
              <a:xfrm>
                <a:off x="5700600" y="4412880"/>
                <a:ext cx="1165320" cy="380880"/>
                <a:chOff x="5700600" y="4412880"/>
                <a:chExt cx="1165320" cy="380880"/>
              </a:xfrm>
            </p:grpSpPr>
            <p:sp>
              <p:nvSpPr>
                <p:cNvPr id="2586" name=""/>
                <p:cNvSpPr/>
                <p:nvPr/>
              </p:nvSpPr>
              <p:spPr>
                <a:xfrm>
                  <a:off x="5700600" y="441288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7" name=""/>
                <p:cNvSpPr/>
                <p:nvPr/>
              </p:nvSpPr>
              <p:spPr>
                <a:xfrm flipV="1">
                  <a:off x="6010560" y="451728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6185520" y="45226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 flipV="1">
                  <a:off x="6185520" y="44780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 flipH="1">
                  <a:off x="6420600" y="448308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6156000" y="4492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2" name=""/>
                <p:cNvSpPr/>
                <p:nvPr/>
              </p:nvSpPr>
              <p:spPr>
                <a:xfrm>
                  <a:off x="5978880" y="4655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3" name=""/>
                <p:cNvSpPr/>
                <p:nvPr/>
              </p:nvSpPr>
              <p:spPr>
                <a:xfrm>
                  <a:off x="6391800" y="462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6445080" y="44560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649840" y="5719320"/>
                <a:ext cx="1165320" cy="380880"/>
                <a:chOff x="5649840" y="5719320"/>
                <a:chExt cx="1165320" cy="38088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649840" y="571932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5959800" y="582372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>
                  <a:off x="6134760" y="582912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9" name=""/>
                <p:cNvSpPr/>
                <p:nvPr/>
              </p:nvSpPr>
              <p:spPr>
                <a:xfrm flipV="1">
                  <a:off x="6134760" y="578448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 flipH="1">
                  <a:off x="6369840" y="578952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>
                  <a:off x="6105240" y="5798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>
                  <a:off x="5928120" y="5961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341040" y="59349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4" name=""/>
                <p:cNvSpPr/>
                <p:nvPr/>
              </p:nvSpPr>
              <p:spPr>
                <a:xfrm>
                  <a:off x="6394320" y="576252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5" name=""/>
              <p:cNvGrpSpPr/>
              <p:nvPr/>
            </p:nvGrpSpPr>
            <p:grpSpPr>
              <a:xfrm>
                <a:off x="4603680" y="5073480"/>
                <a:ext cx="1165320" cy="380520"/>
                <a:chOff x="4603680" y="5073480"/>
                <a:chExt cx="1165320" cy="380520"/>
              </a:xfrm>
            </p:grpSpPr>
            <p:sp>
              <p:nvSpPr>
                <p:cNvPr id="2606" name=""/>
                <p:cNvSpPr/>
                <p:nvPr/>
              </p:nvSpPr>
              <p:spPr>
                <a:xfrm>
                  <a:off x="4603680" y="5073480"/>
                  <a:ext cx="1165320" cy="380520"/>
                </a:xfrm>
                <a:prstGeom prst="parallelogram">
                  <a:avLst>
                    <a:gd name="adj" fmla="val 112077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7" name=""/>
                <p:cNvSpPr/>
                <p:nvPr/>
              </p:nvSpPr>
              <p:spPr>
                <a:xfrm flipV="1">
                  <a:off x="4913640" y="5178240"/>
                  <a:ext cx="169920" cy="1548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"/>
                <p:cNvSpPr/>
                <p:nvPr/>
              </p:nvSpPr>
              <p:spPr>
                <a:xfrm>
                  <a:off x="5088600" y="518328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5088600" y="513864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H="1">
                  <a:off x="5323680" y="5143680"/>
                  <a:ext cx="60120" cy="16488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5059080" y="5152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881960" y="5315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3" name=""/>
                <p:cNvSpPr/>
                <p:nvPr/>
              </p:nvSpPr>
              <p:spPr>
                <a:xfrm>
                  <a:off x="5294880" y="528876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5348160" y="5116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7242120" y="4824000"/>
                <a:ext cx="1165320" cy="380880"/>
                <a:chOff x="7242120" y="4824000"/>
                <a:chExt cx="1165320" cy="38088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7242120" y="482400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 flipV="1">
                  <a:off x="7552080" y="492840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7727040" y="493380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7727040" y="488916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H="1">
                  <a:off x="7962120" y="489420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7697520" y="4903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2" name=""/>
                <p:cNvSpPr/>
                <p:nvPr/>
              </p:nvSpPr>
              <p:spPr>
                <a:xfrm>
                  <a:off x="7520400" y="5066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3" name=""/>
                <p:cNvSpPr/>
                <p:nvPr/>
              </p:nvSpPr>
              <p:spPr>
                <a:xfrm>
                  <a:off x="7933320" y="50396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7986600" y="486720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7261200" y="3902040"/>
                <a:ext cx="1165320" cy="380880"/>
                <a:chOff x="7261200" y="3902040"/>
                <a:chExt cx="1165320" cy="38088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7261200" y="3902040"/>
                  <a:ext cx="1165320" cy="380880"/>
                </a:xfrm>
                <a:prstGeom prst="parallelogram">
                  <a:avLst>
                    <a:gd name="adj" fmla="val 111971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 flipV="1">
                  <a:off x="7571160" y="4006440"/>
                  <a:ext cx="169920" cy="15516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8" name=""/>
                <p:cNvSpPr/>
                <p:nvPr/>
              </p:nvSpPr>
              <p:spPr>
                <a:xfrm>
                  <a:off x="7746120" y="4011840"/>
                  <a:ext cx="235080" cy="13032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9" name=""/>
                <p:cNvSpPr/>
                <p:nvPr/>
              </p:nvSpPr>
              <p:spPr>
                <a:xfrm flipV="1">
                  <a:off x="7746120" y="3967200"/>
                  <a:ext cx="290160" cy="3960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 flipH="1">
                  <a:off x="7981200" y="3972240"/>
                  <a:ext cx="60120" cy="165240"/>
                </a:xfrm>
                <a:prstGeom prst="line">
                  <a:avLst/>
                </a:prstGeom>
                <a:ln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7716600" y="3981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2" name=""/>
                <p:cNvSpPr/>
                <p:nvPr/>
              </p:nvSpPr>
              <p:spPr>
                <a:xfrm>
                  <a:off x="7539480" y="4144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7952400" y="411768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4" name=""/>
                <p:cNvSpPr/>
                <p:nvPr/>
              </p:nvSpPr>
              <p:spPr>
                <a:xfrm>
                  <a:off x="8005680" y="3945240"/>
                  <a:ext cx="54360" cy="5436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5" name=""/>
              <p:cNvSpPr/>
              <p:nvPr/>
            </p:nvSpPr>
            <p:spPr>
              <a:xfrm flipV="1">
                <a:off x="6859440" y="4281120"/>
                <a:ext cx="414360" cy="1346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77000" y="4292280"/>
                <a:ext cx="281160" cy="51552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680160" y="4595400"/>
                <a:ext cx="795240" cy="3808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 flipH="1">
                <a:off x="5772240" y="4797000"/>
                <a:ext cx="336240" cy="26820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6210360" y="4797000"/>
                <a:ext cx="201600" cy="9190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8259840" y="4057200"/>
                <a:ext cx="537840" cy="5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8137440" y="5054400"/>
                <a:ext cx="682560" cy="415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511680" y="5995800"/>
                <a:ext cx="358920" cy="3362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4382640" y="5457600"/>
                <a:ext cx="235080" cy="2138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4644360" y="3947760"/>
                <a:ext cx="1248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ff0000"/>
                    </a:solidFill>
                    <a:uFillTx/>
                    <a:latin typeface="Times New Roman"/>
                  </a:rPr>
                  <a:t>Inter</a:t>
                </a: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5" name=""/>
            <p:cNvSpPr/>
            <p:nvPr/>
          </p:nvSpPr>
          <p:spPr>
            <a:xfrm>
              <a:off x="6208560" y="2566800"/>
              <a:ext cx="784440" cy="1043280"/>
            </a:xfrm>
            <a:prstGeom prst="downArrow">
              <a:avLst>
                <a:gd name="adj1" fmla="val 50000"/>
                <a:gd name="adj2" fmla="val 33249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FAE-D869-44A7-9C4B-8A839955B650}" type="slidenum">
              <a:t>1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ercial fu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1053720" y="1617840"/>
            <a:ext cx="7044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oftware industry is evolving towards 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icult to predic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Java, JDK, free to users and develop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open systems must be op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development of applications based on o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stems and 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follow Web and Java ev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940-9B99-4C90-8815-F3D2A27AB9A3}" type="slidenum">
              <a:t>1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H="1" flipV="1">
            <a:off x="4495680" y="1323360"/>
            <a:ext cx="1524240" cy="472428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200 h 4724280"/>
              <a:gd name="textAreaBottom" fmla="*/ 3424680 h 472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628640"/>
            <a:ext cx="1524240" cy="472464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38080" y="41212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5120" y="279720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57200" y="4295880"/>
            <a:ext cx="401760" cy="3952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95680"/>
            <a:ext cx="401760" cy="388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3581280" y="0"/>
            <a:ext cx="546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rtmouth (Prime),  ALPHATECH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vard, Lockheed Marti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PI, University of Illinois at Urb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ttp://actcomm.dartmouth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905120" y="4981680"/>
            <a:ext cx="858600" cy="121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28600" y="3533760"/>
            <a:ext cx="477720" cy="4777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0560" y="348444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21320" y="528480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Mobile U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400040"/>
            <a:ext cx="3276720" cy="152424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atile Network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5"/>
          <a:stretch/>
        </p:blipFill>
        <p:spPr>
          <a:xfrm>
            <a:off x="3124080" y="5686560"/>
            <a:ext cx="1295640" cy="9712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6"/>
          <a:stretch/>
        </p:blipFill>
        <p:spPr>
          <a:xfrm>
            <a:off x="5486400" y="2619360"/>
            <a:ext cx="479520" cy="990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09160" y="3262320"/>
            <a:ext cx="8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334120" y="4371840"/>
            <a:ext cx="761760" cy="7016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266360" y="4100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Reques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992880" y="521028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97840" y="5286240"/>
            <a:ext cx="9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9840" y="3305160"/>
            <a:ext cx="2008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Information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nding queri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usio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mat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92520" y="5175360"/>
            <a:ext cx="241344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Software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l, Java, Pyth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Scheme mobi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s deliver data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89040" y="3533760"/>
            <a:ext cx="2666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ctive Hybrid Network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reless and volat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s must recon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relocate servers/prox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robustness and efficien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57200" y="1908000"/>
            <a:ext cx="286020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tiv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nning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routing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 itineraries must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ned dynamically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chastic 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228600"/>
            <a:ext cx="396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ctComm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97 DoD MU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9E28-1AAA-4F19-BC0C-D866948254E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nding opportun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327240" y="1177920"/>
            <a:ext cx="8488080" cy="484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ident’s Information Technology Advisory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PITAC) report is full of agent-type application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llenges, new ideas for global computing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dissemin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hpcc.gov/a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SF - KDI and advanced networking and computing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E - Strategic Simulation Initiative (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RPA - several agent programs, perhaps mor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SA - Information Power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2F3B-1D3F-4B61-A273-ABA7B8454989}" type="slidenum">
              <a:t>1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C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579240" y="1360440"/>
            <a:ext cx="768744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start something new…just evolve exis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backward compatible with Fortran, C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y is too big a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head for moving code is too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tworks will be so fast, performance not an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 was not invented 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2" name="" descr=""/>
          <p:cNvPicPr/>
          <p:nvPr/>
        </p:nvPicPr>
        <p:blipFill>
          <a:blip r:embed="rId1"/>
          <a:stretch/>
        </p:blipFill>
        <p:spPr>
          <a:xfrm>
            <a:off x="7286760" y="196056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C6EB-5852-4B84-BE0E-BE5605E19547}" type="slidenum">
              <a:t>1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lusion: Pro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912960" y="1565280"/>
            <a:ext cx="758952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unifying framework for making many application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s data and code symmetr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new computing paradigm, lots to thin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systems are evolving there anyway…get ou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ple-language suppor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orts disconnected networks in a way that o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ies can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eaner programm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5" name="" descr=""/>
          <p:cNvPicPr/>
          <p:nvPr/>
        </p:nvPicPr>
        <p:blipFill>
          <a:blip r:embed="rId1"/>
          <a:stretch/>
        </p:blipFill>
        <p:spPr>
          <a:xfrm>
            <a:off x="361800" y="349200"/>
            <a:ext cx="1641600" cy="1120680"/>
          </a:xfrm>
          <a:prstGeom prst="rect">
            <a:avLst/>
          </a:prstGeom>
          <a:ln w="0">
            <a:noFill/>
          </a:ln>
        </p:spPr>
      </p:pic>
      <p:pic>
        <p:nvPicPr>
          <p:cNvPr id="2656" name="" descr=""/>
          <p:cNvPicPr/>
          <p:nvPr/>
        </p:nvPicPr>
        <p:blipFill>
          <a:blip r:embed="rId2"/>
          <a:stretch/>
        </p:blipFill>
        <p:spPr>
          <a:xfrm>
            <a:off x="7093080" y="0"/>
            <a:ext cx="2050920" cy="192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8541-FB15-4545-A139-301875E0CA10}" type="slidenum">
              <a:t>1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15FC-AF1A-4E12-81A9-E2BFA4D87A52}" type="slidenum">
              <a:t>1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urce cod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853560" y="1306440"/>
            <a:ext cx="7439040" cy="4844520"/>
            <a:chOff x="853560" y="1306440"/>
            <a:chExt cx="7439040" cy="4844520"/>
          </a:xfrm>
        </p:grpSpPr>
        <p:sp>
          <p:nvSpPr>
            <p:cNvPr id="2668" name=""/>
            <p:cNvSpPr/>
            <p:nvPr/>
          </p:nvSpPr>
          <p:spPr>
            <a:xfrm>
              <a:off x="855000" y="1306440"/>
              <a:ext cx="533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erver and Tcl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459880" y="1897200"/>
              <a:ext cx="415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ttp://agent.cs.dartmouth.edu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853560" y="2903400"/>
              <a:ext cx="385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Java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460240" y="3451320"/>
              <a:ext cx="5832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vailable by request (due to Sun licensing restrictions).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act </a:t>
              </a: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robert.s.gray@dartmouth.edu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855720" y="5095800"/>
              <a:ext cx="430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D’Agents (Scheme modul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462400" y="5691240"/>
              <a:ext cx="195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ing so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E084-1AAD-4B69-B056-A2A0FC54BAFB}" type="slidenum">
              <a:t>1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 flipH="1">
            <a:off x="2192400" y="1390680"/>
            <a:ext cx="115920" cy="111924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01760" y="136440"/>
            <a:ext cx="3849480" cy="1647360"/>
            <a:chOff x="401760" y="136440"/>
            <a:chExt cx="3849480" cy="1647360"/>
          </a:xfrm>
        </p:grpSpPr>
        <p:sp>
          <p:nvSpPr>
            <p:cNvPr id="267" name=""/>
            <p:cNvSpPr/>
            <p:nvPr/>
          </p:nvSpPr>
          <p:spPr>
            <a:xfrm rot="20580000">
              <a:off x="2048400" y="663480"/>
              <a:ext cx="582840" cy="5824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20580000">
              <a:off x="2867400" y="319320"/>
              <a:ext cx="1333440" cy="542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20580000">
              <a:off x="451800" y="1057680"/>
              <a:ext cx="1333440" cy="542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0" name=""/>
            <p:cNvCxnSpPr>
              <a:stCxn id="267" idx="6"/>
              <a:endCxn id="268" idx="1"/>
            </p:cNvCxnSpPr>
            <p:nvPr/>
          </p:nvCxnSpPr>
          <p:spPr>
            <a:xfrm flipV="1">
              <a:off x="2630880" y="789840"/>
              <a:ext cx="254160" cy="77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71" name=""/>
            <p:cNvCxnSpPr>
              <a:stCxn id="267" idx="2"/>
              <a:endCxn id="269" idx="3"/>
            </p:cNvCxnSpPr>
            <p:nvPr/>
          </p:nvCxnSpPr>
          <p:spPr>
            <a:xfrm flipH="1">
              <a:off x="1768320" y="1044360"/>
              <a:ext cx="281160" cy="871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</a:ln>
          </p:spPr>
        </p:cxn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Application: ActCom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humvee" descr=""/>
          <p:cNvPicPr/>
          <p:nvPr/>
        </p:nvPicPr>
        <p:blipFill>
          <a:blip r:embed="rId3"/>
          <a:stretch/>
        </p:blipFill>
        <p:spPr>
          <a:xfrm>
            <a:off x="4854600" y="2585880"/>
            <a:ext cx="1380960" cy="698760"/>
          </a:xfrm>
          <a:prstGeom prst="rect">
            <a:avLst/>
          </a:prstGeom>
          <a:ln w="0">
            <a:noFill/>
          </a:ln>
        </p:spPr>
      </p:pic>
      <p:pic>
        <p:nvPicPr>
          <p:cNvPr id="274" name="soldier1" descr=""/>
          <p:cNvPicPr/>
          <p:nvPr/>
        </p:nvPicPr>
        <p:blipFill>
          <a:blip r:embed="rId4"/>
          <a:stretch/>
        </p:blipFill>
        <p:spPr>
          <a:xfrm>
            <a:off x="7797960" y="3127320"/>
            <a:ext cx="542880" cy="995400"/>
          </a:xfrm>
          <a:prstGeom prst="rect">
            <a:avLst/>
          </a:prstGeom>
          <a:ln w="0">
            <a:noFill/>
          </a:ln>
        </p:spPr>
      </p:pic>
      <p:pic>
        <p:nvPicPr>
          <p:cNvPr id="275" name="soldier2" descr=""/>
          <p:cNvPicPr/>
          <p:nvPr/>
        </p:nvPicPr>
        <p:blipFill>
          <a:blip r:embed="rId5"/>
          <a:stretch/>
        </p:blipFill>
        <p:spPr>
          <a:xfrm>
            <a:off x="5780160" y="4168800"/>
            <a:ext cx="466560" cy="984240"/>
          </a:xfrm>
          <a:prstGeom prst="rect">
            <a:avLst/>
          </a:prstGeom>
          <a:ln w="0">
            <a:noFill/>
          </a:ln>
        </p:spPr>
      </p:pic>
      <p:pic>
        <p:nvPicPr>
          <p:cNvPr id="276" name="soldier1" descr=""/>
          <p:cNvPicPr/>
          <p:nvPr/>
        </p:nvPicPr>
        <p:blipFill>
          <a:blip r:embed="rId6"/>
          <a:stretch/>
        </p:blipFill>
        <p:spPr>
          <a:xfrm>
            <a:off x="7491240" y="5513400"/>
            <a:ext cx="543240" cy="995400"/>
          </a:xfrm>
          <a:prstGeom prst="rect">
            <a:avLst/>
          </a:prstGeom>
          <a:ln w="0">
            <a:noFill/>
          </a:ln>
        </p:spPr>
      </p:pic>
      <p:pic>
        <p:nvPicPr>
          <p:cNvPr id="277" name="soldier2" descr=""/>
          <p:cNvPicPr/>
          <p:nvPr/>
        </p:nvPicPr>
        <p:blipFill>
          <a:blip r:embed="rId7"/>
          <a:stretch/>
        </p:blipFill>
        <p:spPr>
          <a:xfrm>
            <a:off x="8542440" y="1374840"/>
            <a:ext cx="466560" cy="98424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5219640" y="4092480"/>
            <a:ext cx="492120" cy="942840"/>
            <a:chOff x="5219640" y="4092480"/>
            <a:chExt cx="492120" cy="942840"/>
          </a:xfrm>
        </p:grpSpPr>
        <p:pic>
          <p:nvPicPr>
            <p:cNvPr id="279" name="gateway" descr=""/>
            <p:cNvPicPr/>
            <p:nvPr/>
          </p:nvPicPr>
          <p:blipFill>
            <a:blip r:embed="rId8"/>
            <a:stretch/>
          </p:blipFill>
          <p:spPr>
            <a:xfrm>
              <a:off x="5219640" y="443052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5254200" y="4092480"/>
              <a:ext cx="319320" cy="374760"/>
              <a:chOff x="5254200" y="4092480"/>
              <a:chExt cx="319320" cy="374760"/>
            </a:xfrm>
          </p:grpSpPr>
          <p:sp>
            <p:nvSpPr>
              <p:cNvPr id="281" name=""/>
              <p:cNvSpPr/>
              <p:nvPr/>
            </p:nvSpPr>
            <p:spPr>
              <a:xfrm flipV="1">
                <a:off x="5406840" y="426708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460840" y="413532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489640" y="427212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5293800" y="430056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 flipV="1">
                <a:off x="5254200" y="418644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 flipV="1">
                <a:off x="5360760" y="409248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" name=""/>
          <p:cNvGrpSpPr/>
          <p:nvPr/>
        </p:nvGrpSpPr>
        <p:grpSpPr>
          <a:xfrm>
            <a:off x="5532120" y="2235240"/>
            <a:ext cx="319320" cy="374760"/>
            <a:chOff x="5532120" y="2235240"/>
            <a:chExt cx="319320" cy="374760"/>
          </a:xfrm>
        </p:grpSpPr>
        <p:sp>
          <p:nvSpPr>
            <p:cNvPr id="288" name=""/>
            <p:cNvSpPr/>
            <p:nvPr/>
          </p:nvSpPr>
          <p:spPr>
            <a:xfrm flipV="1">
              <a:off x="5684760" y="2409840"/>
              <a:ext cx="0" cy="20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738760" y="2278080"/>
              <a:ext cx="85680" cy="69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67560" y="2414880"/>
              <a:ext cx="83880" cy="205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5571720" y="2443320"/>
              <a:ext cx="33480" cy="1584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532120" y="2329200"/>
              <a:ext cx="90360" cy="3312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638680" y="2235240"/>
              <a:ext cx="37800" cy="1000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962840" y="1306440"/>
            <a:ext cx="492120" cy="942840"/>
            <a:chOff x="7962840" y="1306440"/>
            <a:chExt cx="492120" cy="942840"/>
          </a:xfrm>
        </p:grpSpPr>
        <p:pic>
          <p:nvPicPr>
            <p:cNvPr id="295" name="gateway" descr=""/>
            <p:cNvPicPr/>
            <p:nvPr/>
          </p:nvPicPr>
          <p:blipFill>
            <a:blip r:embed="rId9"/>
            <a:stretch/>
          </p:blipFill>
          <p:spPr>
            <a:xfrm>
              <a:off x="7962840" y="164448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6" name=""/>
            <p:cNvGrpSpPr/>
            <p:nvPr/>
          </p:nvGrpSpPr>
          <p:grpSpPr>
            <a:xfrm>
              <a:off x="7997400" y="1306440"/>
              <a:ext cx="319320" cy="374760"/>
              <a:chOff x="7997400" y="1306440"/>
              <a:chExt cx="319320" cy="374760"/>
            </a:xfrm>
          </p:grpSpPr>
          <p:sp>
            <p:nvSpPr>
              <p:cNvPr id="297" name=""/>
              <p:cNvSpPr/>
              <p:nvPr/>
            </p:nvSpPr>
            <p:spPr>
              <a:xfrm flipV="1">
                <a:off x="8150040" y="148104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8204040" y="134928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8232840" y="148608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8037000" y="151452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7997400" y="140040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 flipV="1">
                <a:off x="8103960" y="130644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3" name=""/>
          <p:cNvGrpSpPr/>
          <p:nvPr/>
        </p:nvGrpSpPr>
        <p:grpSpPr>
          <a:xfrm>
            <a:off x="7272360" y="2971800"/>
            <a:ext cx="492120" cy="942840"/>
            <a:chOff x="7272360" y="2971800"/>
            <a:chExt cx="492120" cy="942840"/>
          </a:xfrm>
        </p:grpSpPr>
        <p:pic>
          <p:nvPicPr>
            <p:cNvPr id="304" name="gateway" descr=""/>
            <p:cNvPicPr/>
            <p:nvPr/>
          </p:nvPicPr>
          <p:blipFill>
            <a:blip r:embed="rId10"/>
            <a:stretch/>
          </p:blipFill>
          <p:spPr>
            <a:xfrm>
              <a:off x="7272360" y="330984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5" name=""/>
            <p:cNvGrpSpPr/>
            <p:nvPr/>
          </p:nvGrpSpPr>
          <p:grpSpPr>
            <a:xfrm>
              <a:off x="7306920" y="2971800"/>
              <a:ext cx="319320" cy="374760"/>
              <a:chOff x="7306920" y="2971800"/>
              <a:chExt cx="319320" cy="374760"/>
            </a:xfrm>
          </p:grpSpPr>
          <p:sp>
            <p:nvSpPr>
              <p:cNvPr id="306" name=""/>
              <p:cNvSpPr/>
              <p:nvPr/>
            </p:nvSpPr>
            <p:spPr>
              <a:xfrm flipV="1">
                <a:off x="7459560" y="314640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7513560" y="301464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7542360" y="315144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346520" y="317988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flipV="1">
                <a:off x="7306920" y="306576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 flipV="1">
                <a:off x="7413480" y="297180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6954840" y="5402160"/>
            <a:ext cx="492120" cy="942840"/>
            <a:chOff x="6954840" y="5402160"/>
            <a:chExt cx="492120" cy="942840"/>
          </a:xfrm>
        </p:grpSpPr>
        <p:pic>
          <p:nvPicPr>
            <p:cNvPr id="313" name="gateway" descr=""/>
            <p:cNvPicPr/>
            <p:nvPr/>
          </p:nvPicPr>
          <p:blipFill>
            <a:blip r:embed="rId11"/>
            <a:stretch/>
          </p:blipFill>
          <p:spPr>
            <a:xfrm>
              <a:off x="6954840" y="5740200"/>
              <a:ext cx="492120" cy="604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4" name=""/>
            <p:cNvGrpSpPr/>
            <p:nvPr/>
          </p:nvGrpSpPr>
          <p:grpSpPr>
            <a:xfrm>
              <a:off x="6989400" y="5402160"/>
              <a:ext cx="319320" cy="374760"/>
              <a:chOff x="6989400" y="5402160"/>
              <a:chExt cx="319320" cy="37476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7142040" y="5576760"/>
                <a:ext cx="0" cy="200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7196040" y="5445000"/>
                <a:ext cx="85680" cy="69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24840" y="5581800"/>
                <a:ext cx="83880" cy="205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7029000" y="5610240"/>
                <a:ext cx="33480" cy="1584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 flipV="1">
                <a:off x="6989400" y="5496120"/>
                <a:ext cx="90360" cy="3312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 flipV="1">
                <a:off x="7095960" y="5402160"/>
                <a:ext cx="37800" cy="100080"/>
              </a:xfrm>
              <a:prstGeom prst="line">
                <a:avLst/>
              </a:prstGeom>
              <a:ln w="255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1" name=""/>
          <p:cNvSpPr/>
          <p:nvPr/>
        </p:nvSpPr>
        <p:spPr>
          <a:xfrm>
            <a:off x="5737320" y="3294000"/>
            <a:ext cx="179280" cy="8301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148080" y="3809880"/>
            <a:ext cx="1098360" cy="5731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67600" y="3038400"/>
            <a:ext cx="1079280" cy="39060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7246440" y="3914640"/>
            <a:ext cx="295560" cy="14385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76880" y="5172120"/>
            <a:ext cx="762120" cy="29376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550280" y="44830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764120" y="2278080"/>
            <a:ext cx="420840" cy="868320"/>
          </a:xfrm>
          <a:prstGeom prst="line">
            <a:avLst/>
          </a:prstGeom>
          <a:ln w="507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3600" y="1368360"/>
            <a:ext cx="293400" cy="2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12124"/>
                </a:moveTo>
                <a:arcTo wR="10800" hR="10800" stAng="10377395" swAng="11089347"/>
                <a:lnTo>
                  <a:pt x="10800" y="10800"/>
                </a:lnTo>
                <a:close/>
              </a:path>
              <a:path fill="none" w="21600" h="21600">
                <a:moveTo>
                  <a:pt x="82" y="12124"/>
                </a:moveTo>
                <a:arcTo wR="10800" hR="10800" stAng="10377395" swAng="11089347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84520" y="1168560"/>
            <a:ext cx="295200" cy="293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880" y="19833"/>
                </a:moveTo>
                <a:arcTo wR="10800" hR="10800" stAng="7394301" swAng="10659812"/>
                <a:lnTo>
                  <a:pt x="10800" y="10800"/>
                </a:lnTo>
                <a:close/>
              </a:path>
              <a:path fill="none" w="21600" h="21600">
                <a:moveTo>
                  <a:pt x="4880" y="19833"/>
                </a:moveTo>
                <a:arcTo wR="10800" hR="10800" stAng="7394301" swAng="10659812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63240" y="2280600"/>
            <a:ext cx="290880" cy="295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95" y="78"/>
                </a:moveTo>
                <a:arcTo wR="10800" hR="10800" stAng="-4986890" swAng="13143183"/>
                <a:lnTo>
                  <a:pt x="10800" y="10800"/>
                </a:lnTo>
                <a:close/>
              </a:path>
              <a:path fill="none" w="21600" h="21600">
                <a:moveTo>
                  <a:pt x="12095" y="78"/>
                </a:moveTo>
                <a:arcTo wR="10800" hR="10800" stAng="-4986890" swAng="13143183"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17640" y="1251000"/>
            <a:ext cx="2403720" cy="123012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21360" y="2521080"/>
            <a:ext cx="2232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565360" y="1131840"/>
            <a:ext cx="123840" cy="77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307960" y="1231920"/>
            <a:ext cx="21960" cy="146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90440" y="471168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39880" y="558792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s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216240" y="4710240"/>
            <a:ext cx="1366920" cy="739800"/>
          </a:xfrm>
          <a:prstGeom prst="roundRect">
            <a:avLst>
              <a:gd name="adj" fmla="val 16667"/>
            </a:avLst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20640" y="2260440"/>
            <a:ext cx="2816280" cy="1427400"/>
            <a:chOff x="620640" y="2260440"/>
            <a:chExt cx="2816280" cy="1427400"/>
          </a:xfrm>
        </p:grpSpPr>
        <p:pic>
          <p:nvPicPr>
            <p:cNvPr id="339" name="" descr=""/>
            <p:cNvPicPr/>
            <p:nvPr/>
          </p:nvPicPr>
          <p:blipFill>
            <a:blip r:embed="rId15"/>
            <a:stretch/>
          </p:blipFill>
          <p:spPr>
            <a:xfrm>
              <a:off x="620640" y="2260440"/>
              <a:ext cx="2816280" cy="142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1308600" y="2790720"/>
              <a:ext cx="184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red 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2281320" y="3695760"/>
            <a:ext cx="129960" cy="183492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78240" y="3679920"/>
            <a:ext cx="758520" cy="101736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1528560" y="3665520"/>
            <a:ext cx="563400" cy="1028880"/>
          </a:xfrm>
          <a:prstGeom prst="line">
            <a:avLst/>
          </a:prstGeom>
          <a:ln w="507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3E1-0C7D-4225-AAC2-91F022525D5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bile node setu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03200" y="1546200"/>
            <a:ext cx="8330040" cy="4041360"/>
            <a:chOff x="403200" y="1546200"/>
            <a:chExt cx="8330040" cy="404136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1790640" y="1760400"/>
              <a:ext cx="5105520" cy="38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07760" y="3839760"/>
              <a:ext cx="694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GPS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75240" y="2952360"/>
              <a:ext cx="145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Cabletron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Digi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oamab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70280" y="4727160"/>
              <a:ext cx="1255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Metri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Ric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03200" y="1546200"/>
              <a:ext cx="974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Wint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Lapto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85720" y="2141280"/>
              <a:ext cx="106704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1409760" y="4046400"/>
              <a:ext cx="761760" cy="15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981760" y="4655880"/>
              <a:ext cx="129528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 flipV="1">
              <a:off x="5981760" y="3132000"/>
              <a:ext cx="1218960" cy="7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522D-4968-4EBF-8A1F-D26F01AD48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76320"/>
            <a:ext cx="8076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plication: Distributed simul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70880" y="1158840"/>
            <a:ext cx="8230320" cy="5073480"/>
            <a:chOff x="470880" y="1158840"/>
            <a:chExt cx="8230320" cy="5073480"/>
          </a:xfrm>
        </p:grpSpPr>
        <p:pic>
          <p:nvPicPr>
            <p:cNvPr id="357" name="" descr=""/>
            <p:cNvPicPr/>
            <p:nvPr/>
          </p:nvPicPr>
          <p:blipFill>
            <a:blip r:embed="rId1"/>
            <a:stretch/>
          </p:blipFill>
          <p:spPr>
            <a:xfrm>
              <a:off x="1679400" y="3344760"/>
              <a:ext cx="605160" cy="5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2284560" y="223848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97160" y="2246400"/>
              <a:ext cx="420516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13000" y="2255760"/>
              <a:ext cx="417348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30280" y="2268360"/>
              <a:ext cx="413892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46480" y="227952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63760" y="2292480"/>
              <a:ext cx="407196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1400" y="230184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97240" y="2314440"/>
              <a:ext cx="400500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14520" y="2325600"/>
              <a:ext cx="397044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428920" y="2338560"/>
              <a:ext cx="3941640" cy="271296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46200" y="2349360"/>
              <a:ext cx="390708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462040" y="2359080"/>
              <a:ext cx="387540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79680" y="2371680"/>
              <a:ext cx="384012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2382840"/>
              <a:ext cx="380844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13160" y="239544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29000" y="2405160"/>
              <a:ext cx="3741480" cy="257976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6280" y="2417760"/>
              <a:ext cx="370692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63920" y="2428920"/>
              <a:ext cx="367164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77960" y="2441520"/>
              <a:ext cx="3643560" cy="25084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93800" y="2451240"/>
              <a:ext cx="3611880" cy="248760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11440" y="2462040"/>
              <a:ext cx="357660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9080" y="247500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644920" y="2484360"/>
              <a:ext cx="350964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662200" y="2496960"/>
              <a:ext cx="347508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678040" y="2508120"/>
              <a:ext cx="344340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695680" y="2521080"/>
              <a:ext cx="340812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09720" y="2530440"/>
              <a:ext cx="338004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27360" y="2543040"/>
              <a:ext cx="334476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43200" y="2554200"/>
              <a:ext cx="331308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60840" y="2563920"/>
              <a:ext cx="3278160" cy="226224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78120" y="2576520"/>
              <a:ext cx="324324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3960" y="2587680"/>
              <a:ext cx="321156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811600" y="2600280"/>
              <a:ext cx="317628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827440" y="2611440"/>
              <a:ext cx="314460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844720" y="2622600"/>
              <a:ext cx="311004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859120" y="2633760"/>
              <a:ext cx="3081240" cy="212256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76400" y="2646360"/>
              <a:ext cx="304668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92600" y="265752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09880" y="2666880"/>
              <a:ext cx="297972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25720" y="2679840"/>
              <a:ext cx="2948040" cy="203040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943360" y="2690640"/>
              <a:ext cx="291276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960640" y="2703600"/>
              <a:ext cx="287820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976480" y="2712960"/>
              <a:ext cx="284652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990880" y="2725560"/>
              <a:ext cx="281772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08160" y="2736720"/>
              <a:ext cx="278316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25800" y="2749680"/>
              <a:ext cx="274788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1640" y="2759040"/>
              <a:ext cx="271620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59280" y="277020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75120" y="2782800"/>
              <a:ext cx="264924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092400" y="2792520"/>
              <a:ext cx="2614680" cy="180504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110040" y="2805120"/>
              <a:ext cx="257940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25880" y="2816280"/>
              <a:ext cx="254772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39920" y="2828880"/>
              <a:ext cx="2519640" cy="173376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57560" y="2838600"/>
              <a:ext cx="2484360" cy="171288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4840" y="2851200"/>
              <a:ext cx="244980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2862360"/>
              <a:ext cx="2417760" cy="166536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208320" y="2873520"/>
              <a:ext cx="2382840" cy="164448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224160" y="2884320"/>
              <a:ext cx="235116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241800" y="2895480"/>
              <a:ext cx="231588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57640" y="2908440"/>
              <a:ext cx="2284200" cy="157320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73480" y="2919240"/>
              <a:ext cx="225252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89320" y="2932200"/>
              <a:ext cx="222084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06600" y="2941560"/>
              <a:ext cx="218628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24240" y="295416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40080" y="2965320"/>
              <a:ext cx="211932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7720" y="2975040"/>
              <a:ext cx="208728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373560" y="298764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390840" y="299880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06680" y="301140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22520" y="3021120"/>
              <a:ext cx="195768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438360" y="3033720"/>
              <a:ext cx="192420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56000" y="304488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71840" y="305748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489480" y="3067200"/>
              <a:ext cx="1822320" cy="125712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506760" y="3078000"/>
              <a:ext cx="178920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22600" y="309096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40240" y="3100320"/>
              <a:ext cx="172224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54280" y="311292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571920" y="312408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87760" y="3137040"/>
              <a:ext cx="1625760" cy="111888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05040" y="3146400"/>
              <a:ext cx="1592280" cy="109872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621240" y="315900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638520" y="317016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656160" y="3181320"/>
              <a:ext cx="149040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672000" y="319392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89280" y="3203640"/>
              <a:ext cx="142416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3680" y="321624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0960" y="3227400"/>
              <a:ext cx="136080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36800" y="3240000"/>
              <a:ext cx="132732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54440" y="324972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770280" y="326232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87920" y="327348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03760" y="328284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21040" y="3295800"/>
              <a:ext cx="1158840" cy="79992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835440" y="330660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852720" y="331956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68560" y="3328920"/>
              <a:ext cx="106380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6200" y="334152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903840" y="3352680"/>
              <a:ext cx="99504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919680" y="3365640"/>
              <a:ext cx="961920" cy="66168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6960" y="3375000"/>
              <a:ext cx="928800" cy="64152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52800" y="338616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70440" y="339876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84480" y="340992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02120" y="342108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17960" y="3432240"/>
              <a:ext cx="76500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35600" y="344484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52880" y="345600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68720" y="346716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86360" y="3478320"/>
              <a:ext cx="63000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02200" y="34894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18040" y="3502080"/>
              <a:ext cx="56664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133880" y="351144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51160" y="3524400"/>
              <a:ext cx="500040" cy="34416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67360" y="353520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84640" y="3548160"/>
              <a:ext cx="43164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00480" y="355752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218120" y="3570120"/>
              <a:ext cx="365040" cy="25272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35400" y="3581280"/>
              <a:ext cx="33192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51240" y="359100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67080" y="3603600"/>
              <a:ext cx="268560" cy="18432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282920" y="361476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00560" y="362736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6400" y="3637080"/>
              <a:ext cx="16812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34040" y="3649680"/>
              <a:ext cx="13464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49880" y="366084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67160" y="367344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84800" y="3683160"/>
              <a:ext cx="33120" cy="2520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627000" y="32418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1752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095360" y="32418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624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8552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485960" y="32418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648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866480" y="32418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068080" y="32418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52800" y="372420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2079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18480" y="372420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336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4452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2416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2350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45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5475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49120" y="372420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49200" y="372420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28840" y="372420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397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413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2920" y="372420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2"/>
            <a:stretch/>
          </p:blipFill>
          <p:spPr>
            <a:xfrm>
              <a:off x="6013440" y="4651200"/>
              <a:ext cx="60480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" descr=""/>
            <p:cNvPicPr/>
            <p:nvPr/>
          </p:nvPicPr>
          <p:blipFill>
            <a:blip r:embed="rId3"/>
            <a:stretch/>
          </p:blipFill>
          <p:spPr>
            <a:xfrm>
              <a:off x="2486160" y="1633680"/>
              <a:ext cx="806400" cy="53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4"/>
            <a:stretch/>
          </p:blipFill>
          <p:spPr>
            <a:xfrm>
              <a:off x="6518160" y="153360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2798640" y="4853160"/>
              <a:ext cx="9082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511360" y="3646440"/>
              <a:ext cx="4525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384280" y="3578400"/>
              <a:ext cx="130320" cy="13320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960640" y="3581280"/>
              <a:ext cx="13032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664080" y="4656240"/>
              <a:ext cx="6480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70200" y="4551480"/>
              <a:ext cx="12564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594240" y="4708440"/>
              <a:ext cx="128520" cy="14472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13320" y="4518000"/>
              <a:ext cx="39708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08560" y="445140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767560" y="4726080"/>
              <a:ext cx="145800" cy="12708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5603760" y="2517840"/>
              <a:ext cx="517680" cy="444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75360" y="2438280"/>
              <a:ext cx="139680" cy="13680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10160" y="290664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470400" y="2435400"/>
              <a:ext cx="247680" cy="309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92640" y="2338560"/>
              <a:ext cx="13464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660840" y="2698920"/>
              <a:ext cx="135000" cy="14256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70880" y="1512720"/>
              <a:ext cx="144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SF 199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D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97800" y="2925720"/>
              <a:ext cx="20034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obile 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nk weakl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upl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onent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0560" y="1292400"/>
              <a:ext cx="1619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ntinuous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86240" y="1158840"/>
              <a:ext cx="1425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mittent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ll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91240" y="521352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60440" y="3954600"/>
              <a:ext cx="1301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Operational simulat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095560" y="5651640"/>
              <a:ext cx="23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expected (such as emergency relief) us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9644-47EA-4274-885B-1A4A9ABC3A4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6000" y="2962440"/>
            <a:ext cx="11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51000" y="1892160"/>
            <a:ext cx="2566800" cy="1004760"/>
            <a:chOff x="351000" y="1892160"/>
            <a:chExt cx="2566800" cy="1004760"/>
          </a:xfrm>
        </p:grpSpPr>
        <p:sp>
          <p:nvSpPr>
            <p:cNvPr id="540" name=""/>
            <p:cNvSpPr/>
            <p:nvPr/>
          </p:nvSpPr>
          <p:spPr>
            <a:xfrm>
              <a:off x="351000" y="229536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28520" y="1892160"/>
              <a:ext cx="108720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6297480" y="1892160"/>
            <a:ext cx="2567160" cy="898560"/>
            <a:chOff x="6297480" y="1892160"/>
            <a:chExt cx="2567160" cy="898560"/>
          </a:xfrm>
        </p:grpSpPr>
        <p:sp>
          <p:nvSpPr>
            <p:cNvPr id="543" name=""/>
            <p:cNvSpPr/>
            <p:nvPr/>
          </p:nvSpPr>
          <p:spPr>
            <a:xfrm>
              <a:off x="6297480" y="21891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970680" y="18921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63600" y="1130400"/>
            <a:ext cx="233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 documen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ical dat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35880" y="288432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36960" y="191628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36960" y="21351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36960" y="237636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36960" y="2617920"/>
            <a:ext cx="3103560" cy="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36960" y="2960640"/>
            <a:ext cx="3103560" cy="0"/>
          </a:xfrm>
          <a:prstGeom prst="line">
            <a:avLst/>
          </a:prstGeom>
          <a:ln w="2030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215040" y="4441680"/>
            <a:ext cx="2567160" cy="898560"/>
            <a:chOff x="6215040" y="4441680"/>
            <a:chExt cx="2567160" cy="898560"/>
          </a:xfrm>
        </p:grpSpPr>
        <p:sp>
          <p:nvSpPr>
            <p:cNvPr id="553" name=""/>
            <p:cNvSpPr/>
            <p:nvPr/>
          </p:nvSpPr>
          <p:spPr>
            <a:xfrm>
              <a:off x="6215040" y="473868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88240" y="4441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6597720" y="5433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lient/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336680" y="5580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720" y="4924440"/>
            <a:ext cx="3934080" cy="601560"/>
          </a:xfrm>
          <a:prstGeom prst="parallelogram">
            <a:avLst>
              <a:gd name="adj" fmla="val 19292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993600" y="4519440"/>
            <a:ext cx="104004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agentred" descr=""/>
          <p:cNvPicPr/>
          <p:nvPr/>
        </p:nvPicPr>
        <p:blipFill>
          <a:blip r:embed="rId1"/>
          <a:stretch/>
        </p:blipFill>
        <p:spPr>
          <a:xfrm>
            <a:off x="2674800" y="4622760"/>
            <a:ext cx="663840" cy="685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127240" y="4757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27240" y="486576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127240" y="496260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127240" y="5059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27240" y="5167440"/>
            <a:ext cx="514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73280" y="47750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3280" y="5084640"/>
            <a:ext cx="3316320" cy="0"/>
          </a:xfrm>
          <a:prstGeom prst="line">
            <a:avLst/>
          </a:prstGeom>
          <a:ln w="1015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7FC-3870-4D7F-8462-BCD100F2DC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6520" y="76320"/>
            <a:ext cx="8040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ason 1: Bandwidth Conser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95960" y="340668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gateway" descr=""/>
          <p:cNvPicPr/>
          <p:nvPr/>
        </p:nvPicPr>
        <p:blipFill>
          <a:blip r:embed="rId1"/>
          <a:stretch/>
        </p:blipFill>
        <p:spPr>
          <a:xfrm>
            <a:off x="633240" y="1573200"/>
            <a:ext cx="828720" cy="101916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6642000" y="13622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167520" y="5300640"/>
            <a:ext cx="1143000" cy="9190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878520" y="3268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99320" y="51814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02240" y="20178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3800" y="22478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97480" y="248760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70480" y="405144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449440" y="3206880"/>
            <a:ext cx="52704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 flipV="1">
            <a:off x="1301400" y="2522160"/>
            <a:ext cx="1413000" cy="950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2730600" y="3446640"/>
            <a:ext cx="2006640" cy="88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710240" y="4293720"/>
            <a:ext cx="1457280" cy="11746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795560" y="2282760"/>
            <a:ext cx="1847880" cy="451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4806720" y="3583080"/>
            <a:ext cx="229860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733640" y="2771280"/>
            <a:ext cx="11160" cy="15670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agentred" descr=""/>
          <p:cNvPicPr/>
          <p:nvPr/>
        </p:nvPicPr>
        <p:blipFill>
          <a:blip r:embed="rId2"/>
          <a:stretch/>
        </p:blipFill>
        <p:spPr>
          <a:xfrm>
            <a:off x="4181400" y="3751200"/>
            <a:ext cx="636840" cy="658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 flipH="1">
            <a:off x="4928760" y="3537000"/>
            <a:ext cx="184644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flipV="1">
            <a:off x="5092560" y="4336920"/>
            <a:ext cx="1511280" cy="86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1456920" y="2046240"/>
            <a:ext cx="2621160" cy="1649520"/>
          </a:xfrm>
          <a:prstGeom prst="line">
            <a:avLst/>
          </a:prstGeom>
          <a:ln w="114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98880" y="2475000"/>
            <a:ext cx="1468440" cy="1187280"/>
          </a:xfrm>
          <a:custGeom>
            <a:avLst/>
            <a:gdLst/>
            <a:ahLst/>
            <a:rect l="l" t="t" r="r" b="b"/>
            <a:pathLst>
              <a:path w="925" h="748">
                <a:moveTo>
                  <a:pt x="925" y="0"/>
                </a:moveTo>
                <a:cubicBezTo>
                  <a:pt x="659" y="57"/>
                  <a:pt x="394" y="115"/>
                  <a:pt x="240" y="240"/>
                </a:cubicBezTo>
                <a:cubicBezTo>
                  <a:pt x="86" y="365"/>
                  <a:pt x="43" y="556"/>
                  <a:pt x="0" y="74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362320" y="4627440"/>
            <a:ext cx="253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ynamically selected proxy si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D3C-78E8-4C23-A5B3-B8B38D90B20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Bandwidth usag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bandwidth-documents" descr=""/>
          <p:cNvPicPr/>
          <p:nvPr/>
        </p:nvPicPr>
        <p:blipFill>
          <a:blip r:embed="rId1"/>
          <a:stretch/>
        </p:blipFill>
        <p:spPr>
          <a:xfrm>
            <a:off x="1157400" y="1135080"/>
            <a:ext cx="68292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D161-FF11-41FC-9C2A-72F2EB668E8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agentred" descr=""/>
          <p:cNvPicPr/>
          <p:nvPr/>
        </p:nvPicPr>
        <p:blipFill>
          <a:blip r:embed="rId1"/>
          <a:stretch/>
        </p:blipFill>
        <p:spPr>
          <a:xfrm>
            <a:off x="6269040" y="392760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6175440" y="1825560"/>
            <a:ext cx="493560" cy="50328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1765440" y="2336400"/>
            <a:ext cx="56016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851120" y="3463560"/>
            <a:ext cx="49356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 flipV="1">
            <a:off x="1847520" y="4446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874880" y="4206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 flipV="1">
            <a:off x="2332080" y="3462480"/>
            <a:ext cx="75888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050640" y="4227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739800" y="4458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2: Reduce latenc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gateway" descr=""/>
          <p:cNvPicPr/>
          <p:nvPr/>
        </p:nvPicPr>
        <p:blipFill>
          <a:blip r:embed="rId2"/>
          <a:stretch/>
        </p:blipFill>
        <p:spPr>
          <a:xfrm>
            <a:off x="250920" y="4983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584280" y="50022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120" y="4300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agentred" descr=""/>
          <p:cNvPicPr/>
          <p:nvPr/>
        </p:nvPicPr>
        <p:blipFill>
          <a:blip r:embed="rId3"/>
          <a:stretch/>
        </p:blipFill>
        <p:spPr>
          <a:xfrm>
            <a:off x="1300320" y="1825560"/>
            <a:ext cx="495000" cy="51300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1625760" y="2198520"/>
            <a:ext cx="291960" cy="292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908440" y="407052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197080" y="3322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gateway" descr=""/>
          <p:cNvPicPr/>
          <p:nvPr/>
        </p:nvPicPr>
        <p:blipFill>
          <a:blip r:embed="rId4"/>
          <a:stretch/>
        </p:blipFill>
        <p:spPr>
          <a:xfrm>
            <a:off x="3565440" y="4573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3521160" y="44704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gateway" descr=""/>
          <p:cNvPicPr/>
          <p:nvPr/>
        </p:nvPicPr>
        <p:blipFill>
          <a:blip r:embed="rId5"/>
          <a:stretch/>
        </p:blipFill>
        <p:spPr>
          <a:xfrm>
            <a:off x="1636560" y="5513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1959120" y="546588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3280" y="1092240"/>
            <a:ext cx="264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umatra cha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a “reflector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93640" y="2443320"/>
            <a:ext cx="1492200" cy="2531880"/>
          </a:xfrm>
          <a:custGeom>
            <a:avLst/>
            <a:gdLst/>
            <a:ahLst/>
            <a:rect l="l" t="t" r="r" b="b"/>
            <a:pathLst>
              <a:path w="940" h="1595">
                <a:moveTo>
                  <a:pt x="0" y="1595"/>
                </a:moveTo>
                <a:cubicBezTo>
                  <a:pt x="251" y="1482"/>
                  <a:pt x="502" y="1369"/>
                  <a:pt x="657" y="1207"/>
                </a:cubicBezTo>
                <a:cubicBezTo>
                  <a:pt x="812" y="1045"/>
                  <a:pt x="940" y="822"/>
                  <a:pt x="932" y="621"/>
                </a:cubicBezTo>
                <a:cubicBezTo>
                  <a:pt x="924" y="420"/>
                  <a:pt x="765" y="210"/>
                  <a:pt x="607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71640" y="2128680"/>
            <a:ext cx="2005200" cy="2432160"/>
          </a:xfrm>
          <a:custGeom>
            <a:avLst/>
            <a:gdLst/>
            <a:ahLst/>
            <a:rect l="l" t="t" r="r" b="b"/>
            <a:pathLst>
              <a:path w="1263" h="1532">
                <a:moveTo>
                  <a:pt x="0" y="0"/>
                </a:moveTo>
                <a:cubicBezTo>
                  <a:pt x="81" y="56"/>
                  <a:pt x="163" y="112"/>
                  <a:pt x="219" y="163"/>
                </a:cubicBezTo>
                <a:cubicBezTo>
                  <a:pt x="275" y="214"/>
                  <a:pt x="299" y="221"/>
                  <a:pt x="339" y="304"/>
                </a:cubicBezTo>
                <a:cubicBezTo>
                  <a:pt x="379" y="387"/>
                  <a:pt x="435" y="584"/>
                  <a:pt x="459" y="664"/>
                </a:cubicBezTo>
                <a:cubicBezTo>
                  <a:pt x="483" y="744"/>
                  <a:pt x="455" y="718"/>
                  <a:pt x="480" y="784"/>
                </a:cubicBezTo>
                <a:cubicBezTo>
                  <a:pt x="505" y="850"/>
                  <a:pt x="546" y="985"/>
                  <a:pt x="607" y="1059"/>
                </a:cubicBezTo>
                <a:cubicBezTo>
                  <a:pt x="668" y="1133"/>
                  <a:pt x="776" y="1184"/>
                  <a:pt x="847" y="1228"/>
                </a:cubicBezTo>
                <a:cubicBezTo>
                  <a:pt x="918" y="1272"/>
                  <a:pt x="980" y="1298"/>
                  <a:pt x="1030" y="1320"/>
                </a:cubicBezTo>
                <a:cubicBezTo>
                  <a:pt x="1080" y="1342"/>
                  <a:pt x="1117" y="1346"/>
                  <a:pt x="1150" y="1363"/>
                </a:cubicBezTo>
                <a:cubicBezTo>
                  <a:pt x="1183" y="1380"/>
                  <a:pt x="1209" y="1391"/>
                  <a:pt x="1228" y="1419"/>
                </a:cubicBezTo>
                <a:cubicBezTo>
                  <a:pt x="1247" y="1447"/>
                  <a:pt x="1255" y="1489"/>
                  <a:pt x="1263" y="15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6633720" y="2309400"/>
            <a:ext cx="560520" cy="1143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6719760" y="3436560"/>
            <a:ext cx="493920" cy="99684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6716520" y="4419720"/>
            <a:ext cx="244440" cy="1154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6743880" y="4179960"/>
            <a:ext cx="1177920" cy="280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flipV="1">
            <a:off x="7200720" y="3435480"/>
            <a:ext cx="758520" cy="7617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7919640" y="4200480"/>
            <a:ext cx="606600" cy="4032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5608800" y="4431960"/>
            <a:ext cx="1120680" cy="69516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gateway" descr=""/>
          <p:cNvPicPr/>
          <p:nvPr/>
        </p:nvPicPr>
        <p:blipFill>
          <a:blip r:embed="rId6"/>
          <a:stretch/>
        </p:blipFill>
        <p:spPr>
          <a:xfrm>
            <a:off x="5119560" y="495612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5452920" y="497520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585120" y="427356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94400" y="2171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777080" y="404352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066080" y="3295800"/>
            <a:ext cx="29196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gateway" descr=""/>
          <p:cNvPicPr/>
          <p:nvPr/>
        </p:nvPicPr>
        <p:blipFill>
          <a:blip r:embed="rId7"/>
          <a:stretch/>
        </p:blipFill>
        <p:spPr>
          <a:xfrm>
            <a:off x="8434440" y="4546440"/>
            <a:ext cx="492120" cy="60516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8389800" y="44434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gateway" descr=""/>
          <p:cNvPicPr/>
          <p:nvPr/>
        </p:nvPicPr>
        <p:blipFill>
          <a:blip r:embed="rId8"/>
          <a:stretch/>
        </p:blipFill>
        <p:spPr>
          <a:xfrm>
            <a:off x="6505560" y="5486400"/>
            <a:ext cx="492120" cy="6048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6827760" y="5438880"/>
            <a:ext cx="292320" cy="2919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408720" y="2376360"/>
            <a:ext cx="579600" cy="1500480"/>
          </a:xfrm>
          <a:custGeom>
            <a:avLst/>
            <a:gdLst/>
            <a:ahLst/>
            <a:rect l="l" t="t" r="r" b="b"/>
            <a:pathLst>
              <a:path w="365" h="945">
                <a:moveTo>
                  <a:pt x="0" y="0"/>
                </a:moveTo>
                <a:cubicBezTo>
                  <a:pt x="142" y="214"/>
                  <a:pt x="285" y="428"/>
                  <a:pt x="325" y="585"/>
                </a:cubicBezTo>
                <a:cubicBezTo>
                  <a:pt x="365" y="742"/>
                  <a:pt x="302" y="843"/>
                  <a:pt x="240" y="94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28520" y="2736720"/>
            <a:ext cx="16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Observe high average latency to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53160" y="2800440"/>
            <a:ext cx="196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ove to bet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893960" y="2139840"/>
            <a:ext cx="738000" cy="3765600"/>
          </a:xfrm>
          <a:custGeom>
            <a:avLst/>
            <a:gdLst/>
            <a:ahLst/>
            <a:rect l="l" t="t" r="r" b="b"/>
            <a:pathLst>
              <a:path w="465" h="2372">
                <a:moveTo>
                  <a:pt x="0" y="0"/>
                </a:moveTo>
                <a:cubicBezTo>
                  <a:pt x="110" y="52"/>
                  <a:pt x="221" y="104"/>
                  <a:pt x="296" y="233"/>
                </a:cubicBezTo>
                <a:cubicBezTo>
                  <a:pt x="371" y="362"/>
                  <a:pt x="465" y="565"/>
                  <a:pt x="452" y="777"/>
                </a:cubicBezTo>
                <a:cubicBezTo>
                  <a:pt x="439" y="989"/>
                  <a:pt x="252" y="1296"/>
                  <a:pt x="219" y="1504"/>
                </a:cubicBezTo>
                <a:cubicBezTo>
                  <a:pt x="186" y="1712"/>
                  <a:pt x="216" y="1904"/>
                  <a:pt x="254" y="2026"/>
                </a:cubicBezTo>
                <a:cubicBezTo>
                  <a:pt x="292" y="2148"/>
                  <a:pt x="463" y="2180"/>
                  <a:pt x="445" y="2238"/>
                </a:cubicBezTo>
                <a:cubicBezTo>
                  <a:pt x="427" y="2296"/>
                  <a:pt x="287" y="2334"/>
                  <a:pt x="148" y="23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V="1">
            <a:off x="5524560" y="4471920"/>
            <a:ext cx="717480" cy="425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88280" y="4516560"/>
            <a:ext cx="257040" cy="90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791400" y="4087800"/>
            <a:ext cx="1623960" cy="719280"/>
          </a:xfrm>
          <a:custGeom>
            <a:avLst/>
            <a:gdLst/>
            <a:ahLst/>
            <a:rect l="l" t="t" r="r" b="b"/>
            <a:pathLst>
              <a:path w="1023" h="453">
                <a:moveTo>
                  <a:pt x="0" y="23"/>
                </a:moveTo>
                <a:cubicBezTo>
                  <a:pt x="151" y="11"/>
                  <a:pt x="302" y="0"/>
                  <a:pt x="472" y="72"/>
                </a:cubicBezTo>
                <a:cubicBezTo>
                  <a:pt x="642" y="144"/>
                  <a:pt x="832" y="298"/>
                  <a:pt x="1023" y="45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295-0778-4B68-B685-9731481DF0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51000" y="1762200"/>
            <a:ext cx="6645240" cy="14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vid Kotz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niela Rus, 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9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da Wilson, Thayer School of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4680" y="1214280"/>
            <a:ext cx="22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llabo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27880" y="36338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28600" y="4329000"/>
            <a:ext cx="2238480" cy="1733400"/>
            <a:chOff x="228600" y="4329000"/>
            <a:chExt cx="2238480" cy="1733400"/>
          </a:xfrm>
        </p:grpSpPr>
        <p:pic>
          <p:nvPicPr>
            <p:cNvPr id="49" name="darpa" descr=""/>
            <p:cNvPicPr/>
            <p:nvPr/>
          </p:nvPicPr>
          <p:blipFill>
            <a:blip r:embed="rId1"/>
            <a:stretch/>
          </p:blipFill>
          <p:spPr>
            <a:xfrm>
              <a:off x="433440" y="4329000"/>
              <a:ext cx="18288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28600" y="5419800"/>
              <a:ext cx="223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ARPA contra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30602-98-2-010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611680" y="4172040"/>
            <a:ext cx="3113280" cy="2047680"/>
            <a:chOff x="5611680" y="4172040"/>
            <a:chExt cx="3113280" cy="2047680"/>
          </a:xfrm>
        </p:grpSpPr>
        <p:pic>
          <p:nvPicPr>
            <p:cNvPr id="52" name="muri-dod" descr=""/>
            <p:cNvPicPr/>
            <p:nvPr/>
          </p:nvPicPr>
          <p:blipFill>
            <a:blip r:embed="rId2"/>
            <a:stretch/>
          </p:blipFill>
          <p:spPr>
            <a:xfrm>
              <a:off x="6483240" y="4172040"/>
              <a:ext cx="1371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611680" y="5577120"/>
              <a:ext cx="311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D MURI (AFOSR contract F49620-97-1-0382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3051000" y="4498920"/>
            <a:ext cx="2155680" cy="1395000"/>
            <a:chOff x="3051000" y="4498920"/>
            <a:chExt cx="2155680" cy="1395000"/>
          </a:xfrm>
        </p:grpSpPr>
        <p:pic>
          <p:nvPicPr>
            <p:cNvPr id="55" name="nsf" descr=""/>
            <p:cNvPicPr/>
            <p:nvPr/>
          </p:nvPicPr>
          <p:blipFill>
            <a:blip r:embed="rId3"/>
            <a:stretch/>
          </p:blipFill>
          <p:spPr>
            <a:xfrm>
              <a:off x="3051000" y="4498920"/>
              <a:ext cx="2155680" cy="71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063600" y="5251320"/>
              <a:ext cx="2127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NSF KDI Grant 9873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93DA-9380-4200-B1AA-03206DD2DE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3: Reduce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86920" y="1549440"/>
            <a:ext cx="213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fficien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37480" y="4005360"/>
            <a:ext cx="157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bil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251400" y="36352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51400" y="1806480"/>
            <a:ext cx="2286000" cy="14479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813120" y="4778280"/>
            <a:ext cx="1103400" cy="121932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2"/>
          <a:stretch/>
        </p:blipFill>
        <p:spPr>
          <a:xfrm>
            <a:off x="612720" y="2720880"/>
            <a:ext cx="1371600" cy="12668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289240" y="3483000"/>
            <a:ext cx="38862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517840" y="2568600"/>
            <a:ext cx="3429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41880" y="220356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 Send code with unique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404040" y="2187720"/>
            <a:ext cx="1724040" cy="6667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4"/>
          <a:stretch/>
        </p:blipFill>
        <p:spPr>
          <a:xfrm>
            <a:off x="6327720" y="4245120"/>
            <a:ext cx="1905120" cy="4777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5869080" y="5084640"/>
            <a:ext cx="260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 Perform multi-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ries on large, remo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terogeneous 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2517480" y="4702320"/>
            <a:ext cx="3429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06920" y="4336920"/>
            <a:ext cx="26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  Return requested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5"/>
          <a:stretch/>
        </p:blipFill>
        <p:spPr>
          <a:xfrm>
            <a:off x="3584520" y="1501920"/>
            <a:ext cx="1143000" cy="7794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165800" y="30258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94600" y="3059280"/>
            <a:ext cx="33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bandwidth 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14C-DCF4-4E9E-A7E3-E5A9649C79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otal completion ti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documents-roamabout" descr=""/>
          <p:cNvPicPr/>
          <p:nvPr/>
        </p:nvPicPr>
        <p:blipFill>
          <a:blip r:embed="rId1"/>
          <a:stretch/>
        </p:blipFill>
        <p:spPr>
          <a:xfrm>
            <a:off x="1066680" y="1112760"/>
            <a:ext cx="701064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C62-5C19-4B0A-8D5F-18A1A77921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24444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4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68160" y="878040"/>
            <a:ext cx="78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sconnected communication and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3" name="" descr=""/>
          <p:cNvPicPr/>
          <p:nvPr/>
        </p:nvPicPr>
        <p:blipFill>
          <a:blip r:embed="rId1"/>
          <a:stretch/>
        </p:blipFill>
        <p:spPr>
          <a:xfrm>
            <a:off x="542880" y="20574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64" name=""/>
          <p:cNvSpPr/>
          <p:nvPr/>
        </p:nvSpPr>
        <p:spPr>
          <a:xfrm flipV="1">
            <a:off x="2295360" y="220932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219400" y="274320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3514680" y="2895480"/>
            <a:ext cx="1905120" cy="866880"/>
          </a:xfrm>
          <a:prstGeom prst="rect">
            <a:avLst/>
          </a:prstGeom>
          <a:ln w="0">
            <a:noFill/>
          </a:ln>
        </p:spPr>
      </p:pic>
      <p:pic>
        <p:nvPicPr>
          <p:cNvPr id="667" name="" descr=""/>
          <p:cNvPicPr/>
          <p:nvPr/>
        </p:nvPicPr>
        <p:blipFill>
          <a:blip r:embed="rId3"/>
          <a:stretch/>
        </p:blipFill>
        <p:spPr>
          <a:xfrm>
            <a:off x="3133800" y="167652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4"/>
          <a:stretch/>
        </p:blipFill>
        <p:spPr>
          <a:xfrm>
            <a:off x="7248600" y="1905120"/>
            <a:ext cx="1295280" cy="1190520"/>
          </a:xfrm>
          <a:prstGeom prst="rect">
            <a:avLst/>
          </a:prstGeom>
          <a:ln w="0">
            <a:noFill/>
          </a:ln>
        </p:spPr>
      </p:pic>
      <p:pic>
        <p:nvPicPr>
          <p:cNvPr id="669" name="" descr=""/>
          <p:cNvPicPr/>
          <p:nvPr/>
        </p:nvPicPr>
        <p:blipFill>
          <a:blip r:embed="rId5"/>
          <a:stretch/>
        </p:blipFill>
        <p:spPr>
          <a:xfrm>
            <a:off x="2371680" y="198108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6"/>
          <a:stretch/>
        </p:blipFill>
        <p:spPr>
          <a:xfrm>
            <a:off x="2752560" y="3124080"/>
            <a:ext cx="427320" cy="25560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314280" y="152388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7"/>
          <a:stretch/>
        </p:blipFill>
        <p:spPr>
          <a:xfrm>
            <a:off x="542880" y="4419720"/>
            <a:ext cx="1600200" cy="79992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V="1">
            <a:off x="2295360" y="4495320"/>
            <a:ext cx="1524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8"/>
          <a:stretch/>
        </p:blipFill>
        <p:spPr>
          <a:xfrm>
            <a:off x="4734000" y="5257800"/>
            <a:ext cx="1904760" cy="86688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9"/>
          <a:stretch/>
        </p:blipFill>
        <p:spPr>
          <a:xfrm>
            <a:off x="3971880" y="4038480"/>
            <a:ext cx="914400" cy="84456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10"/>
          <a:stretch/>
        </p:blipFill>
        <p:spPr>
          <a:xfrm>
            <a:off x="7248600" y="4267080"/>
            <a:ext cx="1295280" cy="119088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11"/>
          <a:stretch/>
        </p:blipFill>
        <p:spPr>
          <a:xfrm>
            <a:off x="3438360" y="419112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678" name="" descr=""/>
          <p:cNvPicPr/>
          <p:nvPr/>
        </p:nvPicPr>
        <p:blipFill>
          <a:blip r:embed="rId12"/>
          <a:stretch/>
        </p:blipFill>
        <p:spPr>
          <a:xfrm>
            <a:off x="6791400" y="54864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679" name=""/>
          <p:cNvSpPr/>
          <p:nvPr/>
        </p:nvSpPr>
        <p:spPr>
          <a:xfrm>
            <a:off x="314280" y="3886200"/>
            <a:ext cx="861048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6334200" y="5257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5419800" y="2819520"/>
            <a:ext cx="175248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106680" y="267012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066760" y="5105520"/>
            <a:ext cx="2819520" cy="685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11200" y="50324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92280" y="190800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352760" y="2209680"/>
            <a:ext cx="2895840" cy="304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649480" y="411804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038560" y="4419720"/>
            <a:ext cx="2362320" cy="3045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5480" y="331776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9360" y="5715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1A1-8BE6-452D-AB60-F4D54034542D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131840" y="26035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connected operations - som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hematical justific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01400" y="139392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gents are persistent objects within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55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3511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464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172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237360" y="24512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532640" y="24512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131840" y="412740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0555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3511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6464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94172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6237360" y="3975120"/>
            <a:ext cx="30456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532640" y="3975120"/>
            <a:ext cx="30492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50960" y="2146320"/>
            <a:ext cx="746748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750960" y="3822840"/>
            <a:ext cx="7467480" cy="1981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131840" y="5319720"/>
            <a:ext cx="6553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555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3511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6464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4172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237360" y="5167440"/>
            <a:ext cx="30456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7532640" y="5167440"/>
            <a:ext cx="30492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885760" y="52434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05732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97240" y="267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534800" y="2679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43200" y="3102120"/>
            <a:ext cx="28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251600" y="3898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038760" y="50911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5732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397240" y="420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534800" y="420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7560" y="408636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067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43023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5213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92496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743120" y="214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74312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930760" y="367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8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213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892920" y="488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000680" y="580392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cted time    1 +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(1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4027320" y="2755800"/>
            <a:ext cx="427320" cy="255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3494160" y="4280040"/>
            <a:ext cx="426960" cy="25560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4408560" y="5472000"/>
            <a:ext cx="426960" cy="25560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808360" y="43560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865760" y="557532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FC34-F458-42AB-882B-B7242D1FAA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5: 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022640" y="1924200"/>
            <a:ext cx="811440" cy="6872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528920" y="1300320"/>
            <a:ext cx="811080" cy="6872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80240" y="1436760"/>
            <a:ext cx="811080" cy="68724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328840" y="1677960"/>
            <a:ext cx="1693800" cy="43992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4834080" y="1817280"/>
            <a:ext cx="193968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76280" y="3529080"/>
            <a:ext cx="836280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986280" y="282420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416400" y="251784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890960" y="2371680"/>
            <a:ext cx="478080" cy="42408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61240" y="225900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603440" y="204624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36760" y="20764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691160" y="2822400"/>
            <a:ext cx="477720" cy="42408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840 h 424080"/>
              <a:gd name="textAreaBottom" fmla="*/ 327240 h 4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183640" y="276552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930480" y="4367160"/>
            <a:ext cx="811440" cy="68760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436760" y="3743280"/>
            <a:ext cx="811080" cy="68760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688080" y="3879720"/>
            <a:ext cx="811440" cy="68760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36680" y="4121280"/>
            <a:ext cx="1693800" cy="4395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741920" y="4260600"/>
            <a:ext cx="1940040" cy="3366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895320" y="4349880"/>
            <a:ext cx="565200" cy="49356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560"/>
              <a:gd name="textAreaBottom" fmla="*/ 380880 h 493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324240" y="496080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033960" y="449748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769080" y="470232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11280" y="4489560"/>
            <a:ext cx="477720" cy="423720"/>
          </a:xfrm>
          <a:custGeom>
            <a:avLst/>
            <a:gdLst>
              <a:gd name="textAreaLeft" fmla="*/ 109080 w 477720"/>
              <a:gd name="textAreaRight" fmla="*/ 368640 w 47772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992400" y="5065560"/>
            <a:ext cx="565200" cy="493920"/>
          </a:xfrm>
          <a:custGeom>
            <a:avLst/>
            <a:gdLst>
              <a:gd name="textAreaLeft" fmla="*/ 128880 w 565200"/>
              <a:gd name="textAreaRight" fmla="*/ 436320 w 565200"/>
              <a:gd name="textAreaTop" fmla="*/ 112680 h 493920"/>
              <a:gd name="textAreaBottom" fmla="*/ 381240 h 49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616280" y="5019840"/>
            <a:ext cx="478080" cy="423720"/>
          </a:xfrm>
          <a:custGeom>
            <a:avLst/>
            <a:gdLst>
              <a:gd name="textAreaLeft" fmla="*/ 109080 w 478080"/>
              <a:gd name="textAreaRight" fmla="*/ 369000 w 478080"/>
              <a:gd name="textAreaTop" fmla="*/ 96480 h 423720"/>
              <a:gd name="textAreaBottom" fmla="*/ 327240 h 4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63840" y="5508720"/>
            <a:ext cx="79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obs/Load migrate in a heterogeneous network of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4E68-F5FC-4DC9-BF2B-9BF58CA0EF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2690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son 6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49800" y="122400"/>
            <a:ext cx="535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ynamic Deploy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304920" y="1143000"/>
            <a:ext cx="8534160" cy="5018040"/>
            <a:chOff x="304920" y="1143000"/>
            <a:chExt cx="8534160" cy="5018040"/>
          </a:xfrm>
        </p:grpSpPr>
        <p:pic>
          <p:nvPicPr>
            <p:cNvPr id="774" name="" descr=""/>
            <p:cNvPicPr/>
            <p:nvPr/>
          </p:nvPicPr>
          <p:blipFill>
            <a:blip r:embed="rId1"/>
            <a:stretch/>
          </p:blipFill>
          <p:spPr>
            <a:xfrm>
              <a:off x="6477120" y="2438280"/>
              <a:ext cx="1371600" cy="12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5" name=""/>
            <p:cNvSpPr/>
            <p:nvPr/>
          </p:nvSpPr>
          <p:spPr>
            <a:xfrm>
              <a:off x="6788160" y="3735360"/>
              <a:ext cx="189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nique needs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ps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weather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actical updates..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6" name="" descr=""/>
            <p:cNvPicPr/>
            <p:nvPr/>
          </p:nvPicPr>
          <p:blipFill>
            <a:blip r:embed="rId2"/>
            <a:stretch/>
          </p:blipFill>
          <p:spPr>
            <a:xfrm>
              <a:off x="2971800" y="1143000"/>
              <a:ext cx="1447920" cy="136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" descr=""/>
            <p:cNvPicPr/>
            <p:nvPr/>
          </p:nvPicPr>
          <p:blipFill>
            <a:blip r:embed="rId3"/>
            <a:stretch/>
          </p:blipFill>
          <p:spPr>
            <a:xfrm>
              <a:off x="3124080" y="4800600"/>
              <a:ext cx="1219320" cy="120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" descr=""/>
            <p:cNvPicPr/>
            <p:nvPr/>
          </p:nvPicPr>
          <p:blipFill>
            <a:blip r:embed="rId4"/>
            <a:stretch/>
          </p:blipFill>
          <p:spPr>
            <a:xfrm>
              <a:off x="380880" y="1828800"/>
              <a:ext cx="1828800" cy="124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" descr=""/>
            <p:cNvPicPr/>
            <p:nvPr/>
          </p:nvPicPr>
          <p:blipFill>
            <a:blip r:embed="rId5"/>
            <a:stretch/>
          </p:blipFill>
          <p:spPr>
            <a:xfrm>
              <a:off x="304920" y="3886200"/>
              <a:ext cx="172548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6477120" y="2438280"/>
              <a:ext cx="2361960" cy="2362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05120" y="2971800"/>
              <a:ext cx="11430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733920" y="251460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81080" y="3962160"/>
              <a:ext cx="114300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733920" y="41144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5" name="" descr=""/>
            <p:cNvPicPr/>
            <p:nvPr/>
          </p:nvPicPr>
          <p:blipFill>
            <a:blip r:embed="rId6"/>
            <a:stretch/>
          </p:blipFill>
          <p:spPr>
            <a:xfrm>
              <a:off x="3124080" y="2971800"/>
              <a:ext cx="1905120" cy="13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367560" y="3009960"/>
              <a:ext cx="167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mand pos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06000" y="5792760"/>
              <a:ext cx="178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actical upda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20080" y="1144440"/>
              <a:ext cx="244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p, terrain databa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44480" y="533556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Weath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952880" y="3657600"/>
              <a:ext cx="13716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952880" y="403848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4952880" y="2743200"/>
              <a:ext cx="1219320" cy="457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ED75-9975-44C8-8174-7186870AD5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techniques work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6560" y="1165320"/>
            <a:ext cx="740556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mote Procedure Calls (R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 Applets and serv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oad balancing in homogeneous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pplication-specific solutions ( eg. adaptive mesh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document retri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 we will take a quick look at the op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F42A-1BBB-495D-AF49-2DD02437EBC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PC and queued RPC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299880" y="1092240"/>
            <a:ext cx="8536320" cy="1545840"/>
            <a:chOff x="299880" y="1092240"/>
            <a:chExt cx="8536320" cy="1545840"/>
          </a:xfrm>
        </p:grpSpPr>
        <p:sp>
          <p:nvSpPr>
            <p:cNvPr id="797" name=""/>
            <p:cNvSpPr/>
            <p:nvPr/>
          </p:nvSpPr>
          <p:spPr>
            <a:xfrm>
              <a:off x="299880" y="1636560"/>
              <a:ext cx="8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389240" y="1092240"/>
              <a:ext cx="7446960" cy="1545840"/>
              <a:chOff x="1389240" y="1092240"/>
              <a:chExt cx="7446960" cy="1545840"/>
            </a:xfrm>
          </p:grpSpPr>
          <p:sp>
            <p:nvSpPr>
              <p:cNvPr id="799" name=""/>
              <p:cNvSpPr/>
              <p:nvPr/>
            </p:nvSpPr>
            <p:spPr>
              <a:xfrm>
                <a:off x="3419640" y="1092240"/>
                <a:ext cx="2032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Call to server 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9160" y="1893960"/>
                <a:ext cx="3497040" cy="601560"/>
              </a:xfrm>
              <a:prstGeom prst="parallelogram">
                <a:avLst>
                  <a:gd name="adj" fmla="val 141187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013880" y="1490760"/>
                <a:ext cx="108756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389240" y="1893960"/>
                <a:ext cx="2567160" cy="601560"/>
              </a:xfrm>
              <a:prstGeom prst="parallelogram">
                <a:avLst>
                  <a:gd name="adj" fmla="val 1720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251440" y="154620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70880" y="15476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138840" y="1784160"/>
                <a:ext cx="2690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3173760" y="2004840"/>
                <a:ext cx="26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193032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37440" y="1995480"/>
                <a:ext cx="1595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Proced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9" name=""/>
          <p:cNvGrpSpPr/>
          <p:nvPr/>
        </p:nvGrpSpPr>
        <p:grpSpPr>
          <a:xfrm>
            <a:off x="212760" y="2846520"/>
            <a:ext cx="8704080" cy="1733400"/>
            <a:chOff x="212760" y="2846520"/>
            <a:chExt cx="8704080" cy="1733400"/>
          </a:xfrm>
        </p:grpSpPr>
        <p:grpSp>
          <p:nvGrpSpPr>
            <p:cNvPr id="810" name=""/>
            <p:cNvGrpSpPr/>
            <p:nvPr/>
          </p:nvGrpSpPr>
          <p:grpSpPr>
            <a:xfrm>
              <a:off x="1469880" y="2846520"/>
              <a:ext cx="7446960" cy="1733400"/>
              <a:chOff x="1469880" y="2846520"/>
              <a:chExt cx="7446960" cy="1733400"/>
            </a:xfrm>
          </p:grpSpPr>
          <p:sp>
            <p:nvSpPr>
              <p:cNvPr id="811" name=""/>
              <p:cNvSpPr/>
              <p:nvPr/>
            </p:nvSpPr>
            <p:spPr>
              <a:xfrm>
                <a:off x="5419800" y="3860640"/>
                <a:ext cx="3497040" cy="601920"/>
              </a:xfrm>
              <a:prstGeom prst="parallelogram">
                <a:avLst>
                  <a:gd name="adj" fmla="val 14110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094520" y="3457440"/>
                <a:ext cx="1087200" cy="863640"/>
              </a:xfrm>
              <a:prstGeom prst="can">
                <a:avLst>
                  <a:gd name="adj" fmla="val 25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atas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69880" y="3860640"/>
                <a:ext cx="2567160" cy="601920"/>
              </a:xfrm>
              <a:prstGeom prst="parallelogram">
                <a:avLst>
                  <a:gd name="adj" fmla="val 171921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332080" y="351324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li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951520" y="3514680"/>
                <a:ext cx="841320" cy="7509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792840" y="3897360"/>
                <a:ext cx="304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4446360" y="3317760"/>
                <a:ext cx="455760" cy="1262160"/>
              </a:xfrm>
              <a:prstGeom prst="lightningBol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217680" y="3740040"/>
                <a:ext cx="1235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9" name=""/>
              <p:cNvGrpSpPr/>
              <p:nvPr/>
            </p:nvGrpSpPr>
            <p:grpSpPr>
              <a:xfrm>
                <a:off x="3268440" y="3286080"/>
                <a:ext cx="1000440" cy="378000"/>
                <a:chOff x="3268440" y="3286080"/>
                <a:chExt cx="1000440" cy="37800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393552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26844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595680" y="3286080"/>
                  <a:ext cx="333360" cy="37800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113080" y="3516480"/>
                <a:ext cx="665280" cy="378720"/>
                <a:chOff x="5113080" y="3516480"/>
                <a:chExt cx="665280" cy="3787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5113080" y="3517920"/>
                  <a:ext cx="333360" cy="37728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445000" y="3516480"/>
                  <a:ext cx="333360" cy="377640"/>
                </a:xfrm>
                <a:prstGeom prst="rect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6" name=""/>
              <p:cNvSpPr/>
              <p:nvPr/>
            </p:nvSpPr>
            <p:spPr>
              <a:xfrm flipH="1">
                <a:off x="4862520" y="3970440"/>
                <a:ext cx="10159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832120" y="2846520"/>
                <a:ext cx="16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call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871880" y="3098880"/>
                <a:ext cx="185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Queued resul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9" name=""/>
            <p:cNvSpPr/>
            <p:nvPr/>
          </p:nvSpPr>
          <p:spPr>
            <a:xfrm>
              <a:off x="212760" y="3301920"/>
              <a:ext cx="132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Queu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RP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0" name=""/>
          <p:cNvSpPr/>
          <p:nvPr/>
        </p:nvSpPr>
        <p:spPr>
          <a:xfrm>
            <a:off x="793080" y="4888080"/>
            <a:ext cx="756756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mobil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 constrained to server’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l requests and results over client’s network li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latency or bandwidth reduction, and blocked if link goes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0A6B-0762-46C0-8C94-B3698B4F028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tored procedures and REV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80120" y="1066680"/>
            <a:ext cx="25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ored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057480" y="3186000"/>
            <a:ext cx="153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3. Se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138240" y="1668600"/>
            <a:ext cx="3863880" cy="2952720"/>
            <a:chOff x="138240" y="1668600"/>
            <a:chExt cx="3863880" cy="2952720"/>
          </a:xfrm>
        </p:grpSpPr>
        <p:sp>
          <p:nvSpPr>
            <p:cNvPr id="835" name=""/>
            <p:cNvSpPr/>
            <p:nvPr/>
          </p:nvSpPr>
          <p:spPr>
            <a:xfrm>
              <a:off x="200160" y="2071800"/>
              <a:ext cx="3497040" cy="601920"/>
            </a:xfrm>
            <a:prstGeom prst="parallelogram">
              <a:avLst>
                <a:gd name="adj" fmla="val 141103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07920" y="1668600"/>
              <a:ext cx="1087560" cy="86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34960" y="4019760"/>
              <a:ext cx="2567160" cy="601560"/>
            </a:xfrm>
            <a:prstGeom prst="parallelogram">
              <a:avLst>
                <a:gd name="adj" fmla="val 1720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41720" y="375156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300400" y="1714680"/>
              <a:ext cx="841320" cy="750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00160" y="2108520"/>
              <a:ext cx="304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2486160" y="2779560"/>
              <a:ext cx="353880" cy="1015920"/>
              <a:chOff x="2486160" y="2779560"/>
              <a:chExt cx="353880" cy="1015920"/>
            </a:xfrm>
          </p:grpSpPr>
          <p:sp>
            <p:nvSpPr>
              <p:cNvPr id="842" name=""/>
              <p:cNvSpPr/>
              <p:nvPr/>
            </p:nvSpPr>
            <p:spPr>
              <a:xfrm flipV="1">
                <a:off x="2486160" y="2785320"/>
                <a:ext cx="2880" cy="998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 flipV="1">
                <a:off x="2651040" y="2779560"/>
                <a:ext cx="7920" cy="989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835360" y="2807640"/>
                <a:ext cx="4680" cy="987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5" name=""/>
            <p:cNvSpPr/>
            <p:nvPr/>
          </p:nvSpPr>
          <p:spPr>
            <a:xfrm>
              <a:off x="2363760" y="2259360"/>
              <a:ext cx="67788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65240" y="2822760"/>
              <a:ext cx="203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procedure code to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38240" y="35244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Call proced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095560" y="3079800"/>
              <a:ext cx="392040" cy="88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006640" y="3483000"/>
              <a:ext cx="649080" cy="22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2835360" y="3281760"/>
              <a:ext cx="2570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6168960" y="106668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21320" y="2071800"/>
            <a:ext cx="3497040" cy="601560"/>
          </a:xfrm>
          <a:prstGeom prst="parallelogram">
            <a:avLst>
              <a:gd name="adj" fmla="val 14118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329080" y="1668600"/>
            <a:ext cx="1087560" cy="86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56120" y="4019400"/>
            <a:ext cx="2567160" cy="601920"/>
          </a:xfrm>
          <a:prstGeom prst="parallelogram">
            <a:avLst>
              <a:gd name="adj" fmla="val 17192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662880" y="3751200"/>
            <a:ext cx="841320" cy="750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21560" y="1714680"/>
            <a:ext cx="841320" cy="750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421320" y="210816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6765840" y="2752560"/>
            <a:ext cx="152640" cy="1020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088040" y="2739960"/>
            <a:ext cx="308160" cy="708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572160" y="223668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061040" y="34527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r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4110120" y="2778120"/>
            <a:ext cx="25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1. Send procedure cod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</a:rPr>
              <a:t>and arguments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to server - procedure called immedi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542360" y="2378160"/>
            <a:ext cx="157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2. Send results (and maybe a server procedu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388200" y="3230280"/>
            <a:ext cx="447480" cy="135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250040" y="3017880"/>
            <a:ext cx="515880" cy="123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920" y="4989600"/>
            <a:ext cx="8493120" cy="125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ect if accessing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ficulties if accessing more than on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communicate with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520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dures usually can not send out their own procedures (e.g., no pro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4E3-3BAA-47E9-BC99-2CDD580DD32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ets and serv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1920" y="5167440"/>
            <a:ext cx="8493120" cy="1008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me limitations as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ementations pay more attention to security than stored procedures and R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200160" y="1119240"/>
            <a:ext cx="8910000" cy="3665520"/>
            <a:chOff x="200160" y="1119240"/>
            <a:chExt cx="8910000" cy="3665520"/>
          </a:xfrm>
        </p:grpSpPr>
        <p:sp>
          <p:nvSpPr>
            <p:cNvPr id="870" name=""/>
            <p:cNvSpPr/>
            <p:nvPr/>
          </p:nvSpPr>
          <p:spPr>
            <a:xfrm>
              <a:off x="1581120" y="112068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pp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200160" y="1712880"/>
              <a:ext cx="4647960" cy="3053880"/>
              <a:chOff x="200160" y="1712880"/>
              <a:chExt cx="4647960" cy="3053880"/>
            </a:xfrm>
          </p:grpSpPr>
          <p:sp>
            <p:nvSpPr>
              <p:cNvPr id="872" name=""/>
              <p:cNvSpPr/>
              <p:nvPr/>
            </p:nvSpPr>
            <p:spPr>
              <a:xfrm>
                <a:off x="2763720" y="2869920"/>
                <a:ext cx="2084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2. Receive page and “embedded” applet; execute applet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00160" y="2182680"/>
                <a:ext cx="3497040" cy="601200"/>
              </a:xfrm>
              <a:prstGeom prst="parallelogram">
                <a:avLst>
                  <a:gd name="adj" fmla="val 141272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07920" y="1712880"/>
                <a:ext cx="1087560" cy="930240"/>
              </a:xfrm>
              <a:prstGeom prst="can">
                <a:avLst>
                  <a:gd name="adj" fmla="val 2013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g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71520" y="4165200"/>
                <a:ext cx="2566800" cy="601560"/>
              </a:xfrm>
              <a:prstGeom prst="parallelogram">
                <a:avLst>
                  <a:gd name="adj" fmla="val 17200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896760" y="3662280"/>
                <a:ext cx="1143000" cy="101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ows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255760" y="1780920"/>
                <a:ext cx="955800" cy="8521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e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0160" y="2219040"/>
                <a:ext cx="24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1724040" y="2537640"/>
                <a:ext cx="743040" cy="1177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2436480" y="2636640"/>
                <a:ext cx="252360" cy="1301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92240" y="3928680"/>
                <a:ext cx="946080" cy="534600"/>
              </a:xfrm>
              <a:prstGeom prst="rect">
                <a:avLst/>
              </a:prstGeom>
              <a:solidFill>
                <a:srgbClr val="ff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ppl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20680" y="292248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Times New Roman"/>
                  </a:rPr>
                  <a:t>1. Request Web p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568520" y="3192120"/>
                <a:ext cx="403200" cy="134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2532240" y="3450960"/>
                <a:ext cx="482400" cy="10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5124240" y="2178000"/>
              <a:ext cx="3497040" cy="601560"/>
            </a:xfrm>
            <a:prstGeom prst="parallelogram">
              <a:avLst>
                <a:gd name="adj" fmla="val 14118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832360" y="1708200"/>
              <a:ext cx="1087200" cy="930240"/>
            </a:xfrm>
            <a:prstGeom prst="can">
              <a:avLst>
                <a:gd name="adj" fmla="val 2013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619600" y="4183200"/>
              <a:ext cx="2566800" cy="601560"/>
            </a:xfrm>
            <a:prstGeom prst="parallelogram">
              <a:avLst>
                <a:gd name="adj" fmla="val 172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145200" y="3679920"/>
              <a:ext cx="1142640" cy="1017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rows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157880" y="1776240"/>
              <a:ext cx="955440" cy="852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24600" y="2214720"/>
              <a:ext cx="248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6927840" y="3047760"/>
              <a:ext cx="406080" cy="663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110360" y="3024360"/>
              <a:ext cx="509040" cy="79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19720" y="2511360"/>
              <a:ext cx="945720" cy="53496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rvl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202000" y="303048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1. Send servl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543800" y="3530520"/>
              <a:ext cx="156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2. Get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4520" y="3271680"/>
              <a:ext cx="291600" cy="133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96120" y="3495600"/>
              <a:ext cx="267840" cy="157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49680" y="11192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rv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507-B6D7-4824-A170-4B5B439FDFB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 more about i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360" y="11905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5960" y="3780000"/>
            <a:ext cx="38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ctComm (DoD MUR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000" y="5062680"/>
            <a:ext cx="44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ther mobile-agen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34720" y="174312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34000" y="4361040"/>
            <a:ext cx="43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ctcomm.dartmouth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32920" y="5638680"/>
            <a:ext cx="67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mobile_agent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9840" y="2476440"/>
            <a:ext cx="430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is tutorial (final ve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32560" y="3029040"/>
            <a:ext cx="53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agent.cs.dartmouth.edu/tutorial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310-A89C-4B1D-8178-989CD48536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oad balancing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031760" y="1260360"/>
            <a:ext cx="732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, Condor and Legion: Load balancing can be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statically (for a heterogeneous networ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  dynamically through data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programmer effort required to achieve even limited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much security suppo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ten pre-loaded code or homogeneous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1C8A-3615-471A-949A-5F3674B079A5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ication-specific sol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820960" y="386244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267160" y="466560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519440" y="2808360"/>
            <a:ext cx="971640" cy="828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331040" y="3678120"/>
            <a:ext cx="971640" cy="8287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004760" y="3720960"/>
            <a:ext cx="971640" cy="82872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20480" y="4775040"/>
            <a:ext cx="189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nent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387520" y="4699080"/>
            <a:ext cx="187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Grid/me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762800" y="3722760"/>
            <a:ext cx="221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omposi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8880" y="46512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Visualiz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994040" y="4056120"/>
            <a:ext cx="722160" cy="230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3827520" y="3668760"/>
            <a:ext cx="882720" cy="511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809880" y="4427640"/>
            <a:ext cx="1341720" cy="757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610240" y="3139920"/>
            <a:ext cx="169380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6332400" y="4303800"/>
            <a:ext cx="900360" cy="635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77720" y="1407960"/>
            <a:ext cx="84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:  Modeling of complex mechanical stru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60640" y="244620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efined,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907360" y="5745240"/>
            <a:ext cx="58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ardwired” approach….nothing dynam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2EF-7219-4742-9380-7811EC8AD23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smart" descr=""/>
          <p:cNvPicPr/>
          <p:nvPr/>
        </p:nvPicPr>
        <p:blipFill>
          <a:blip r:embed="rId1"/>
          <a:stretch/>
        </p:blipFill>
        <p:spPr>
          <a:xfrm>
            <a:off x="277920" y="1130400"/>
            <a:ext cx="2246040" cy="1569960"/>
          </a:xfrm>
          <a:prstGeom prst="rect">
            <a:avLst/>
          </a:prstGeom>
          <a:ln w="0">
            <a:noFill/>
          </a:ln>
        </p:spPr>
      </p:pic>
      <p:sp>
        <p:nvSpPr>
          <p:cNvPr id="921" name=""/>
          <p:cNvSpPr/>
          <p:nvPr/>
        </p:nvSpPr>
        <p:spPr>
          <a:xfrm>
            <a:off x="4070520" y="188136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624120" y="2367000"/>
            <a:ext cx="254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-installed application-specific pro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7054920" y="2019240"/>
            <a:ext cx="1828800" cy="703080"/>
            <a:chOff x="7054920" y="2019240"/>
            <a:chExt cx="1828800" cy="703080"/>
          </a:xfrm>
        </p:grpSpPr>
        <p:sp>
          <p:nvSpPr>
            <p:cNvPr id="924" name=""/>
            <p:cNvSpPr/>
            <p:nvPr/>
          </p:nvSpPr>
          <p:spPr>
            <a:xfrm>
              <a:off x="7054920" y="21888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20120" y="201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7679880" y="15717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554200" y="1862280"/>
            <a:ext cx="1941480" cy="648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535640" y="1512720"/>
            <a:ext cx="896760" cy="7844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9" name="list" descr=""/>
          <p:cNvPicPr/>
          <p:nvPr/>
        </p:nvPicPr>
        <p:blipFill>
          <a:blip r:embed="rId2"/>
          <a:stretch/>
        </p:blipFill>
        <p:spPr>
          <a:xfrm>
            <a:off x="949320" y="1911240"/>
            <a:ext cx="128124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30" name=""/>
          <p:cNvGrpSpPr/>
          <p:nvPr/>
        </p:nvGrpSpPr>
        <p:grpSpPr>
          <a:xfrm>
            <a:off x="7124760" y="849240"/>
            <a:ext cx="1828800" cy="703080"/>
            <a:chOff x="7124760" y="849240"/>
            <a:chExt cx="1828800" cy="703080"/>
          </a:xfrm>
        </p:grpSpPr>
        <p:sp>
          <p:nvSpPr>
            <p:cNvPr id="931" name=""/>
            <p:cNvSpPr/>
            <p:nvPr/>
          </p:nvSpPr>
          <p:spPr>
            <a:xfrm>
              <a:off x="7124760" y="10191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689960" y="8492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6735600" y="2724120"/>
            <a:ext cx="229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Higher-level database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61120" y="1184040"/>
            <a:ext cx="2523960" cy="6267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335560" y="1930320"/>
            <a:ext cx="2535120" cy="4492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09960" y="12016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276960" y="151128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8" name="smart" descr=""/>
          <p:cNvPicPr/>
          <p:nvPr/>
        </p:nvPicPr>
        <p:blipFill>
          <a:blip r:embed="rId3"/>
          <a:stretch/>
        </p:blipFill>
        <p:spPr>
          <a:xfrm>
            <a:off x="222120" y="4114800"/>
            <a:ext cx="2246400" cy="156996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3948120" y="49100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02080" y="5396040"/>
            <a:ext cx="25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6999120" y="5003640"/>
            <a:ext cx="1828800" cy="703080"/>
            <a:chOff x="6999120" y="5003640"/>
            <a:chExt cx="1828800" cy="703080"/>
          </a:xfrm>
        </p:grpSpPr>
        <p:sp>
          <p:nvSpPr>
            <p:cNvPr id="942" name=""/>
            <p:cNvSpPr/>
            <p:nvPr/>
          </p:nvSpPr>
          <p:spPr>
            <a:xfrm>
              <a:off x="6999120" y="517320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564320" y="500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7624440" y="4556160"/>
            <a:ext cx="7290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79840" y="4497480"/>
            <a:ext cx="897120" cy="78408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6" name="list" descr=""/>
          <p:cNvPicPr/>
          <p:nvPr/>
        </p:nvPicPr>
        <p:blipFill>
          <a:blip r:embed="rId4"/>
          <a:stretch/>
        </p:blipFill>
        <p:spPr>
          <a:xfrm>
            <a:off x="893880" y="4917960"/>
            <a:ext cx="1280880" cy="1284480"/>
          </a:xfrm>
          <a:prstGeom prst="rect">
            <a:avLst/>
          </a:prstGeom>
          <a:ln w="0">
            <a:noFill/>
          </a:ln>
        </p:spPr>
      </p:pic>
      <p:grpSp>
        <p:nvGrpSpPr>
          <p:cNvPr id="947" name=""/>
          <p:cNvGrpSpPr/>
          <p:nvPr/>
        </p:nvGrpSpPr>
        <p:grpSpPr>
          <a:xfrm>
            <a:off x="7068960" y="3833640"/>
            <a:ext cx="1828800" cy="703080"/>
            <a:chOff x="7068960" y="3833640"/>
            <a:chExt cx="1828800" cy="703080"/>
          </a:xfrm>
        </p:grpSpPr>
        <p:sp>
          <p:nvSpPr>
            <p:cNvPr id="948" name=""/>
            <p:cNvSpPr/>
            <p:nvPr/>
          </p:nvSpPr>
          <p:spPr>
            <a:xfrm>
              <a:off x="7068960" y="40035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34160" y="383364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"/>
          <p:cNvSpPr/>
          <p:nvPr/>
        </p:nvSpPr>
        <p:spPr>
          <a:xfrm flipV="1">
            <a:off x="2563920" y="4974840"/>
            <a:ext cx="1638360" cy="126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254480" y="482436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297560" y="39337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259760" y="5105520"/>
            <a:ext cx="677880" cy="5349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5300640" y="4184640"/>
            <a:ext cx="1974960" cy="63648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315040" y="5005440"/>
            <a:ext cx="1896840" cy="30312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54160" y="368604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Much less work, but now try extending the TR 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84040" y="70020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Lot of wor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811240" y="432288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6013440" y="453240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Queue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44B-E685-4138-A19E-B414608E1426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mulation without agen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3172320" y="1638360"/>
            <a:ext cx="5455800" cy="4379400"/>
            <a:chOff x="3172320" y="1638360"/>
            <a:chExt cx="5455800" cy="4379400"/>
          </a:xfrm>
        </p:grpSpPr>
        <p:pic>
          <p:nvPicPr>
            <p:cNvPr id="962" name="" descr=""/>
            <p:cNvPicPr/>
            <p:nvPr/>
          </p:nvPicPr>
          <p:blipFill>
            <a:blip r:embed="rId1"/>
            <a:stretch/>
          </p:blipFill>
          <p:spPr>
            <a:xfrm>
              <a:off x="3254400" y="3449520"/>
              <a:ext cx="604800" cy="5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3859200" y="2343240"/>
              <a:ext cx="4235400" cy="291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871800" y="2351160"/>
              <a:ext cx="4205520" cy="289872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887640" y="2360520"/>
              <a:ext cx="4173840" cy="28782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3905280" y="2373120"/>
              <a:ext cx="4138560" cy="285300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921120" y="2384280"/>
              <a:ext cx="4106880" cy="2830680"/>
            </a:xfrm>
            <a:prstGeom prst="ellipse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938760" y="2397240"/>
              <a:ext cx="4071600" cy="280656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956040" y="2406600"/>
              <a:ext cx="4038480" cy="27860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971880" y="2419200"/>
              <a:ext cx="4005360" cy="2760840"/>
            </a:xfrm>
            <a:prstGeom prst="ellipse">
              <a:avLst/>
            </a:prstGeom>
            <a:solidFill>
              <a:srgbClr val="fdfd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989520" y="2430360"/>
              <a:ext cx="3970080" cy="27385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003560" y="2442960"/>
              <a:ext cx="3942000" cy="2713320"/>
            </a:xfrm>
            <a:prstGeom prst="ellipse">
              <a:avLst/>
            </a:prstGeom>
            <a:solidFill>
              <a:srgbClr val="fcfc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021200" y="2454120"/>
              <a:ext cx="3906720" cy="2692440"/>
            </a:xfrm>
            <a:prstGeom prst="ellipse">
              <a:avLst/>
            </a:prstGeom>
            <a:solidFill>
              <a:srgbClr val="fcf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037040" y="2463840"/>
              <a:ext cx="3875040" cy="26715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054320" y="2476440"/>
              <a:ext cx="3840480" cy="2646360"/>
            </a:xfrm>
            <a:prstGeom prst="ellipse">
              <a:avLst/>
            </a:prstGeom>
            <a:solidFill>
              <a:srgbClr val="fbf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70520" y="2487600"/>
              <a:ext cx="3808080" cy="262584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087800" y="2500200"/>
              <a:ext cx="3773520" cy="260028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103640" y="2509920"/>
              <a:ext cx="3741840" cy="2579400"/>
            </a:xfrm>
            <a:prstGeom prst="ellipse">
              <a:avLst/>
            </a:prstGeom>
            <a:solidFill>
              <a:srgbClr val="faf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121280" y="2522520"/>
              <a:ext cx="3706560" cy="2554200"/>
            </a:xfrm>
            <a:prstGeom prst="ellipse">
              <a:avLst/>
            </a:prstGeom>
            <a:solidFill>
              <a:srgbClr val="f9f9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138560" y="2533680"/>
              <a:ext cx="3672000" cy="253368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152960" y="2546280"/>
              <a:ext cx="3643200" cy="2508120"/>
            </a:xfrm>
            <a:prstGeom prst="ellipse">
              <a:avLst/>
            </a:prstGeom>
            <a:solidFill>
              <a:srgbClr val="f8f8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168800" y="2555640"/>
              <a:ext cx="3611520" cy="248796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186080" y="2566800"/>
              <a:ext cx="3576960" cy="2467080"/>
            </a:xfrm>
            <a:prstGeom prst="ellipse">
              <a:avLst/>
            </a:prstGeom>
            <a:solidFill>
              <a:srgbClr val="f7f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03720" y="2579760"/>
              <a:ext cx="3541680" cy="2441520"/>
            </a:xfrm>
            <a:prstGeom prst="ellipse">
              <a:avLst/>
            </a:prstGeom>
            <a:solidFill>
              <a:srgbClr val="f6f6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19560" y="2589120"/>
              <a:ext cx="3510000" cy="24210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37200" y="2601720"/>
              <a:ext cx="3474720" cy="2395800"/>
            </a:xfrm>
            <a:prstGeom prst="ellipse">
              <a:avLst/>
            </a:prstGeom>
            <a:solidFill>
              <a:srgbClr val="f5f5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53040" y="2612880"/>
              <a:ext cx="3443040" cy="2374920"/>
            </a:xfrm>
            <a:prstGeom prst="ellipse">
              <a:avLst/>
            </a:prstGeom>
            <a:solidFill>
              <a:srgbClr val="f4f4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2625840"/>
              <a:ext cx="3408480" cy="2349360"/>
            </a:xfrm>
            <a:prstGeom prst="ellipse">
              <a:avLst/>
            </a:prstGeom>
            <a:solidFill>
              <a:srgbClr val="f3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84720" y="2635200"/>
              <a:ext cx="3379680" cy="23288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302000" y="2647800"/>
              <a:ext cx="3345120" cy="2303640"/>
            </a:xfrm>
            <a:prstGeom prst="ellipse">
              <a:avLst/>
            </a:prstGeom>
            <a:solidFill>
              <a:srgbClr val="f2f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317840" y="2658960"/>
              <a:ext cx="3313440" cy="2281320"/>
            </a:xfrm>
            <a:prstGeom prst="ellipse">
              <a:avLst/>
            </a:prstGeom>
            <a:solidFill>
              <a:srgbClr val="f1f1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335480" y="2668680"/>
              <a:ext cx="3278160" cy="2261880"/>
            </a:xfrm>
            <a:prstGeom prst="ellipse">
              <a:avLst/>
            </a:prstGeom>
            <a:solidFill>
              <a:srgbClr val="f0f0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352760" y="2681280"/>
              <a:ext cx="3243600" cy="2236680"/>
            </a:xfrm>
            <a:prstGeom prst="ellipse">
              <a:avLst/>
            </a:prstGeom>
            <a:solidFill>
              <a:srgbClr val="efef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368960" y="2692440"/>
              <a:ext cx="3211200" cy="2214360"/>
            </a:xfrm>
            <a:prstGeom prst="ellipse">
              <a:avLst/>
            </a:prstGeom>
            <a:solidFill>
              <a:srgbClr val="eeee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386240" y="2705040"/>
              <a:ext cx="3176640" cy="2189160"/>
            </a:xfrm>
            <a:prstGeom prst="ellipse">
              <a:avLst/>
            </a:prstGeom>
            <a:solidFill>
              <a:srgbClr val="eded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402080" y="2716200"/>
              <a:ext cx="3144960" cy="2168640"/>
            </a:xfrm>
            <a:prstGeom prst="ellipse">
              <a:avLst/>
            </a:prstGeom>
            <a:solidFill>
              <a:srgbClr val="ece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419720" y="2727360"/>
              <a:ext cx="3109680" cy="2144520"/>
            </a:xfrm>
            <a:prstGeom prst="ellipse">
              <a:avLst/>
            </a:prstGeom>
            <a:solidFill>
              <a:srgbClr val="ebe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433760" y="2738520"/>
              <a:ext cx="3081600" cy="2122200"/>
            </a:xfrm>
            <a:prstGeom prst="ellipse">
              <a:avLst/>
            </a:prstGeom>
            <a:solidFill>
              <a:srgbClr val="eaea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451400" y="2751120"/>
              <a:ext cx="3046320" cy="2097000"/>
            </a:xfrm>
            <a:prstGeom prst="ellipse">
              <a:avLst/>
            </a:prstGeom>
            <a:solidFill>
              <a:srgbClr val="e8e8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67240" y="2762280"/>
              <a:ext cx="3014640" cy="2076480"/>
            </a:xfrm>
            <a:prstGeom prst="ellipse">
              <a:avLst/>
            </a:prstGeom>
            <a:solidFill>
              <a:srgbClr val="e7e7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484520" y="2771640"/>
              <a:ext cx="2980080" cy="2055960"/>
            </a:xfrm>
            <a:prstGeom prst="ellipse">
              <a:avLst/>
            </a:prstGeom>
            <a:solidFill>
              <a:srgbClr val="e6e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500720" y="2784240"/>
              <a:ext cx="2947680" cy="2030760"/>
            </a:xfrm>
            <a:prstGeom prst="ellipse">
              <a:avLst/>
            </a:prstGeom>
            <a:solidFill>
              <a:srgbClr val="e5e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518000" y="2795400"/>
              <a:ext cx="2913120" cy="2009880"/>
            </a:xfrm>
            <a:prstGeom prst="ellipse">
              <a:avLst/>
            </a:prstGeom>
            <a:solidFill>
              <a:srgbClr val="e3e3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535640" y="2808360"/>
              <a:ext cx="2877840" cy="1984320"/>
            </a:xfrm>
            <a:prstGeom prst="ellipse">
              <a:avLst/>
            </a:prstGeom>
            <a:solidFill>
              <a:srgbClr val="e2e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551480" y="2817720"/>
              <a:ext cx="2846160" cy="1963800"/>
            </a:xfrm>
            <a:prstGeom prst="ellipse">
              <a:avLst/>
            </a:prstGeom>
            <a:solidFill>
              <a:srgbClr val="e1e1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65520" y="2830320"/>
              <a:ext cx="2818080" cy="1938600"/>
            </a:xfrm>
            <a:prstGeom prst="ellipse">
              <a:avLst/>
            </a:prstGeom>
            <a:solidFill>
              <a:srgbClr val="dfdf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83160" y="2841480"/>
              <a:ext cx="2782800" cy="1917720"/>
            </a:xfrm>
            <a:prstGeom prst="ellipse">
              <a:avLst/>
            </a:prstGeom>
            <a:solidFill>
              <a:srgbClr val="dede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00440" y="2854440"/>
              <a:ext cx="2748240" cy="1892160"/>
            </a:xfrm>
            <a:prstGeom prst="ellipse">
              <a:avLst/>
            </a:prstGeom>
            <a:solidFill>
              <a:srgbClr val="dcdc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616280" y="2863800"/>
              <a:ext cx="2716560" cy="1871640"/>
            </a:xfrm>
            <a:prstGeom prst="ellipse">
              <a:avLst/>
            </a:prstGeom>
            <a:solidFill>
              <a:srgbClr val="dbdb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633920" y="2874960"/>
              <a:ext cx="2681280" cy="1851120"/>
            </a:xfrm>
            <a:prstGeom prst="ellipse">
              <a:avLst/>
            </a:prstGeom>
            <a:solidFill>
              <a:srgbClr val="d9d9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649760" y="2887560"/>
              <a:ext cx="2649600" cy="1825560"/>
            </a:xfrm>
            <a:prstGeom prst="ellipse">
              <a:avLst/>
            </a:prstGeom>
            <a:solidFill>
              <a:srgbClr val="d7d7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67400" y="2897280"/>
              <a:ext cx="2614320" cy="1804680"/>
            </a:xfrm>
            <a:prstGeom prst="ellipse">
              <a:avLst/>
            </a:prstGeom>
            <a:solidFill>
              <a:srgbClr val="d6d6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84680" y="2909880"/>
              <a:ext cx="2579760" cy="1779480"/>
            </a:xfrm>
            <a:prstGeom prst="ellipse">
              <a:avLst/>
            </a:prstGeom>
            <a:solidFill>
              <a:srgbClr val="d4d4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700520" y="2921040"/>
              <a:ext cx="2548080" cy="1757160"/>
            </a:xfrm>
            <a:prstGeom prst="ellipse">
              <a:avLst/>
            </a:prstGeom>
            <a:solidFill>
              <a:srgbClr val="d2d2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714920" y="2933640"/>
              <a:ext cx="2519280" cy="1733400"/>
            </a:xfrm>
            <a:prstGeom prst="ellipse">
              <a:avLst/>
            </a:prstGeom>
            <a:solidFill>
              <a:srgbClr val="d0d0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732200" y="2943000"/>
              <a:ext cx="2484720" cy="1713240"/>
            </a:xfrm>
            <a:prstGeom prst="ellipse">
              <a:avLst/>
            </a:prstGeom>
            <a:solidFill>
              <a:srgbClr val="cec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49840" y="2955960"/>
              <a:ext cx="2449440" cy="1687320"/>
            </a:xfrm>
            <a:prstGeom prst="ellipse">
              <a:avLst/>
            </a:prstGeom>
            <a:solidFill>
              <a:srgbClr val="cdc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65680" y="2967120"/>
              <a:ext cx="2417760" cy="1665000"/>
            </a:xfrm>
            <a:prstGeom prst="ellipse">
              <a:avLst/>
            </a:prstGeom>
            <a:solidFill>
              <a:srgbClr val="cbcb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782960" y="2977920"/>
              <a:ext cx="2382840" cy="1644840"/>
            </a:xfrm>
            <a:prstGeom prst="ellipse">
              <a:avLst/>
            </a:prstGeom>
            <a:solidFill>
              <a:srgbClr val="c9c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799160" y="2989080"/>
              <a:ext cx="2350800" cy="1621080"/>
            </a:xfrm>
            <a:prstGeom prst="ellipse">
              <a:avLst/>
            </a:prstGeom>
            <a:solidFill>
              <a:srgbClr val="c7c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16440" y="3000240"/>
              <a:ext cx="2316240" cy="1598760"/>
            </a:xfrm>
            <a:prstGeom prst="ellipse">
              <a:avLst/>
            </a:prstGeom>
            <a:solidFill>
              <a:srgbClr val="c5c5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32280" y="3012840"/>
              <a:ext cx="2284560" cy="1573560"/>
            </a:xfrm>
            <a:prstGeom prst="ellipse">
              <a:avLst/>
            </a:prstGeom>
            <a:solidFill>
              <a:srgbClr val="c3c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848120" y="3024000"/>
              <a:ext cx="2252880" cy="1552680"/>
            </a:xfrm>
            <a:prstGeom prst="ellipse">
              <a:avLst/>
            </a:prstGeom>
            <a:solidFill>
              <a:srgbClr val="c1c1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863960" y="3036960"/>
              <a:ext cx="2221200" cy="1527120"/>
            </a:xfrm>
            <a:prstGeom prst="ellipse">
              <a:avLst/>
            </a:prstGeom>
            <a:solidFill>
              <a:srgbClr val="bebe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881600" y="3046320"/>
              <a:ext cx="2185920" cy="1506600"/>
            </a:xfrm>
            <a:prstGeom prst="ellipse">
              <a:avLst/>
            </a:prstGeom>
            <a:solidFill>
              <a:srgbClr val="bcbc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898880" y="3058920"/>
              <a:ext cx="2152800" cy="1481400"/>
            </a:xfrm>
            <a:prstGeom prst="ellipse">
              <a:avLst/>
            </a:prstGeom>
            <a:solidFill>
              <a:srgbClr val="baba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915080" y="3070080"/>
              <a:ext cx="2118960" cy="1460520"/>
            </a:xfrm>
            <a:prstGeom prst="ellipse">
              <a:avLst/>
            </a:prstGeom>
            <a:solidFill>
              <a:srgbClr val="b8b8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932360" y="3079800"/>
              <a:ext cx="2087640" cy="1441440"/>
            </a:xfrm>
            <a:prstGeom prst="ellipse">
              <a:avLst/>
            </a:prstGeom>
            <a:solidFill>
              <a:srgbClr val="b6b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948200" y="3092400"/>
              <a:ext cx="2054160" cy="1417680"/>
            </a:xfrm>
            <a:prstGeom prst="ellipse">
              <a:avLst/>
            </a:prstGeom>
            <a:solidFill>
              <a:srgbClr val="b3b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965840" y="3103560"/>
              <a:ext cx="2019240" cy="1395360"/>
            </a:xfrm>
            <a:prstGeom prst="ellipse">
              <a:avLst/>
            </a:prstGeom>
            <a:solidFill>
              <a:srgbClr val="b1b1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981680" y="3116160"/>
              <a:ext cx="1987560" cy="1370160"/>
            </a:xfrm>
            <a:prstGeom prst="ellipse">
              <a:avLst/>
            </a:prstGeom>
            <a:solidFill>
              <a:srgbClr val="afaf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997520" y="3125880"/>
              <a:ext cx="1957320" cy="1349280"/>
            </a:xfrm>
            <a:prstGeom prst="ellipse">
              <a:avLst/>
            </a:prstGeom>
            <a:solidFill>
              <a:srgbClr val="ada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013360" y="3138480"/>
              <a:ext cx="1923840" cy="1325520"/>
            </a:xfrm>
            <a:prstGeom prst="ellipse">
              <a:avLst/>
            </a:prstGeom>
            <a:solidFill>
              <a:srgbClr val="aaaa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30640" y="3149640"/>
              <a:ext cx="1889280" cy="1303200"/>
            </a:xfrm>
            <a:prstGeom prst="ellipse">
              <a:avLst/>
            </a:prstGeom>
            <a:solidFill>
              <a:srgbClr val="a8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046840" y="3162240"/>
              <a:ext cx="1857240" cy="1278000"/>
            </a:xfrm>
            <a:prstGeom prst="ellipse">
              <a:avLst/>
            </a:prstGeom>
            <a:solidFill>
              <a:srgbClr val="a5a5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064120" y="3171600"/>
              <a:ext cx="1822320" cy="1257480"/>
            </a:xfrm>
            <a:prstGeom prst="ellipse">
              <a:avLst/>
            </a:prstGeom>
            <a:solidFill>
              <a:srgbClr val="a3a3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081760" y="3182760"/>
              <a:ext cx="1788840" cy="1236960"/>
            </a:xfrm>
            <a:prstGeom prst="ellipse">
              <a:avLst/>
            </a:prstGeom>
            <a:solidFill>
              <a:srgbClr val="a1a1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097600" y="3195720"/>
              <a:ext cx="1755720" cy="1211040"/>
            </a:xfrm>
            <a:prstGeom prst="ellipse">
              <a:avLst/>
            </a:prstGeom>
            <a:solidFill>
              <a:srgbClr val="9e9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14880" y="3205080"/>
              <a:ext cx="1722600" cy="1190520"/>
            </a:xfrm>
            <a:prstGeom prst="ellipse">
              <a:avLst/>
            </a:prstGeom>
            <a:solidFill>
              <a:srgbClr val="9c9c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29280" y="3217680"/>
              <a:ext cx="1692360" cy="1165320"/>
            </a:xfrm>
            <a:prstGeom prst="ellipse">
              <a:avLst/>
            </a:prstGeom>
            <a:solidFill>
              <a:srgbClr val="999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46560" y="3228840"/>
              <a:ext cx="1658880" cy="1144800"/>
            </a:xfrm>
            <a:prstGeom prst="ellipse">
              <a:avLst/>
            </a:prstGeom>
            <a:solidFill>
              <a:srgbClr val="9797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62400" y="3241440"/>
              <a:ext cx="1625760" cy="1119240"/>
            </a:xfrm>
            <a:prstGeom prst="ellipse">
              <a:avLst/>
            </a:prstGeom>
            <a:solidFill>
              <a:srgbClr val="949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80040" y="3251160"/>
              <a:ext cx="1592280" cy="1098360"/>
            </a:xfrm>
            <a:prstGeom prst="ellipse">
              <a:avLst/>
            </a:prstGeom>
            <a:solidFill>
              <a:srgbClr val="9292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95880" y="3263760"/>
              <a:ext cx="1558800" cy="1073160"/>
            </a:xfrm>
            <a:prstGeom prst="ellipse">
              <a:avLst/>
            </a:prstGeom>
            <a:solidFill>
              <a:srgbClr val="8f8f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213520" y="3274920"/>
              <a:ext cx="1523880" cy="1052640"/>
            </a:xfrm>
            <a:prstGeom prst="ellipse">
              <a:avLst/>
            </a:prstGeom>
            <a:solidFill>
              <a:srgbClr val="8d8d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0800" y="3286080"/>
              <a:ext cx="1490760" cy="1030320"/>
            </a:xfrm>
            <a:prstGeom prst="ellipse">
              <a:avLst/>
            </a:prstGeom>
            <a:solidFill>
              <a:srgbClr val="8a8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46640" y="3298680"/>
              <a:ext cx="1457280" cy="1005120"/>
            </a:xfrm>
            <a:prstGeom prst="ellipse">
              <a:avLst/>
            </a:prstGeom>
            <a:solidFill>
              <a:srgbClr val="8888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264280" y="3308400"/>
              <a:ext cx="1423800" cy="985680"/>
            </a:xfrm>
            <a:prstGeom prst="ellipse">
              <a:avLst/>
            </a:prstGeom>
            <a:solidFill>
              <a:srgbClr val="858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278320" y="3321000"/>
              <a:ext cx="1393920" cy="960480"/>
            </a:xfrm>
            <a:prstGeom prst="ellipse">
              <a:avLst/>
            </a:prstGeom>
            <a:solidFill>
              <a:srgbClr val="8383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295960" y="3332160"/>
              <a:ext cx="1360440" cy="938160"/>
            </a:xfrm>
            <a:prstGeom prst="ellipse">
              <a:avLst/>
            </a:prstGeom>
            <a:solidFill>
              <a:srgbClr val="8181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1800" y="3344760"/>
              <a:ext cx="1326960" cy="912960"/>
            </a:xfrm>
            <a:prstGeom prst="ellipse">
              <a:avLst/>
            </a:prstGeom>
            <a:solidFill>
              <a:srgbClr val="7e7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29080" y="3354480"/>
              <a:ext cx="1293840" cy="893520"/>
            </a:xfrm>
            <a:prstGeom prst="ellipse">
              <a:avLst/>
            </a:prstGeom>
            <a:solidFill>
              <a:srgbClr val="7c7c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45280" y="3367080"/>
              <a:ext cx="1260360" cy="868320"/>
            </a:xfrm>
            <a:prstGeom prst="ellipse">
              <a:avLst/>
            </a:prstGeom>
            <a:solidFill>
              <a:srgbClr val="797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62560" y="3378240"/>
              <a:ext cx="1225440" cy="846000"/>
            </a:xfrm>
            <a:prstGeom prst="ellipse">
              <a:avLst/>
            </a:prstGeom>
            <a:solidFill>
              <a:srgbClr val="7777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78400" y="3387600"/>
              <a:ext cx="1193760" cy="825480"/>
            </a:xfrm>
            <a:prstGeom prst="ellipse">
              <a:avLst/>
            </a:prstGeom>
            <a:solidFill>
              <a:srgbClr val="747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96040" y="3400200"/>
              <a:ext cx="1158840" cy="800280"/>
            </a:xfrm>
            <a:prstGeom prst="ellipse">
              <a:avLst/>
            </a:prstGeom>
            <a:solidFill>
              <a:srgbClr val="7272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410080" y="3411360"/>
              <a:ext cx="1130400" cy="779760"/>
            </a:xfrm>
            <a:prstGeom prst="ellipse">
              <a:avLst/>
            </a:prstGeom>
            <a:solidFill>
              <a:srgbClr val="707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427720" y="3424320"/>
              <a:ext cx="1095480" cy="753840"/>
            </a:xfrm>
            <a:prstGeom prst="ellipse">
              <a:avLst/>
            </a:prstGeom>
            <a:solidFill>
              <a:srgbClr val="6d6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443560" y="3433680"/>
              <a:ext cx="1063440" cy="733320"/>
            </a:xfrm>
            <a:prstGeom prst="ellipse">
              <a:avLst/>
            </a:prstGeom>
            <a:solidFill>
              <a:srgbClr val="6b6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460840" y="3446280"/>
              <a:ext cx="1028880" cy="708120"/>
            </a:xfrm>
            <a:prstGeom prst="ellipse">
              <a:avLst/>
            </a:prstGeom>
            <a:solidFill>
              <a:srgbClr val="6969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478480" y="3457440"/>
              <a:ext cx="995400" cy="687600"/>
            </a:xfrm>
            <a:prstGeom prst="ellipse">
              <a:avLst/>
            </a:prstGeom>
            <a:solidFill>
              <a:srgbClr val="6666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494320" y="3470040"/>
              <a:ext cx="961920" cy="662040"/>
            </a:xfrm>
            <a:prstGeom prst="ellipse">
              <a:avLst/>
            </a:prstGeom>
            <a:solidFill>
              <a:srgbClr val="646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511960" y="3479760"/>
              <a:ext cx="928440" cy="641160"/>
            </a:xfrm>
            <a:prstGeom prst="ellipse">
              <a:avLst/>
            </a:prstGeom>
            <a:solidFill>
              <a:srgbClr val="626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527800" y="3490920"/>
              <a:ext cx="895320" cy="620640"/>
            </a:xfrm>
            <a:prstGeom prst="ellipse">
              <a:avLst/>
            </a:prstGeom>
            <a:solidFill>
              <a:srgbClr val="6060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545080" y="3503520"/>
              <a:ext cx="860400" cy="595440"/>
            </a:xfrm>
            <a:prstGeom prst="ellipse">
              <a:avLst/>
            </a:prstGeom>
            <a:solidFill>
              <a:srgbClr val="5e5e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59480" y="3514680"/>
              <a:ext cx="831960" cy="573120"/>
            </a:xfrm>
            <a:prstGeom prst="ellipse">
              <a:avLst/>
            </a:prstGeom>
            <a:solidFill>
              <a:srgbClr val="5b5b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76760" y="3525840"/>
              <a:ext cx="798480" cy="549360"/>
            </a:xfrm>
            <a:prstGeom prst="ellipse">
              <a:avLst/>
            </a:prstGeom>
            <a:solidFill>
              <a:srgbClr val="5959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592600" y="3537000"/>
              <a:ext cx="765360" cy="528480"/>
            </a:xfrm>
            <a:prstGeom prst="ellipse">
              <a:avLst/>
            </a:prstGeom>
            <a:solidFill>
              <a:srgbClr val="5757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10240" y="3549600"/>
              <a:ext cx="730080" cy="503280"/>
            </a:xfrm>
            <a:prstGeom prst="ellipse">
              <a:avLst/>
            </a:prstGeom>
            <a:solidFill>
              <a:srgbClr val="555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27520" y="3560760"/>
              <a:ext cx="696960" cy="480960"/>
            </a:xfrm>
            <a:prstGeom prst="ellipse">
              <a:avLst/>
            </a:prstGeom>
            <a:solidFill>
              <a:srgbClr val="5353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643720" y="3571920"/>
              <a:ext cx="663480" cy="457200"/>
            </a:xfrm>
            <a:prstGeom prst="ellipse">
              <a:avLst/>
            </a:prstGeom>
            <a:solidFill>
              <a:srgbClr val="5151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661000" y="3583080"/>
              <a:ext cx="630360" cy="436320"/>
            </a:xfrm>
            <a:prstGeom prst="ellipse">
              <a:avLst/>
            </a:prstGeom>
            <a:solidFill>
              <a:srgbClr val="4f4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676840" y="3593880"/>
              <a:ext cx="596880" cy="414360"/>
            </a:xfrm>
            <a:prstGeom prst="ellipse">
              <a:avLst/>
            </a:prstGeom>
            <a:solidFill>
              <a:srgbClr val="4d4d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692680" y="3606840"/>
              <a:ext cx="567000" cy="388800"/>
            </a:xfrm>
            <a:prstGeom prst="ellipse">
              <a:avLst/>
            </a:prstGeom>
            <a:solidFill>
              <a:srgbClr val="4b4b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08520" y="3616200"/>
              <a:ext cx="533520" cy="370080"/>
            </a:xfrm>
            <a:prstGeom prst="ellipse">
              <a:avLst/>
            </a:prstGeom>
            <a:solidFill>
              <a:srgbClr val="4a4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6160" y="3628800"/>
              <a:ext cx="500040" cy="344520"/>
            </a:xfrm>
            <a:prstGeom prst="ellipse">
              <a:avLst/>
            </a:prstGeom>
            <a:solidFill>
              <a:srgbClr val="484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42000" y="3639960"/>
              <a:ext cx="466560" cy="322560"/>
            </a:xfrm>
            <a:prstGeom prst="ellipse">
              <a:avLst/>
            </a:prstGeom>
            <a:solidFill>
              <a:srgbClr val="4646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59280" y="3652920"/>
              <a:ext cx="432000" cy="296640"/>
            </a:xfrm>
            <a:prstGeom prst="ellipse">
              <a:avLst/>
            </a:prstGeom>
            <a:solidFill>
              <a:srgbClr val="4444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75480" y="3662280"/>
              <a:ext cx="399960" cy="276120"/>
            </a:xfrm>
            <a:prstGeom prst="ellipse">
              <a:avLst/>
            </a:prstGeom>
            <a:solidFill>
              <a:srgbClr val="4343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792760" y="3674880"/>
              <a:ext cx="365040" cy="252360"/>
            </a:xfrm>
            <a:prstGeom prst="ellipse">
              <a:avLst/>
            </a:prstGeom>
            <a:solidFill>
              <a:srgbClr val="4141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810400" y="3686040"/>
              <a:ext cx="331560" cy="230400"/>
            </a:xfrm>
            <a:prstGeom prst="ellipse">
              <a:avLst/>
            </a:prstGeom>
            <a:solidFill>
              <a:srgbClr val="4040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826240" y="3695760"/>
              <a:ext cx="298440" cy="209520"/>
            </a:xfrm>
            <a:prstGeom prst="ellipse">
              <a:avLst/>
            </a:prstGeom>
            <a:solidFill>
              <a:srgbClr val="3e3e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842080" y="3708360"/>
              <a:ext cx="268200" cy="183960"/>
            </a:xfrm>
            <a:prstGeom prst="ellipse">
              <a:avLst/>
            </a:prstGeom>
            <a:solidFill>
              <a:srgbClr val="3d3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857920" y="3719520"/>
              <a:ext cx="235080" cy="163440"/>
            </a:xfrm>
            <a:prstGeom prst="ellipse">
              <a:avLst/>
            </a:prstGeom>
            <a:solidFill>
              <a:srgbClr val="3b3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875200" y="3732120"/>
              <a:ext cx="201600" cy="138240"/>
            </a:xfrm>
            <a:prstGeom prst="ellipse">
              <a:avLst/>
            </a:prstGeom>
            <a:solidFill>
              <a:srgbClr val="3a3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891040" y="3741840"/>
              <a:ext cx="168480" cy="117360"/>
            </a:xfrm>
            <a:prstGeom prst="ellipse">
              <a:avLst/>
            </a:prstGeom>
            <a:solidFill>
              <a:srgbClr val="3838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08680" y="3754440"/>
              <a:ext cx="135000" cy="92160"/>
            </a:xfrm>
            <a:prstGeom prst="ellipse">
              <a:avLst/>
            </a:prstGeom>
            <a:solidFill>
              <a:srgbClr val="3737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24520" y="3765600"/>
              <a:ext cx="101520" cy="71280"/>
            </a:xfrm>
            <a:prstGeom prst="ellipse">
              <a:avLst/>
            </a:prstGeom>
            <a:solidFill>
              <a:srgbClr val="363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942160" y="3778200"/>
              <a:ext cx="66600" cy="46080"/>
            </a:xfrm>
            <a:prstGeom prst="ellipse">
              <a:avLst/>
            </a:prstGeom>
            <a:solidFill>
              <a:srgbClr val="3535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59440" y="3787560"/>
              <a:ext cx="33480" cy="25560"/>
            </a:xfrm>
            <a:prstGeom prst="ellipse">
              <a:avLst/>
            </a:prstGeom>
            <a:solidFill>
              <a:srgbClr val="343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201640" y="334656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49216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670360" y="33465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8124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96052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60600" y="33465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2398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441480" y="33465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643080" y="33465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627440" y="3828960"/>
              <a:ext cx="1591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8296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893480" y="3828960"/>
              <a:ext cx="31788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20632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40828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51916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69880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100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920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1221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24120" y="3828960"/>
              <a:ext cx="1029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424200" y="3828960"/>
              <a:ext cx="1821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603840" y="3828960"/>
              <a:ext cx="1134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7143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59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117560" y="3828960"/>
              <a:ext cx="20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6" name="" descr=""/>
            <p:cNvPicPr/>
            <p:nvPr/>
          </p:nvPicPr>
          <p:blipFill>
            <a:blip r:embed="rId2"/>
            <a:stretch/>
          </p:blipFill>
          <p:spPr>
            <a:xfrm>
              <a:off x="7588080" y="4755960"/>
              <a:ext cx="605160" cy="5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7" name="" descr=""/>
            <p:cNvPicPr/>
            <p:nvPr/>
          </p:nvPicPr>
          <p:blipFill>
            <a:blip r:embed="rId3"/>
            <a:stretch/>
          </p:blipFill>
          <p:spPr>
            <a:xfrm>
              <a:off x="4060800" y="173808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" descr=""/>
            <p:cNvPicPr/>
            <p:nvPr/>
          </p:nvPicPr>
          <p:blipFill>
            <a:blip r:embed="rId4"/>
            <a:stretch/>
          </p:blipFill>
          <p:spPr>
            <a:xfrm>
              <a:off x="8093160" y="1638360"/>
              <a:ext cx="53496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9" name="" descr=""/>
            <p:cNvPicPr/>
            <p:nvPr/>
          </p:nvPicPr>
          <p:blipFill>
            <a:blip r:embed="rId5"/>
            <a:stretch/>
          </p:blipFill>
          <p:spPr>
            <a:xfrm>
              <a:off x="4362480" y="4957560"/>
              <a:ext cx="90792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4967280" y="18162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06376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13036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20452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47360" y="18162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28444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575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42592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498280" y="18162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558760" y="1816200"/>
              <a:ext cx="17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592600" y="18162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66712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733360" y="18162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78000" y="181620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96656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0256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09328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12820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6492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23600" y="19778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82280" y="19778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325120" y="19778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362200" y="19778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428800" y="19778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7205040" y="18050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725616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32888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37316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43184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490160" y="18050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601400" y="18050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3812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8276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25600" y="18050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786440" y="18050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858800" y="18050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205400" y="1966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240320" y="1966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31340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379640" y="1966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7424280" y="1966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20504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2640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33176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36668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0340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462080" y="212868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520760" y="2128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565040" y="21286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600680" y="212868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667280" y="21286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607880" y="54277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771192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78608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44760" y="542772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90380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970040" y="54277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01432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04996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118000" y="54277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191080" y="54277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256960" y="54277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608240" y="558792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65864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695000" y="558792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8069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8793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91640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982640" y="558792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8026920" y="558792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80625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129160" y="558792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203680" y="55879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37160" y="558792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172320" y="42195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36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35052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409200" y="421956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6824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534480" y="4219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78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61440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82800" y="4219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55520" y="4219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21760" y="4219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72680" y="438156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2308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59800" y="438156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37140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4437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12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47440" y="43815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91360" y="438156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6270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693960" y="438156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768480" y="4381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801600" y="438156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91360" y="5527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48748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56200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21040" y="5527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764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60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81904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877720" y="5527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922360" y="5527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981400" y="5527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390280" y="568944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43492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48604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5587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56178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69232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72580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92040" y="568944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3160" y="56894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8762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934600" y="5689440"/>
              <a:ext cx="118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04620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0488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6392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23196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291000" y="56894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63720" y="568944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422760" y="5689440"/>
              <a:ext cx="70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90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4932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50764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4000" y="585000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57928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3796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682600" y="585000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727240" y="58500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760720" y="585000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834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884200" y="5850000"/>
              <a:ext cx="63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942880" y="5850000"/>
              <a:ext cx="5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086360" y="3751200"/>
              <a:ext cx="452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959280" y="3682800"/>
              <a:ext cx="129960" cy="1335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82" y="0"/>
                  </a:moveTo>
                  <a:lnTo>
                    <a:pt x="0" y="43"/>
                  </a:lnTo>
                  <a:lnTo>
                    <a:pt x="82" y="8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535640" y="3686040"/>
              <a:ext cx="129960" cy="131760"/>
            </a:xfrm>
            <a:custGeom>
              <a:avLst/>
              <a:gdLst/>
              <a:ahLst/>
              <a:rect l="l" t="t" r="r" b="b"/>
              <a:pathLst>
                <a:path w="82" h="83">
                  <a:moveTo>
                    <a:pt x="0" y="83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5238360" y="4761000"/>
              <a:ext cx="65160" cy="93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45200" y="465624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0" y="91"/>
                  </a:moveTo>
                  <a:lnTo>
                    <a:pt x="79" y="0"/>
                  </a:lnTo>
                  <a:lnTo>
                    <a:pt x="0" y="46"/>
                  </a:lnTo>
                  <a:lnTo>
                    <a:pt x="7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168880" y="4813200"/>
              <a:ext cx="128520" cy="144360"/>
            </a:xfrm>
            <a:custGeom>
              <a:avLst/>
              <a:gdLst/>
              <a:ahLst/>
              <a:rect l="l" t="t" r="r" b="b"/>
              <a:pathLst>
                <a:path w="81" h="91">
                  <a:moveTo>
                    <a:pt x="12" y="0"/>
                  </a:moveTo>
                  <a:lnTo>
                    <a:pt x="0" y="91"/>
                  </a:lnTo>
                  <a:lnTo>
                    <a:pt x="81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88320" y="4622760"/>
              <a:ext cx="396720" cy="264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883560" y="45561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1" y="9"/>
                  </a:moveTo>
                  <a:lnTo>
                    <a:pt x="0" y="0"/>
                  </a:lnTo>
                  <a:lnTo>
                    <a:pt x="46" y="79"/>
                  </a:lnTo>
                  <a:lnTo>
                    <a:pt x="9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42200" y="4830840"/>
              <a:ext cx="146160" cy="126720"/>
            </a:xfrm>
            <a:custGeom>
              <a:avLst/>
              <a:gdLst/>
              <a:ahLst/>
              <a:rect l="l" t="t" r="r" b="b"/>
              <a:pathLst>
                <a:path w="92" h="80">
                  <a:moveTo>
                    <a:pt x="0" y="68"/>
                  </a:moveTo>
                  <a:lnTo>
                    <a:pt x="92" y="80"/>
                  </a:lnTo>
                  <a:lnTo>
                    <a:pt x="47" y="0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7178400" y="2622600"/>
              <a:ext cx="517320" cy="444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650000" y="2543040"/>
              <a:ext cx="140040" cy="136440"/>
            </a:xfrm>
            <a:custGeom>
              <a:avLst/>
              <a:gdLst/>
              <a:ahLst/>
              <a:rect l="l" t="t" r="r" b="b"/>
              <a:pathLst>
                <a:path w="88" h="86">
                  <a:moveTo>
                    <a:pt x="54" y="86"/>
                  </a:moveTo>
                  <a:lnTo>
                    <a:pt x="88" y="0"/>
                  </a:lnTo>
                  <a:lnTo>
                    <a:pt x="0" y="23"/>
                  </a:lnTo>
                  <a:lnTo>
                    <a:pt x="54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085160" y="301140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34" y="0"/>
                  </a:moveTo>
                  <a:lnTo>
                    <a:pt x="0" y="85"/>
                  </a:lnTo>
                  <a:lnTo>
                    <a:pt x="88" y="6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045040" y="2539800"/>
              <a:ext cx="247680" cy="3096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967280" y="244296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85" y="37"/>
                  </a:moveTo>
                  <a:lnTo>
                    <a:pt x="0" y="0"/>
                  </a:lnTo>
                  <a:lnTo>
                    <a:pt x="20" y="90"/>
                  </a:lnTo>
                  <a:lnTo>
                    <a:pt x="85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235480" y="2803320"/>
              <a:ext cx="135000" cy="142920"/>
            </a:xfrm>
            <a:custGeom>
              <a:avLst/>
              <a:gdLst/>
              <a:ahLst/>
              <a:rect l="l" t="t" r="r" b="b"/>
              <a:pathLst>
                <a:path w="85" h="90">
                  <a:moveTo>
                    <a:pt x="0" y="53"/>
                  </a:moveTo>
                  <a:lnTo>
                    <a:pt x="85" y="90"/>
                  </a:lnTo>
                  <a:lnTo>
                    <a:pt x="65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2" name=""/>
          <p:cNvSpPr/>
          <p:nvPr/>
        </p:nvSpPr>
        <p:spPr>
          <a:xfrm>
            <a:off x="190080" y="1441440"/>
            <a:ext cx="364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s, identiti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ats, load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ically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term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beginning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exec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ons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and how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ht have to evol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efficient and rob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6D8-D6A1-422F-8B76-114DC93032A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ut takes several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181520" y="1635120"/>
            <a:ext cx="67752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s, the research community is develop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different approaches to deal with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efficiency, robustness, adaptability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lexibility for distributed computing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propose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, mobile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d on strong code mobility, to solve m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lems in a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fied framewor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E8BF-0EDD-46A2-ABAF-ED78A49CDD92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351000" y="515880"/>
            <a:ext cx="84405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extend other techniques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16120" y="1828800"/>
            <a:ext cx="749448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PI - dynamic process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on - checkpointing to support process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va - process serialization and state capture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ce (rumo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re these all going to end up supporting code mobilit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any different systems are heading in the direction of mobile code.  Let’s go there directl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371520" y="1479600"/>
            <a:ext cx="81849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3DC8-CA31-4524-9E39-02A5A8E7CF8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192240" y="76320"/>
            <a:ext cx="87962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ig picture: A uniform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70160" y="1090440"/>
            <a:ext cx="8131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SUMMARY (so f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several different strengths of mobile ag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code helps solve various performanc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bustness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iosyncratic solutions exist in each problem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provide a unified framework, a sin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for solving m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t’s go directly to where many different sys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olving,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E599-D848-4F75-A266-390EDC44A61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58840" y="1905120"/>
            <a:ext cx="49021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0720" y="2514600"/>
            <a:ext cx="990360" cy="609480"/>
          </a:xfrm>
          <a:prstGeom prst="rightArrow">
            <a:avLst>
              <a:gd name="adj1" fmla="val 50000"/>
              <a:gd name="adj2" fmla="val 4062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CE3-403E-47A2-AE30-57D8153875E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esentative syst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134720" y="1832040"/>
            <a:ext cx="6885360" cy="3139920"/>
            <a:chOff x="1134720" y="1832040"/>
            <a:chExt cx="6885360" cy="3139920"/>
          </a:xfrm>
        </p:grpSpPr>
        <p:sp>
          <p:nvSpPr>
            <p:cNvPr id="1285" name=""/>
            <p:cNvSpPr/>
            <p:nvPr/>
          </p:nvSpPr>
          <p:spPr>
            <a:xfrm>
              <a:off x="1134720" y="1832040"/>
              <a:ext cx="271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Java-based 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252440" y="2633400"/>
              <a:ext cx="2479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Othe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ingle-langu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167840" y="4146480"/>
              <a:ext cx="2648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ultiple-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303800" y="1861920"/>
              <a:ext cx="37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glets, Voyager, Jumping Bea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60040" y="3028680"/>
              <a:ext cx="340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Messengers, Obliq, Telescri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80800" y="4360680"/>
              <a:ext cx="276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ra, Tacoma, D’Ag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0832-8893-4AAE-B6AE-7C3E1482CE16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1121400" y="1281240"/>
            <a:ext cx="6903360" cy="4892760"/>
            <a:chOff x="1121400" y="1281240"/>
            <a:chExt cx="6903360" cy="4892760"/>
          </a:xfrm>
        </p:grpSpPr>
        <p:sp>
          <p:nvSpPr>
            <p:cNvPr id="1293" name=""/>
            <p:cNvSpPr/>
            <p:nvPr/>
          </p:nvSpPr>
          <p:spPr>
            <a:xfrm>
              <a:off x="2973240" y="1281240"/>
              <a:ext cx="41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Procedure Call (RPC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977920" y="203652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etwork Command Language (NC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974680" y="2816280"/>
              <a:ext cx="36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mote Evaluation (REV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971080" y="3529080"/>
              <a:ext cx="283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elescript (released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75760" y="4251240"/>
              <a:ext cx="1400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D’Ag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le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Taco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…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517760" y="128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517760" y="2814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519560" y="35272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121400" y="4251240"/>
              <a:ext cx="15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94 - n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517760" y="20365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198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072E-7DDF-434B-98C7-744C5618CB8B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7000" y="1233360"/>
            <a:ext cx="4902120" cy="47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ntroduction to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otivating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asons for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mpeting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 “big pictur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presentative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Java-bas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sing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ultiple-languag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E7D9-A949-40C9-B3E1-AE4258F138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ces and similariti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650680" y="1084320"/>
            <a:ext cx="3815280" cy="640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569960" y="2835360"/>
            <a:ext cx="5978160" cy="640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mperati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unctional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Decla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073240" y="1959120"/>
            <a:ext cx="4970520" cy="640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rong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8960" y="3714840"/>
            <a:ext cx="7760880" cy="640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Interpre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Just-in-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oftwar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820880" y="4586400"/>
            <a:ext cx="5476320" cy="640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tand-alon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ght Web 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483560" y="5457960"/>
            <a:ext cx="615312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MG/FIPA standard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v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que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2FB5-AD2D-4C26-8B3E-6B072CA4D34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67840" y="1255680"/>
            <a:ext cx="8580600" cy="1194840"/>
            <a:chOff x="267840" y="1255680"/>
            <a:chExt cx="8580600" cy="1194840"/>
          </a:xfrm>
        </p:grpSpPr>
        <p:sp>
          <p:nvSpPr>
            <p:cNvPr id="1312" name=""/>
            <p:cNvSpPr/>
            <p:nvPr/>
          </p:nvSpPr>
          <p:spPr>
            <a:xfrm>
              <a:off x="267840" y="1255680"/>
              <a:ext cx="182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Portabili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031040" y="1990800"/>
              <a:ext cx="781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mpiled into bytecodes for a stack-based virtual mach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268560" y="3925800"/>
            <a:ext cx="14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1033560" y="3365640"/>
            <a:ext cx="7442280" cy="2390760"/>
            <a:chOff x="1033560" y="3365640"/>
            <a:chExt cx="7442280" cy="2390760"/>
          </a:xfrm>
        </p:grpSpPr>
        <p:sp>
          <p:nvSpPr>
            <p:cNvPr id="1316" name=""/>
            <p:cNvSpPr/>
            <p:nvPr/>
          </p:nvSpPr>
          <p:spPr>
            <a:xfrm>
              <a:off x="1033560" y="4764240"/>
              <a:ext cx="1104840" cy="992160"/>
            </a:xfrm>
            <a:prstGeom prst="foldedCorner">
              <a:avLst>
                <a:gd name="adj" fmla="val 20546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38680" y="4851360"/>
              <a:ext cx="128880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yt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verifi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62680" y="4851360"/>
              <a:ext cx="1289160" cy="817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la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186680" y="4851360"/>
              <a:ext cx="1289160" cy="817560"/>
            </a:xfrm>
            <a:prstGeom prst="ellipse">
              <a:avLst/>
            </a:prstGeom>
            <a:solidFill>
              <a:srgbClr val="ff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un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V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02520" y="3365640"/>
              <a:ext cx="1422360" cy="952560"/>
            </a:xfrm>
            <a:prstGeom prst="ellipse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cu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187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4311720" y="5259600"/>
              <a:ext cx="70632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 flipV="1">
              <a:off x="7310160" y="4293720"/>
              <a:ext cx="314280" cy="53820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432480" y="5259600"/>
              <a:ext cx="7066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7653-5881-43CA-A691-4014D5C01A02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le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1440" y="2478240"/>
            <a:ext cx="6264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t-driven programming model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Dispatch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nArri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ies” for location transpa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630440" y="1252440"/>
            <a:ext cx="5888520" cy="815400"/>
            <a:chOff x="1630440" y="1252440"/>
            <a:chExt cx="5888520" cy="815400"/>
          </a:xfrm>
        </p:grpSpPr>
        <p:pic>
          <p:nvPicPr>
            <p:cNvPr id="1328" name="aglets" descr=""/>
            <p:cNvPicPr/>
            <p:nvPr/>
          </p:nvPicPr>
          <p:blipFill>
            <a:blip r:embed="rId1"/>
            <a:stretch/>
          </p:blipFill>
          <p:spPr>
            <a:xfrm>
              <a:off x="1712880" y="1252440"/>
              <a:ext cx="571500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3250800" y="1608120"/>
              <a:ext cx="426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http://www.trl.ibm.co.jp/aglets/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30440" y="1606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IB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E1E-5825-4B79-8F8F-F33B9E0CD18C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umping Bea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2" name=""/>
          <p:cNvGrpSpPr/>
          <p:nvPr/>
        </p:nvGrpSpPr>
        <p:grpSpPr>
          <a:xfrm>
            <a:off x="164880" y="1252440"/>
            <a:ext cx="4340520" cy="4560840"/>
            <a:chOff x="164880" y="1252440"/>
            <a:chExt cx="4340520" cy="4560840"/>
          </a:xfrm>
        </p:grpSpPr>
        <p:sp>
          <p:nvSpPr>
            <p:cNvPr id="1333" name=""/>
            <p:cNvSpPr/>
            <p:nvPr/>
          </p:nvSpPr>
          <p:spPr>
            <a:xfrm>
              <a:off x="1893960" y="3049560"/>
              <a:ext cx="1255680" cy="103032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ent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79680" y="1852560"/>
              <a:ext cx="2106360" cy="601560"/>
            </a:xfrm>
            <a:prstGeom prst="parallelogram">
              <a:avLst>
                <a:gd name="adj" fmla="val 10053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106720" y="174600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4880" y="1554120"/>
              <a:ext cx="172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ini-server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16200" y="1825560"/>
              <a:ext cx="36972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39760" y="5211720"/>
              <a:ext cx="2106720" cy="601560"/>
            </a:xfrm>
            <a:prstGeom prst="parallelogram">
              <a:avLst>
                <a:gd name="adj" fmla="val 100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66800" y="5105160"/>
              <a:ext cx="1108080" cy="56052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398680" y="5194080"/>
              <a:ext cx="2106720" cy="601920"/>
            </a:xfrm>
            <a:prstGeom prst="parallelogram">
              <a:avLst>
                <a:gd name="adj" fmla="val 10049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25720" y="5087880"/>
              <a:ext cx="1108080" cy="560160"/>
            </a:xfrm>
            <a:prstGeom prst="cube">
              <a:avLst>
                <a:gd name="adj" fmla="val 3002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044720" y="4601880"/>
              <a:ext cx="534960" cy="594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3" name="agentred" descr=""/>
            <p:cNvPicPr/>
            <p:nvPr/>
          </p:nvPicPr>
          <p:blipFill>
            <a:blip r:embed="rId1"/>
            <a:stretch/>
          </p:blipFill>
          <p:spPr>
            <a:xfrm>
              <a:off x="2390760" y="1252440"/>
              <a:ext cx="5223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 flipV="1">
              <a:off x="1603440" y="4089240"/>
              <a:ext cx="347760" cy="48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2495520" y="2314440"/>
              <a:ext cx="57240" cy="658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60400" y="2744640"/>
              <a:ext cx="990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Jump </a:t>
              </a: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through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 central 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4695840" y="1071720"/>
            <a:ext cx="4331160" cy="4961160"/>
            <a:chOff x="4695840" y="1071720"/>
            <a:chExt cx="4331160" cy="4961160"/>
          </a:xfrm>
        </p:grpSpPr>
        <p:sp>
          <p:nvSpPr>
            <p:cNvPr id="1348" name=""/>
            <p:cNvSpPr/>
            <p:nvPr/>
          </p:nvSpPr>
          <p:spPr>
            <a:xfrm>
              <a:off x="4695840" y="2251080"/>
              <a:ext cx="4325760" cy="37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Ja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Weak mobi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Central server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for tracking, managing and authenticating agents (but also failure point and bottleneck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ersistent sto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1500"/>
                </a:spcBef>
                <a:buClr>
                  <a:srgbClr val="3333c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Machine prote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9" name="jumpingbean" descr=""/>
            <p:cNvPicPr/>
            <p:nvPr/>
          </p:nvPicPr>
          <p:blipFill>
            <a:blip r:embed="rId2"/>
            <a:stretch/>
          </p:blipFill>
          <p:spPr>
            <a:xfrm>
              <a:off x="4752720" y="1136520"/>
              <a:ext cx="83628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5348520" y="1468440"/>
              <a:ext cx="367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JumpingBeans.com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696280" y="1071720"/>
              <a:ext cx="257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Ad Astra Enginee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E883-8203-4B74-82A0-F2F68A018C91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yag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801720" y="2544840"/>
            <a:ext cx="75423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Built on top of COR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ted directory service and group communication (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060800" y="206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206960" y="200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649440" y="1192320"/>
            <a:ext cx="7851240" cy="1082520"/>
            <a:chOff x="649440" y="1192320"/>
            <a:chExt cx="7851240" cy="1082520"/>
          </a:xfrm>
        </p:grpSpPr>
        <p:pic>
          <p:nvPicPr>
            <p:cNvPr id="1357" name="voyager" descr=""/>
            <p:cNvPicPr/>
            <p:nvPr/>
          </p:nvPicPr>
          <p:blipFill>
            <a:blip r:embed="rId1"/>
            <a:stretch/>
          </p:blipFill>
          <p:spPr>
            <a:xfrm>
              <a:off x="649440" y="1192320"/>
              <a:ext cx="2396880" cy="108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"/>
            <p:cNvGrpSpPr/>
            <p:nvPr/>
          </p:nvGrpSpPr>
          <p:grpSpPr>
            <a:xfrm>
              <a:off x="3206880" y="1274760"/>
              <a:ext cx="5293800" cy="919440"/>
              <a:chOff x="3206880" y="1274760"/>
              <a:chExt cx="5293800" cy="919440"/>
            </a:xfrm>
          </p:grpSpPr>
          <p:sp>
            <p:nvSpPr>
              <p:cNvPr id="1359" name=""/>
              <p:cNvSpPr/>
              <p:nvPr/>
            </p:nvSpPr>
            <p:spPr>
              <a:xfrm>
                <a:off x="3217680" y="1274760"/>
                <a:ext cx="182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ObjectSpac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3206880" y="1795320"/>
                <a:ext cx="529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objectspace.com/products/voyager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40F4-B26C-45B9-88B4-A2ADEC1310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Java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560600" y="1968480"/>
            <a:ext cx="6024600" cy="26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mited per-thread resource accounting (or enforceme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29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pport for multiple language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efficient on top of 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1BF-8E56-4D7C-9229-8F794AFFB23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sseng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985680" y="1324080"/>
            <a:ext cx="7170840" cy="820800"/>
            <a:chOff x="985680" y="1324080"/>
            <a:chExt cx="7170840" cy="820800"/>
          </a:xfrm>
        </p:grpSpPr>
        <p:pic>
          <p:nvPicPr>
            <p:cNvPr id="1365" name="messengers" descr=""/>
            <p:cNvPicPr/>
            <p:nvPr/>
          </p:nvPicPr>
          <p:blipFill>
            <a:blip r:embed="rId1"/>
            <a:stretch/>
          </p:blipFill>
          <p:spPr>
            <a:xfrm>
              <a:off x="985680" y="1365120"/>
              <a:ext cx="1890720" cy="73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"/>
            <p:cNvGrpSpPr/>
            <p:nvPr/>
          </p:nvGrpSpPr>
          <p:grpSpPr>
            <a:xfrm>
              <a:off x="3129480" y="1324080"/>
              <a:ext cx="5027040" cy="820800"/>
              <a:chOff x="3129480" y="1324080"/>
              <a:chExt cx="5027040" cy="820800"/>
            </a:xfrm>
          </p:grpSpPr>
          <p:sp>
            <p:nvSpPr>
              <p:cNvPr id="1367" name=""/>
              <p:cNvSpPr/>
              <p:nvPr/>
            </p:nvSpPr>
            <p:spPr>
              <a:xfrm>
                <a:off x="3134160" y="1324080"/>
                <a:ext cx="2475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Genev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3129480" y="1746000"/>
                <a:ext cx="502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cuiwww.unige.ch/tios/msgr/home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446040" y="2533680"/>
            <a:ext cx="82584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Ø (similar to Postscr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nded for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low-level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e.g., in the Messenger Operating System (M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lletin boards for data exchange and service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, but work on fine-grained resource control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913-3DEF-4036-8ABD-422723A4285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liq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1" name=""/>
          <p:cNvGrpSpPr/>
          <p:nvPr/>
        </p:nvGrpSpPr>
        <p:grpSpPr>
          <a:xfrm>
            <a:off x="420840" y="1130400"/>
            <a:ext cx="8318880" cy="1369800"/>
            <a:chOff x="420840" y="1130400"/>
            <a:chExt cx="8318880" cy="1369800"/>
          </a:xfrm>
        </p:grpSpPr>
        <p:pic>
          <p:nvPicPr>
            <p:cNvPr id="1372" name="obliq" descr=""/>
            <p:cNvPicPr/>
            <p:nvPr/>
          </p:nvPicPr>
          <p:blipFill>
            <a:blip r:embed="rId1"/>
            <a:stretch/>
          </p:blipFill>
          <p:spPr>
            <a:xfrm>
              <a:off x="420840" y="1130400"/>
              <a:ext cx="1992600" cy="1369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3" name=""/>
            <p:cNvGrpSpPr/>
            <p:nvPr/>
          </p:nvGrpSpPr>
          <p:grpSpPr>
            <a:xfrm>
              <a:off x="2517840" y="1398240"/>
              <a:ext cx="6221880" cy="834840"/>
              <a:chOff x="2517840" y="1398240"/>
              <a:chExt cx="6221880" cy="834840"/>
            </a:xfrm>
          </p:grpSpPr>
          <p:sp>
            <p:nvSpPr>
              <p:cNvPr id="1374" name=""/>
              <p:cNvSpPr/>
              <p:nvPr/>
            </p:nvSpPr>
            <p:spPr>
              <a:xfrm>
                <a:off x="2526120" y="1398240"/>
                <a:ext cx="29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DEC Research (Compaq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2517840" y="1834200"/>
                <a:ext cx="622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research.digital.com/SRC/Obliq/Obliq.htm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6" name=""/>
          <p:cNvSpPr/>
          <p:nvPr/>
        </p:nvSpPr>
        <p:spPr>
          <a:xfrm>
            <a:off x="923760" y="2689200"/>
            <a:ext cx="72853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Obliq (interpreted, lexically scoped, object-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Full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sual Obli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imited security (access checks in Visual Obli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2A2D-CCBA-4668-BC18-18F217C55D08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lescrip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12840" y="2467080"/>
            <a:ext cx="85168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elescript (object-oriented language similar to Java and C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lescript is compiled into “Low” Telescript, bytecodes for a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istent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longer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516480" y="1197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General Ma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741400" y="1633680"/>
            <a:ext cx="36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http://www.genmagic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FDD-70D1-43E7-B8DD-A16A6F192928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y not a single language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824120" y="2556000"/>
            <a:ext cx="5495760" cy="1371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bile agents hav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any applic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no one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good for all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B9D9-720F-456B-ABEF-362632D00B33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line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30760" y="1074600"/>
            <a:ext cx="5066640" cy="49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F50-4DBB-48D9-AD52-AD53FB00C8E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1151640" y="1157400"/>
            <a:ext cx="6838920" cy="895320"/>
            <a:chOff x="1151640" y="1157400"/>
            <a:chExt cx="6838920" cy="895320"/>
          </a:xfrm>
        </p:grpSpPr>
        <p:pic>
          <p:nvPicPr>
            <p:cNvPr id="1385" name="ara" descr=""/>
            <p:cNvPicPr/>
            <p:nvPr/>
          </p:nvPicPr>
          <p:blipFill>
            <a:blip r:embed="rId1"/>
            <a:stretch/>
          </p:blipFill>
          <p:spPr>
            <a:xfrm>
              <a:off x="2450880" y="1157400"/>
              <a:ext cx="42386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6" name=""/>
            <p:cNvSpPr/>
            <p:nvPr/>
          </p:nvSpPr>
          <p:spPr>
            <a:xfrm>
              <a:off x="1151640" y="1549440"/>
              <a:ext cx="68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Times New Roman"/>
                </a:rPr>
                <a:t>http://www.uni-kl.de/AG-Nehmer/Projekte/Ara/index_e.htm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1101600" y="2467080"/>
            <a:ext cx="69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/C++, Java and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trong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/C++ compiled into bytecodes for RISC 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erver plus all agents inside one Unix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741-82B8-4FCF-A121-8340C3CB0443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com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139760" y="2773440"/>
            <a:ext cx="6869160" cy="34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, Tcl/Tk, Scheme, Python, Perl (public release), several more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Weak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Single, simple abstraction: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m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sy to add a new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166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ss opportunity for optim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chine protection (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2003760" y="1177920"/>
            <a:ext cx="5141520" cy="1430280"/>
            <a:chOff x="2003760" y="1177920"/>
            <a:chExt cx="5141520" cy="1430280"/>
          </a:xfrm>
        </p:grpSpPr>
        <p:grpSp>
          <p:nvGrpSpPr>
            <p:cNvPr id="1391" name=""/>
            <p:cNvGrpSpPr/>
            <p:nvPr/>
          </p:nvGrpSpPr>
          <p:grpSpPr>
            <a:xfrm>
              <a:off x="2003760" y="1863720"/>
              <a:ext cx="5141520" cy="744480"/>
              <a:chOff x="2003760" y="1863720"/>
              <a:chExt cx="5141520" cy="744480"/>
            </a:xfrm>
          </p:grpSpPr>
          <p:sp>
            <p:nvSpPr>
              <p:cNvPr id="1392" name=""/>
              <p:cNvSpPr/>
              <p:nvPr/>
            </p:nvSpPr>
            <p:spPr>
              <a:xfrm>
                <a:off x="2005920" y="1863720"/>
                <a:ext cx="471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University of Tromsø / Cornell Universit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003760" y="2209320"/>
                <a:ext cx="51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tacoma.cs.uit.no:8080/TACOMA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394" name="tacoma" descr=""/>
            <p:cNvPicPr/>
            <p:nvPr/>
          </p:nvPicPr>
          <p:blipFill>
            <a:blip r:embed="rId1"/>
            <a:stretch/>
          </p:blipFill>
          <p:spPr>
            <a:xfrm>
              <a:off x="2014560" y="1177920"/>
              <a:ext cx="5000400" cy="69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11E-0898-4BF3-92F1-FFAAA18C941E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094840" y="1981080"/>
            <a:ext cx="49341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876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Video and coff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D’Agents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Tcl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xample: Writing a Java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077840" y="2597040"/>
            <a:ext cx="990720" cy="609840"/>
          </a:xfrm>
          <a:prstGeom prst="rightArrow">
            <a:avLst>
              <a:gd name="adj1" fmla="val 50000"/>
              <a:gd name="adj2" fmla="val 4061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608-6685-4DCA-83D7-E5646779907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dagents" descr=""/>
          <p:cNvPicPr/>
          <p:nvPr/>
        </p:nvPicPr>
        <p:blipFill>
          <a:blip r:embed="rId1"/>
          <a:stretch/>
        </p:blipFill>
        <p:spPr>
          <a:xfrm>
            <a:off x="357120" y="-3240"/>
            <a:ext cx="3113280" cy="2124000"/>
          </a:xfrm>
          <a:prstGeom prst="rect">
            <a:avLst/>
          </a:prstGeom>
          <a:ln w="0">
            <a:noFill/>
          </a:ln>
        </p:spPr>
      </p:pic>
      <p:sp>
        <p:nvSpPr>
          <p:cNvPr id="1399" name=""/>
          <p:cNvSpPr/>
          <p:nvPr/>
        </p:nvSpPr>
        <p:spPr>
          <a:xfrm>
            <a:off x="4267080" y="60948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http://agent.cs.dartmouth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382640" y="1114560"/>
            <a:ext cx="38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oject started Spring,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4294080" y="2352600"/>
            <a:ext cx="4570560" cy="3767040"/>
            <a:chOff x="4294080" y="2352600"/>
            <a:chExt cx="4570560" cy="3767040"/>
          </a:xfrm>
        </p:grpSpPr>
        <p:sp>
          <p:nvSpPr>
            <p:cNvPr id="1402" name=""/>
            <p:cNvSpPr/>
            <p:nvPr/>
          </p:nvSpPr>
          <p:spPr>
            <a:xfrm>
              <a:off x="4294080" y="2352600"/>
              <a:ext cx="4570560" cy="15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Halfway the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munication and migration overhead not as low as possi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4294080" y="4167000"/>
              <a:ext cx="4570560" cy="19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prot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in trans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 agent protection while </a:t>
              </a:r>
              <a:r>
                <a:rPr b="1" lang="en-US" sz="2000" spc="-1" strike="noStrike" u="sng">
                  <a:solidFill>
                    <a:srgbClr val="990000"/>
                  </a:solidFill>
                  <a:uFillTx/>
                  <a:latin typeface="Times New Roman"/>
                </a:rPr>
                <a:t>on a machi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4" name=""/>
          <p:cNvGrpSpPr/>
          <p:nvPr/>
        </p:nvGrpSpPr>
        <p:grpSpPr>
          <a:xfrm>
            <a:off x="709200" y="2352600"/>
            <a:ext cx="3105720" cy="3839040"/>
            <a:chOff x="709200" y="2352600"/>
            <a:chExt cx="3105720" cy="3839040"/>
          </a:xfrm>
        </p:grpSpPr>
        <p:sp>
          <p:nvSpPr>
            <p:cNvPr id="1405" name=""/>
            <p:cNvSpPr/>
            <p:nvPr/>
          </p:nvSpPr>
          <p:spPr>
            <a:xfrm>
              <a:off x="709200" y="2352600"/>
              <a:ext cx="2664720" cy="16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Multiple languag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che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09560" y="4130640"/>
              <a:ext cx="3105360" cy="20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00"/>
                  </a:solidFill>
                  <a:latin typeface="Times New Roman"/>
                </a:rPr>
                <a:t>Support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irectory 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ac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ebugger (T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 indent="-227160">
                <a:lnSpc>
                  <a:spcPct val="100000"/>
                </a:lnSpc>
                <a:spcBef>
                  <a:spcPts val="7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18DA-2693-42DA-A9B4-B6898B1671EC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Mobility Mode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042280" y="1138320"/>
            <a:ext cx="508788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 mobility / 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71440" y="4595760"/>
            <a:ext cx="4427640" cy="1143000"/>
          </a:xfrm>
          <a:prstGeom prst="parallelogram">
            <a:avLst>
              <a:gd name="adj" fmla="val 968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346040" y="575640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079640" y="3630600"/>
            <a:ext cx="2859120" cy="1668600"/>
          </a:xfrm>
          <a:prstGeom prst="cube">
            <a:avLst>
              <a:gd name="adj" fmla="val 96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pture agen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Sign/encrypt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end state to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-2520" y="42908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076400" y="2116080"/>
            <a:ext cx="2859120" cy="1668600"/>
          </a:xfrm>
          <a:prstGeom prst="cube">
            <a:avLst>
              <a:gd name="adj" fmla="val 96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arched = searched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mp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eet with search-engi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1360" y="22845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96880" y="2859120"/>
            <a:ext cx="538200" cy="380880"/>
          </a:xfrm>
          <a:prstGeom prst="rightArrow">
            <a:avLst>
              <a:gd name="adj1" fmla="val 38333"/>
              <a:gd name="adj2" fmla="val 4710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808200" y="3182760"/>
            <a:ext cx="336240" cy="884520"/>
          </a:xfrm>
          <a:custGeom>
            <a:avLst/>
            <a:gdLst/>
            <a:ahLst/>
            <a:rect l="l" t="t" r="r" b="b"/>
            <a:pathLst>
              <a:path w="212" h="557">
                <a:moveTo>
                  <a:pt x="212" y="0"/>
                </a:moveTo>
                <a:cubicBezTo>
                  <a:pt x="106" y="115"/>
                  <a:pt x="0" y="231"/>
                  <a:pt x="0" y="324"/>
                </a:cubicBezTo>
                <a:cubicBezTo>
                  <a:pt x="0" y="417"/>
                  <a:pt x="106" y="487"/>
                  <a:pt x="212" y="557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4602240" y="2116080"/>
            <a:ext cx="4427640" cy="4088520"/>
            <a:chOff x="4602240" y="2116080"/>
            <a:chExt cx="4427640" cy="4088520"/>
          </a:xfrm>
        </p:grpSpPr>
        <p:grpSp>
          <p:nvGrpSpPr>
            <p:cNvPr id="1418" name=""/>
            <p:cNvGrpSpPr/>
            <p:nvPr/>
          </p:nvGrpSpPr>
          <p:grpSpPr>
            <a:xfrm>
              <a:off x="4602240" y="2116080"/>
              <a:ext cx="4427640" cy="4088520"/>
              <a:chOff x="4602240" y="2116080"/>
              <a:chExt cx="4427640" cy="4088520"/>
            </a:xfrm>
          </p:grpSpPr>
          <p:sp>
            <p:nvSpPr>
              <p:cNvPr id="1419" name=""/>
              <p:cNvSpPr/>
              <p:nvPr/>
            </p:nvSpPr>
            <p:spPr>
              <a:xfrm>
                <a:off x="4602240" y="4584600"/>
                <a:ext cx="4427640" cy="1143000"/>
              </a:xfrm>
              <a:prstGeom prst="parallelogram">
                <a:avLst>
                  <a:gd name="adj" fmla="val 96843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676480" y="5744880"/>
                <a:ext cx="1595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418360" y="361944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6. Resume ag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. Restore st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. Authentica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18360" y="2116080"/>
                <a:ext cx="2859120" cy="1668240"/>
              </a:xfrm>
              <a:prstGeom prst="cube">
                <a:avLst>
                  <a:gd name="adj" fmla="val 9638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earched = searched + 1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jump B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meet with search-engine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3" name=""/>
            <p:cNvSpPr/>
            <p:nvPr/>
          </p:nvSpPr>
          <p:spPr>
            <a:xfrm>
              <a:off x="4929120" y="3135240"/>
              <a:ext cx="538200" cy="380880"/>
            </a:xfrm>
            <a:prstGeom prst="rightArrow">
              <a:avLst>
                <a:gd name="adj1" fmla="val 38333"/>
                <a:gd name="adj2" fmla="val 4710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>
            <a:off x="3327480" y="4908600"/>
            <a:ext cx="21636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253120" y="3462480"/>
            <a:ext cx="237960" cy="69516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136" y="438"/>
                </a:moveTo>
                <a:cubicBezTo>
                  <a:pt x="68" y="407"/>
                  <a:pt x="0" y="377"/>
                  <a:pt x="2" y="304"/>
                </a:cubicBezTo>
                <a:cubicBezTo>
                  <a:pt x="4" y="231"/>
                  <a:pt x="77" y="115"/>
                  <a:pt x="150" y="0"/>
                </a:cubicBez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740-8F64-4A3F-8DB0-78A387381ED0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Architectur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2240" y="4606920"/>
            <a:ext cx="4651200" cy="1143000"/>
          </a:xfrm>
          <a:prstGeom prst="parallelogram">
            <a:avLst>
              <a:gd name="adj" fmla="val 909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446120" y="581328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950760" y="4538520"/>
            <a:ext cx="2992680" cy="795600"/>
          </a:xfrm>
          <a:prstGeom prst="cube">
            <a:avLst>
              <a:gd name="adj" fmla="val 257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port (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50760" y="3875040"/>
            <a:ext cx="299268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50760" y="2995560"/>
            <a:ext cx="112896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78120" y="2995560"/>
            <a:ext cx="11509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816280" y="2995560"/>
            <a:ext cx="112860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ch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950760" y="2327400"/>
            <a:ext cx="2989440" cy="86184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5" name="agentred" descr=""/>
          <p:cNvPicPr/>
          <p:nvPr/>
        </p:nvPicPr>
        <p:blipFill>
          <a:blip r:embed="rId1"/>
          <a:stretch/>
        </p:blipFill>
        <p:spPr>
          <a:xfrm>
            <a:off x="1228680" y="187812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6" name="agentred" descr=""/>
          <p:cNvPicPr/>
          <p:nvPr/>
        </p:nvPicPr>
        <p:blipFill>
          <a:blip r:embed="rId2"/>
          <a:stretch/>
        </p:blipFill>
        <p:spPr>
          <a:xfrm>
            <a:off x="1890720" y="1947960"/>
            <a:ext cx="495360" cy="512640"/>
          </a:xfrm>
          <a:prstGeom prst="rect">
            <a:avLst/>
          </a:prstGeom>
          <a:ln w="0">
            <a:noFill/>
          </a:ln>
        </p:spPr>
      </p:pic>
      <p:pic>
        <p:nvPicPr>
          <p:cNvPr id="1437" name="agentred" descr=""/>
          <p:cNvPicPr/>
          <p:nvPr/>
        </p:nvPicPr>
        <p:blipFill>
          <a:blip r:embed="rId3"/>
          <a:stretch/>
        </p:blipFill>
        <p:spPr>
          <a:xfrm>
            <a:off x="2538360" y="1876320"/>
            <a:ext cx="495360" cy="513000"/>
          </a:xfrm>
          <a:prstGeom prst="rect">
            <a:avLst/>
          </a:prstGeom>
          <a:ln w="0">
            <a:noFill/>
          </a:ln>
        </p:spPr>
      </p:pic>
      <p:pic>
        <p:nvPicPr>
          <p:cNvPr id="1438" name="agentred" descr=""/>
          <p:cNvPicPr/>
          <p:nvPr/>
        </p:nvPicPr>
        <p:blipFill>
          <a:blip r:embed="rId4"/>
          <a:stretch/>
        </p:blipFill>
        <p:spPr>
          <a:xfrm>
            <a:off x="3170160" y="1928880"/>
            <a:ext cx="495360" cy="512640"/>
          </a:xfrm>
          <a:prstGeom prst="rect">
            <a:avLst/>
          </a:prstGeom>
          <a:ln w="0">
            <a:noFill/>
          </a:ln>
        </p:spPr>
      </p:pic>
      <p:sp>
        <p:nvSpPr>
          <p:cNvPr id="1439" name=""/>
          <p:cNvSpPr/>
          <p:nvPr/>
        </p:nvSpPr>
        <p:spPr>
          <a:xfrm>
            <a:off x="5245200" y="1511280"/>
            <a:ext cx="3638520" cy="3137040"/>
          </a:xfrm>
          <a:prstGeom prst="cube">
            <a:avLst>
              <a:gd name="adj" fmla="val 6074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887440" y="1128600"/>
            <a:ext cx="240120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M / Interpr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348680" y="2789280"/>
            <a:ext cx="1276200" cy="7840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348160" y="2789280"/>
            <a:ext cx="1276560" cy="7840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348240" y="1882800"/>
            <a:ext cx="1276560" cy="7840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6346800" y="3695760"/>
            <a:ext cx="1276200" cy="7840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b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385040" y="2589120"/>
            <a:ext cx="25704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370560" y="3503520"/>
            <a:ext cx="25740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6972480" y="2658960"/>
            <a:ext cx="1440" cy="103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6332400" y="2557440"/>
            <a:ext cx="214560" cy="27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V="1">
            <a:off x="3741840" y="1703160"/>
            <a:ext cx="1512720" cy="15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41840" y="4067280"/>
            <a:ext cx="15015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3943440" y="3865680"/>
            <a:ext cx="12999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943440" y="1512360"/>
            <a:ext cx="1490400" cy="14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79B-44DF-46CC-9C7D-2D58BD21197D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Hot Interpret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103560" y="5386320"/>
            <a:ext cx="2992320" cy="8622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5" name=""/>
          <p:cNvGrpSpPr/>
          <p:nvPr/>
        </p:nvGrpSpPr>
        <p:grpSpPr>
          <a:xfrm>
            <a:off x="401760" y="2459160"/>
            <a:ext cx="2384280" cy="1321920"/>
            <a:chOff x="401760" y="2459160"/>
            <a:chExt cx="2384280" cy="1321920"/>
          </a:xfrm>
        </p:grpSpPr>
        <p:sp>
          <p:nvSpPr>
            <p:cNvPr id="1456" name=""/>
            <p:cNvSpPr/>
            <p:nvPr/>
          </p:nvSpPr>
          <p:spPr>
            <a:xfrm>
              <a:off x="401760" y="2863800"/>
              <a:ext cx="2384280" cy="917280"/>
            </a:xfrm>
            <a:prstGeom prst="cube">
              <a:avLst>
                <a:gd name="adj" fmla="val 1856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223920" indent="-22392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57" name="agentred" descr=""/>
            <p:cNvPicPr/>
            <p:nvPr/>
          </p:nvPicPr>
          <p:blipFill>
            <a:blip r:embed="rId1"/>
            <a:stretch/>
          </p:blipFill>
          <p:spPr>
            <a:xfrm>
              <a:off x="202248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8" name="agentred" descr=""/>
            <p:cNvPicPr/>
            <p:nvPr/>
          </p:nvPicPr>
          <p:blipFill>
            <a:blip r:embed="rId2"/>
            <a:stretch/>
          </p:blipFill>
          <p:spPr>
            <a:xfrm>
              <a:off x="1568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agentred" descr=""/>
            <p:cNvPicPr/>
            <p:nvPr/>
          </p:nvPicPr>
          <p:blipFill>
            <a:blip r:embed="rId3"/>
            <a:stretch/>
          </p:blipFill>
          <p:spPr>
            <a:xfrm>
              <a:off x="110484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0" name="agentred" descr=""/>
            <p:cNvPicPr/>
            <p:nvPr/>
          </p:nvPicPr>
          <p:blipFill>
            <a:blip r:embed="rId4"/>
            <a:stretch/>
          </p:blipFill>
          <p:spPr>
            <a:xfrm>
              <a:off x="641520" y="2459160"/>
              <a:ext cx="495360" cy="512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61" name=""/>
            <p:cNvGrpSpPr/>
            <p:nvPr/>
          </p:nvGrpSpPr>
          <p:grpSpPr>
            <a:xfrm>
              <a:off x="807840" y="3163680"/>
              <a:ext cx="101880" cy="493560"/>
              <a:chOff x="807840" y="3163680"/>
              <a:chExt cx="101880" cy="493560"/>
            </a:xfrm>
          </p:grpSpPr>
          <p:sp>
            <p:nvSpPr>
              <p:cNvPr id="1462" name=""/>
              <p:cNvSpPr/>
              <p:nvPr/>
            </p:nvSpPr>
            <p:spPr>
              <a:xfrm flipH="1">
                <a:off x="808200" y="316368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08200" y="325404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808200" y="334296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808200" y="345564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807840" y="354456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590400" y="3214440"/>
              <a:ext cx="101880" cy="493560"/>
              <a:chOff x="590400" y="3214440"/>
              <a:chExt cx="101880" cy="493560"/>
            </a:xfrm>
          </p:grpSpPr>
          <p:sp>
            <p:nvSpPr>
              <p:cNvPr id="1468" name=""/>
              <p:cNvSpPr/>
              <p:nvPr/>
            </p:nvSpPr>
            <p:spPr>
              <a:xfrm flipH="1">
                <a:off x="590760" y="321444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90760" y="330480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90760" y="339372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90760" y="350640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90400" y="359532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3" name=""/>
            <p:cNvGrpSpPr/>
            <p:nvPr/>
          </p:nvGrpSpPr>
          <p:grpSpPr>
            <a:xfrm>
              <a:off x="1068120" y="3222360"/>
              <a:ext cx="101880" cy="493560"/>
              <a:chOff x="1068120" y="3222360"/>
              <a:chExt cx="101880" cy="493560"/>
            </a:xfrm>
          </p:grpSpPr>
          <p:sp>
            <p:nvSpPr>
              <p:cNvPr id="1474" name=""/>
              <p:cNvSpPr/>
              <p:nvPr/>
            </p:nvSpPr>
            <p:spPr>
              <a:xfrm flipH="1">
                <a:off x="1068480" y="3222360"/>
                <a:ext cx="55440" cy="90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068480" y="3312720"/>
                <a:ext cx="90360" cy="8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H="1">
                <a:off x="1068480" y="3401640"/>
                <a:ext cx="10152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068480" y="3514320"/>
                <a:ext cx="90360" cy="77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H="1">
                <a:off x="1068120" y="3603240"/>
                <a:ext cx="90360" cy="11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9" name=""/>
            <p:cNvGrpSpPr/>
            <p:nvPr/>
          </p:nvGrpSpPr>
          <p:grpSpPr>
            <a:xfrm>
              <a:off x="1387080" y="3138480"/>
              <a:ext cx="101880" cy="492840"/>
              <a:chOff x="1387080" y="3138480"/>
              <a:chExt cx="101880" cy="492840"/>
            </a:xfrm>
          </p:grpSpPr>
          <p:sp>
            <p:nvSpPr>
              <p:cNvPr id="1480" name=""/>
              <p:cNvSpPr/>
              <p:nvPr/>
            </p:nvSpPr>
            <p:spPr>
              <a:xfrm flipH="1">
                <a:off x="1387440" y="313848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387440" y="322848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>
                <a:off x="1387440" y="331740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1387440" y="343008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>
                <a:off x="1387080" y="351900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1653840" y="3235320"/>
              <a:ext cx="101880" cy="492840"/>
              <a:chOff x="1653840" y="3235320"/>
              <a:chExt cx="101880" cy="492840"/>
            </a:xfrm>
          </p:grpSpPr>
          <p:sp>
            <p:nvSpPr>
              <p:cNvPr id="1486" name=""/>
              <p:cNvSpPr/>
              <p:nvPr/>
            </p:nvSpPr>
            <p:spPr>
              <a:xfrm flipH="1">
                <a:off x="1654200" y="3235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654200" y="3325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1654200" y="3414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654200" y="3526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>
                <a:off x="1653840" y="3615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1895040" y="3119400"/>
              <a:ext cx="101880" cy="492840"/>
              <a:chOff x="1895040" y="3119400"/>
              <a:chExt cx="101880" cy="492840"/>
            </a:xfrm>
          </p:grpSpPr>
          <p:sp>
            <p:nvSpPr>
              <p:cNvPr id="1492" name=""/>
              <p:cNvSpPr/>
              <p:nvPr/>
            </p:nvSpPr>
            <p:spPr>
              <a:xfrm flipH="1">
                <a:off x="1895400" y="311940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895400" y="320940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1895400" y="329832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895400" y="341100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>
                <a:off x="1895040" y="349992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2158560" y="3181320"/>
              <a:ext cx="101880" cy="492840"/>
              <a:chOff x="2158560" y="3181320"/>
              <a:chExt cx="101880" cy="492840"/>
            </a:xfrm>
          </p:grpSpPr>
          <p:sp>
            <p:nvSpPr>
              <p:cNvPr id="1498" name=""/>
              <p:cNvSpPr/>
              <p:nvPr/>
            </p:nvSpPr>
            <p:spPr>
              <a:xfrm flipH="1">
                <a:off x="2158920" y="3181320"/>
                <a:ext cx="55440" cy="90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2158920" y="3271320"/>
                <a:ext cx="90360" cy="88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158920" y="3360240"/>
                <a:ext cx="10152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158920" y="3472920"/>
                <a:ext cx="90360" cy="77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 flipH="1">
                <a:off x="2158560" y="3561840"/>
                <a:ext cx="90360" cy="112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3" name=""/>
          <p:cNvSpPr/>
          <p:nvPr/>
        </p:nvSpPr>
        <p:spPr>
          <a:xfrm>
            <a:off x="1014840" y="206064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3392640" y="950760"/>
            <a:ext cx="2330280" cy="3620880"/>
            <a:chOff x="3392640" y="950760"/>
            <a:chExt cx="2330280" cy="3620880"/>
          </a:xfrm>
        </p:grpSpPr>
        <p:grpSp>
          <p:nvGrpSpPr>
            <p:cNvPr id="1505" name=""/>
            <p:cNvGrpSpPr/>
            <p:nvPr/>
          </p:nvGrpSpPr>
          <p:grpSpPr>
            <a:xfrm>
              <a:off x="3392640" y="1669680"/>
              <a:ext cx="2330280" cy="2901960"/>
              <a:chOff x="3392640" y="1669680"/>
              <a:chExt cx="2330280" cy="2901960"/>
            </a:xfrm>
          </p:grpSpPr>
          <p:grpSp>
            <p:nvGrpSpPr>
              <p:cNvPr id="1506" name=""/>
              <p:cNvGrpSpPr/>
              <p:nvPr/>
            </p:nvGrpSpPr>
            <p:grpSpPr>
              <a:xfrm>
                <a:off x="3620880" y="1798200"/>
                <a:ext cx="1907640" cy="2630160"/>
                <a:chOff x="3620880" y="1798200"/>
                <a:chExt cx="1907640" cy="263016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46684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8" name=""/>
                <p:cNvGrpSpPr/>
                <p:nvPr/>
              </p:nvGrpSpPr>
              <p:grpSpPr>
                <a:xfrm>
                  <a:off x="3620880" y="3546000"/>
                  <a:ext cx="1907640" cy="882360"/>
                  <a:chOff x="3620880" y="3546000"/>
                  <a:chExt cx="1907640" cy="882360"/>
                </a:xfrm>
              </p:grpSpPr>
              <p:sp>
                <p:nvSpPr>
                  <p:cNvPr id="1509" name=""/>
                  <p:cNvSpPr/>
                  <p:nvPr/>
                </p:nvSpPr>
                <p:spPr>
                  <a:xfrm>
                    <a:off x="46684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3620880" y="354600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11" name=""/>
                <p:cNvSpPr/>
                <p:nvPr/>
              </p:nvSpPr>
              <p:spPr>
                <a:xfrm>
                  <a:off x="3620880" y="220788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12" name="agentred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833280" y="18126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3" name="agentred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871520" y="31413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4" name="agentred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12760" y="315864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5" name="agentred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872960" y="179820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16" name=""/>
                <p:cNvGrpSpPr/>
                <p:nvPr/>
              </p:nvGrpSpPr>
              <p:grpSpPr>
                <a:xfrm>
                  <a:off x="3947400" y="2482560"/>
                  <a:ext cx="101160" cy="493560"/>
                  <a:chOff x="3947400" y="2482560"/>
                  <a:chExt cx="101160" cy="493560"/>
                </a:xfrm>
              </p:grpSpPr>
              <p:sp>
                <p:nvSpPr>
                  <p:cNvPr id="1517" name=""/>
                  <p:cNvSpPr/>
                  <p:nvPr/>
                </p:nvSpPr>
                <p:spPr>
                  <a:xfrm flipH="1">
                    <a:off x="3947400" y="24825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>
                    <a:off x="3947760" y="25729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H="1">
                    <a:off x="3947400" y="26618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>
                    <a:off x="3947760" y="27745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>
                    <a:off x="3947760" y="28634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2" name=""/>
                <p:cNvGrpSpPr/>
                <p:nvPr/>
              </p:nvGrpSpPr>
              <p:grpSpPr>
                <a:xfrm>
                  <a:off x="4996440" y="2477880"/>
                  <a:ext cx="101880" cy="493560"/>
                  <a:chOff x="4996440" y="2477880"/>
                  <a:chExt cx="101880" cy="493560"/>
                </a:xfrm>
              </p:grpSpPr>
              <p:sp>
                <p:nvSpPr>
                  <p:cNvPr id="1523" name=""/>
                  <p:cNvSpPr/>
                  <p:nvPr/>
                </p:nvSpPr>
                <p:spPr>
                  <a:xfrm flipH="1">
                    <a:off x="4996800" y="247788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4" name=""/>
                  <p:cNvSpPr/>
                  <p:nvPr/>
                </p:nvSpPr>
                <p:spPr>
                  <a:xfrm>
                    <a:off x="4996800" y="256824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5" name=""/>
                  <p:cNvSpPr/>
                  <p:nvPr/>
                </p:nvSpPr>
                <p:spPr>
                  <a:xfrm flipH="1">
                    <a:off x="4996800" y="265716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4996800" y="276984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 flipH="1">
                    <a:off x="4996440" y="285876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8" name=""/>
                <p:cNvGrpSpPr/>
                <p:nvPr/>
              </p:nvGrpSpPr>
              <p:grpSpPr>
                <a:xfrm>
                  <a:off x="5009400" y="3790440"/>
                  <a:ext cx="101160" cy="493560"/>
                  <a:chOff x="5009400" y="3790440"/>
                  <a:chExt cx="101160" cy="493560"/>
                </a:xfrm>
              </p:grpSpPr>
              <p:sp>
                <p:nvSpPr>
                  <p:cNvPr id="1529" name=""/>
                  <p:cNvSpPr/>
                  <p:nvPr/>
                </p:nvSpPr>
                <p:spPr>
                  <a:xfrm flipH="1">
                    <a:off x="5009400" y="379044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5009760" y="388080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 flipH="1">
                    <a:off x="5009400" y="396972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>
                    <a:off x="5009760" y="408240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H="1">
                    <a:off x="5009760" y="417132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34" name=""/>
                <p:cNvGrpSpPr/>
                <p:nvPr/>
              </p:nvGrpSpPr>
              <p:grpSpPr>
                <a:xfrm>
                  <a:off x="3940920" y="3843000"/>
                  <a:ext cx="101160" cy="493560"/>
                  <a:chOff x="3940920" y="3843000"/>
                  <a:chExt cx="101160" cy="493560"/>
                </a:xfrm>
              </p:grpSpPr>
              <p:sp>
                <p:nvSpPr>
                  <p:cNvPr id="1535" name=""/>
                  <p:cNvSpPr/>
                  <p:nvPr/>
                </p:nvSpPr>
                <p:spPr>
                  <a:xfrm flipH="1">
                    <a:off x="3940920" y="38430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>
                    <a:off x="3941280" y="39333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>
                    <a:off x="3940920" y="40222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>
                    <a:off x="3941280" y="41349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 flipH="1">
                    <a:off x="3941280" y="42238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0" name=""/>
              <p:cNvSpPr/>
              <p:nvPr/>
            </p:nvSpPr>
            <p:spPr>
              <a:xfrm>
                <a:off x="3392640" y="166968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1" name=""/>
            <p:cNvSpPr/>
            <p:nvPr/>
          </p:nvSpPr>
          <p:spPr>
            <a:xfrm>
              <a:off x="3749760" y="950760"/>
              <a:ext cx="1616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Tcl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6418440" y="922320"/>
            <a:ext cx="2330280" cy="3649680"/>
            <a:chOff x="6418440" y="922320"/>
            <a:chExt cx="2330280" cy="3649680"/>
          </a:xfrm>
        </p:grpSpPr>
        <p:grpSp>
          <p:nvGrpSpPr>
            <p:cNvPr id="1543" name=""/>
            <p:cNvGrpSpPr/>
            <p:nvPr/>
          </p:nvGrpSpPr>
          <p:grpSpPr>
            <a:xfrm>
              <a:off x="6418440" y="1670040"/>
              <a:ext cx="2330280" cy="2901960"/>
              <a:chOff x="6418440" y="1670040"/>
              <a:chExt cx="2330280" cy="2901960"/>
            </a:xfrm>
          </p:grpSpPr>
          <p:grpSp>
            <p:nvGrpSpPr>
              <p:cNvPr id="1544" name=""/>
              <p:cNvGrpSpPr/>
              <p:nvPr/>
            </p:nvGrpSpPr>
            <p:grpSpPr>
              <a:xfrm>
                <a:off x="6646680" y="1798560"/>
                <a:ext cx="1907640" cy="2630160"/>
                <a:chOff x="6646680" y="1798560"/>
                <a:chExt cx="1907640" cy="263016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76942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46" name=""/>
                <p:cNvGrpSpPr/>
                <p:nvPr/>
              </p:nvGrpSpPr>
              <p:grpSpPr>
                <a:xfrm>
                  <a:off x="6646680" y="3546360"/>
                  <a:ext cx="1907640" cy="882360"/>
                  <a:chOff x="6646680" y="3546360"/>
                  <a:chExt cx="1907640" cy="882360"/>
                </a:xfrm>
              </p:grpSpPr>
              <p:sp>
                <p:nvSpPr>
                  <p:cNvPr id="1547" name=""/>
                  <p:cNvSpPr/>
                  <p:nvPr/>
                </p:nvSpPr>
                <p:spPr>
                  <a:xfrm>
                    <a:off x="76942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>
                    <a:off x="6646680" y="3546360"/>
                    <a:ext cx="860040" cy="882360"/>
                  </a:xfrm>
                  <a:prstGeom prst="cube">
                    <a:avLst>
                      <a:gd name="adj" fmla="val 18569"/>
                    </a:avLst>
                  </a:prstGeom>
                  <a:solidFill>
                    <a:srgbClr val="ffcc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marL="223920" indent="-223920" algn="ctr">
                      <a:spcBef>
                        <a:spcPts val="49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49" name=""/>
                <p:cNvSpPr/>
                <p:nvPr/>
              </p:nvSpPr>
              <p:spPr>
                <a:xfrm>
                  <a:off x="6646680" y="2208240"/>
                  <a:ext cx="860040" cy="882720"/>
                </a:xfrm>
                <a:prstGeom prst="cube">
                  <a:avLst>
                    <a:gd name="adj" fmla="val 18569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223920" indent="-223920" algn="ctr"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550" name="agentred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59080" y="18129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1" name="agentred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97320" y="314172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2" name="agentred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38560" y="3159000"/>
                  <a:ext cx="46296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3" name="agentred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7898760" y="1798560"/>
                  <a:ext cx="463320" cy="479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554" name=""/>
                <p:cNvGrpSpPr/>
                <p:nvPr/>
              </p:nvGrpSpPr>
              <p:grpSpPr>
                <a:xfrm>
                  <a:off x="6973200" y="2482920"/>
                  <a:ext cx="101160" cy="493560"/>
                  <a:chOff x="6973200" y="2482920"/>
                  <a:chExt cx="101160" cy="493560"/>
                </a:xfrm>
              </p:grpSpPr>
              <p:sp>
                <p:nvSpPr>
                  <p:cNvPr id="1555" name=""/>
                  <p:cNvSpPr/>
                  <p:nvPr/>
                </p:nvSpPr>
                <p:spPr>
                  <a:xfrm flipH="1">
                    <a:off x="6973200" y="248292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973560" y="257328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 flipH="1">
                    <a:off x="6973200" y="266220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973560" y="277488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 flipH="1">
                    <a:off x="6973560" y="286380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0" name=""/>
                <p:cNvGrpSpPr/>
                <p:nvPr/>
              </p:nvGrpSpPr>
              <p:grpSpPr>
                <a:xfrm>
                  <a:off x="8022240" y="2478240"/>
                  <a:ext cx="101880" cy="493560"/>
                  <a:chOff x="8022240" y="2478240"/>
                  <a:chExt cx="101880" cy="493560"/>
                </a:xfrm>
              </p:grpSpPr>
              <p:sp>
                <p:nvSpPr>
                  <p:cNvPr id="1561" name=""/>
                  <p:cNvSpPr/>
                  <p:nvPr/>
                </p:nvSpPr>
                <p:spPr>
                  <a:xfrm flipH="1">
                    <a:off x="8022600" y="2478240"/>
                    <a:ext cx="5544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>
                    <a:off x="8022600" y="2568600"/>
                    <a:ext cx="9036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H="1">
                    <a:off x="8022600" y="2657520"/>
                    <a:ext cx="10152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8022600" y="2770200"/>
                    <a:ext cx="9036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>
                    <a:off x="8022240" y="2859120"/>
                    <a:ext cx="903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66" name=""/>
                <p:cNvGrpSpPr/>
                <p:nvPr/>
              </p:nvGrpSpPr>
              <p:grpSpPr>
                <a:xfrm>
                  <a:off x="8035200" y="3790800"/>
                  <a:ext cx="101160" cy="493560"/>
                  <a:chOff x="8035200" y="3790800"/>
                  <a:chExt cx="101160" cy="493560"/>
                </a:xfrm>
              </p:grpSpPr>
              <p:sp>
                <p:nvSpPr>
                  <p:cNvPr id="1567" name=""/>
                  <p:cNvSpPr/>
                  <p:nvPr/>
                </p:nvSpPr>
                <p:spPr>
                  <a:xfrm flipH="1">
                    <a:off x="8035200" y="379080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8035560" y="388116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 flipH="1">
                    <a:off x="8035200" y="397008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8035560" y="408276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 flipH="1">
                    <a:off x="8035560" y="417168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2" name=""/>
                <p:cNvGrpSpPr/>
                <p:nvPr/>
              </p:nvGrpSpPr>
              <p:grpSpPr>
                <a:xfrm>
                  <a:off x="6966720" y="3843360"/>
                  <a:ext cx="101160" cy="493560"/>
                  <a:chOff x="6966720" y="3843360"/>
                  <a:chExt cx="101160" cy="493560"/>
                </a:xfrm>
              </p:grpSpPr>
              <p:sp>
                <p:nvSpPr>
                  <p:cNvPr id="1573" name=""/>
                  <p:cNvSpPr/>
                  <p:nvPr/>
                </p:nvSpPr>
                <p:spPr>
                  <a:xfrm flipH="1">
                    <a:off x="6966720" y="3843360"/>
                    <a:ext cx="55080" cy="90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967080" y="3933720"/>
                    <a:ext cx="90000" cy="88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H="1">
                    <a:off x="6966720" y="4022640"/>
                    <a:ext cx="10116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6967080" y="4135320"/>
                    <a:ext cx="90000" cy="777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960" bIns="30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6967080" y="4224240"/>
                    <a:ext cx="90000" cy="112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78" name=""/>
              <p:cNvSpPr/>
              <p:nvPr/>
            </p:nvSpPr>
            <p:spPr>
              <a:xfrm>
                <a:off x="6418440" y="1670040"/>
                <a:ext cx="2330280" cy="2901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6634080" y="922320"/>
              <a:ext cx="1897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Pool of Scheme interpre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0" name=""/>
          <p:cNvSpPr/>
          <p:nvPr/>
        </p:nvSpPr>
        <p:spPr>
          <a:xfrm>
            <a:off x="3962520" y="4451400"/>
            <a:ext cx="304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H="1">
            <a:off x="4495680" y="4451400"/>
            <a:ext cx="4572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1600200" y="3809880"/>
            <a:ext cx="1905120" cy="160020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flipH="1">
            <a:off x="5562360" y="4451400"/>
            <a:ext cx="144756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5791320" y="4451400"/>
            <a:ext cx="2286000" cy="103356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20640" y="4419720"/>
            <a:ext cx="2103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Pipes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VM / interpr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to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42F-5A1C-4951-ABE2-46C74B5F2A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ree security concer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7" name="gateway" descr=""/>
          <p:cNvPicPr/>
          <p:nvPr/>
        </p:nvPicPr>
        <p:blipFill>
          <a:blip r:embed="rId1"/>
          <a:stretch/>
        </p:blipFill>
        <p:spPr>
          <a:xfrm>
            <a:off x="5059440" y="248616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8" name="gateway" descr=""/>
          <p:cNvPicPr/>
          <p:nvPr/>
        </p:nvPicPr>
        <p:blipFill>
          <a:blip r:embed="rId2"/>
          <a:stretch/>
        </p:blipFill>
        <p:spPr>
          <a:xfrm>
            <a:off x="6230880" y="334332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589" name="gateway" descr=""/>
          <p:cNvPicPr/>
          <p:nvPr/>
        </p:nvPicPr>
        <p:blipFill>
          <a:blip r:embed="rId3"/>
          <a:stretch/>
        </p:blipFill>
        <p:spPr>
          <a:xfrm>
            <a:off x="4724280" y="37987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590" name=""/>
          <p:cNvSpPr/>
          <p:nvPr/>
        </p:nvSpPr>
        <p:spPr>
          <a:xfrm rot="5400000">
            <a:off x="5417280" y="21945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5400000">
            <a:off x="4968000" y="42393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5400000">
            <a:off x="6422040" y="38692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3" name="agentred" descr=""/>
          <p:cNvPicPr/>
          <p:nvPr/>
        </p:nvPicPr>
        <p:blipFill>
          <a:blip r:embed="rId4"/>
          <a:stretch/>
        </p:blipFill>
        <p:spPr>
          <a:xfrm>
            <a:off x="7751880" y="260676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94" name=""/>
          <p:cNvGrpSpPr/>
          <p:nvPr/>
        </p:nvGrpSpPr>
        <p:grpSpPr>
          <a:xfrm>
            <a:off x="7908840" y="3373560"/>
            <a:ext cx="414360" cy="722160"/>
            <a:chOff x="7908840" y="3373560"/>
            <a:chExt cx="414360" cy="722160"/>
          </a:xfrm>
        </p:grpSpPr>
        <p:sp>
          <p:nvSpPr>
            <p:cNvPr id="1595" name=""/>
            <p:cNvSpPr/>
            <p:nvPr/>
          </p:nvSpPr>
          <p:spPr>
            <a:xfrm>
              <a:off x="7908840" y="360216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6" name=""/>
            <p:cNvGrpSpPr/>
            <p:nvPr/>
          </p:nvGrpSpPr>
          <p:grpSpPr>
            <a:xfrm>
              <a:off x="7937640" y="3373560"/>
              <a:ext cx="358560" cy="290160"/>
              <a:chOff x="7937640" y="3373560"/>
              <a:chExt cx="358560" cy="290160"/>
            </a:xfrm>
          </p:grpSpPr>
          <p:sp>
            <p:nvSpPr>
              <p:cNvPr id="1597" name=""/>
              <p:cNvSpPr/>
              <p:nvPr/>
            </p:nvSpPr>
            <p:spPr>
              <a:xfrm flipV="1">
                <a:off x="8121600" y="338904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937640" y="337356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9" name=""/>
          <p:cNvSpPr/>
          <p:nvPr/>
        </p:nvSpPr>
        <p:spPr>
          <a:xfrm flipV="1">
            <a:off x="5245200" y="34286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flipV="1">
            <a:off x="5468760" y="388908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flipH="1" flipV="1">
            <a:off x="5759280" y="3260520"/>
            <a:ext cx="57168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838840" y="256716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846840" y="3948120"/>
            <a:ext cx="1054080" cy="29844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389560" y="4202280"/>
            <a:ext cx="1658880" cy="50616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754200" y="1457280"/>
            <a:ext cx="2779560" cy="4286160"/>
            <a:chOff x="754200" y="1457280"/>
            <a:chExt cx="2779560" cy="4286160"/>
          </a:xfrm>
        </p:grpSpPr>
        <p:grpSp>
          <p:nvGrpSpPr>
            <p:cNvPr id="1606" name=""/>
            <p:cNvGrpSpPr/>
            <p:nvPr/>
          </p:nvGrpSpPr>
          <p:grpSpPr>
            <a:xfrm>
              <a:off x="785520" y="1457280"/>
              <a:ext cx="2715120" cy="1523520"/>
              <a:chOff x="785520" y="1457280"/>
              <a:chExt cx="2715120" cy="1523520"/>
            </a:xfrm>
          </p:grpSpPr>
          <p:pic>
            <p:nvPicPr>
              <p:cNvPr id="1607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844920" y="1841400"/>
                <a:ext cx="76032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8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2803680" y="1457280"/>
                <a:ext cx="69696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9" name=""/>
              <p:cNvSpPr/>
              <p:nvPr/>
            </p:nvSpPr>
            <p:spPr>
              <a:xfrm rot="5400000">
                <a:off x="1164240" y="236052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rot="5400000">
                <a:off x="1059840" y="2446560"/>
                <a:ext cx="21204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rot="5400000">
                <a:off x="1067400" y="2232000"/>
                <a:ext cx="212400" cy="76068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2" name=""/>
              <p:cNvGrpSpPr/>
              <p:nvPr/>
            </p:nvGrpSpPr>
            <p:grpSpPr>
              <a:xfrm>
                <a:off x="2940120" y="2258640"/>
                <a:ext cx="414360" cy="722160"/>
                <a:chOff x="2940120" y="2258640"/>
                <a:chExt cx="414360" cy="72216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2940120" y="24872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14" name=""/>
                <p:cNvGrpSpPr/>
                <p:nvPr/>
              </p:nvGrpSpPr>
              <p:grpSpPr>
                <a:xfrm>
                  <a:off x="2968920" y="2258640"/>
                  <a:ext cx="358560" cy="290160"/>
                  <a:chOff x="2968920" y="2258640"/>
                  <a:chExt cx="358560" cy="2901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 flipV="1">
                    <a:off x="3152880" y="22741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 flipV="1">
                    <a:off x="2968920" y="22586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7" name=""/>
              <p:cNvSpPr/>
              <p:nvPr/>
            </p:nvSpPr>
            <p:spPr>
              <a:xfrm>
                <a:off x="1806840" y="2835000"/>
                <a:ext cx="113184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594080" y="2734920"/>
                <a:ext cx="21276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494000" y="2633400"/>
                <a:ext cx="43668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470240" y="2835000"/>
                <a:ext cx="43812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754200" y="4064040"/>
              <a:ext cx="2779560" cy="1679400"/>
              <a:chOff x="754200" y="4064040"/>
              <a:chExt cx="2779560" cy="1679400"/>
            </a:xfrm>
          </p:grpSpPr>
          <p:pic>
            <p:nvPicPr>
              <p:cNvPr id="1622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2773440" y="406404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3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787680" y="455436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4" name=""/>
              <p:cNvSpPr/>
              <p:nvPr/>
            </p:nvSpPr>
            <p:spPr>
              <a:xfrm rot="5400000">
                <a:off x="1132560" y="512352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rot="5400000">
                <a:off x="1027800" y="52092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rot="5400000">
                <a:off x="1035720" y="499500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7" name=""/>
              <p:cNvGrpSpPr/>
              <p:nvPr/>
            </p:nvGrpSpPr>
            <p:grpSpPr>
              <a:xfrm>
                <a:off x="2908440" y="5021280"/>
                <a:ext cx="414360" cy="722160"/>
                <a:chOff x="2908440" y="5021280"/>
                <a:chExt cx="414360" cy="72216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2908440" y="524988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29" name=""/>
                <p:cNvGrpSpPr/>
                <p:nvPr/>
              </p:nvGrpSpPr>
              <p:grpSpPr>
                <a:xfrm>
                  <a:off x="2937240" y="5021280"/>
                  <a:ext cx="358560" cy="290160"/>
                  <a:chOff x="2937240" y="5021280"/>
                  <a:chExt cx="358560" cy="290160"/>
                </a:xfrm>
              </p:grpSpPr>
              <p:sp>
                <p:nvSpPr>
                  <p:cNvPr id="1630" name=""/>
                  <p:cNvSpPr/>
                  <p:nvPr/>
                </p:nvSpPr>
                <p:spPr>
                  <a:xfrm flipV="1">
                    <a:off x="3121200" y="503676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 flipV="1">
                    <a:off x="2937240" y="502128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2" name=""/>
              <p:cNvSpPr/>
              <p:nvPr/>
            </p:nvSpPr>
            <p:spPr>
              <a:xfrm>
                <a:off x="1774800" y="559728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562400" y="549756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462320" y="539568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438560" y="559728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78B-E20E-4EEC-961F-C3B41D61AA1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’Agents: Secur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7" name="gateway" descr=""/>
          <p:cNvPicPr/>
          <p:nvPr/>
        </p:nvPicPr>
        <p:blipFill>
          <a:blip r:embed="rId1"/>
          <a:stretch/>
        </p:blipFill>
        <p:spPr>
          <a:xfrm>
            <a:off x="5048280" y="2178000"/>
            <a:ext cx="760320" cy="933480"/>
          </a:xfrm>
          <a:prstGeom prst="rect">
            <a:avLst/>
          </a:prstGeom>
          <a:ln w="0">
            <a:noFill/>
          </a:ln>
        </p:spPr>
      </p:pic>
      <p:pic>
        <p:nvPicPr>
          <p:cNvPr id="1638" name="gateway" descr=""/>
          <p:cNvPicPr/>
          <p:nvPr/>
        </p:nvPicPr>
        <p:blipFill>
          <a:blip r:embed="rId2"/>
          <a:stretch/>
        </p:blipFill>
        <p:spPr>
          <a:xfrm>
            <a:off x="6219720" y="3035160"/>
            <a:ext cx="760680" cy="933480"/>
          </a:xfrm>
          <a:prstGeom prst="rect">
            <a:avLst/>
          </a:prstGeom>
          <a:ln w="0">
            <a:noFill/>
          </a:ln>
        </p:spPr>
      </p:pic>
      <p:pic>
        <p:nvPicPr>
          <p:cNvPr id="1639" name="gateway" descr=""/>
          <p:cNvPicPr/>
          <p:nvPr/>
        </p:nvPicPr>
        <p:blipFill>
          <a:blip r:embed="rId3"/>
          <a:stretch/>
        </p:blipFill>
        <p:spPr>
          <a:xfrm>
            <a:off x="4713120" y="3490920"/>
            <a:ext cx="760680" cy="933480"/>
          </a:xfrm>
          <a:prstGeom prst="rect">
            <a:avLst/>
          </a:prstGeom>
          <a:ln w="0">
            <a:noFill/>
          </a:ln>
        </p:spPr>
      </p:pic>
      <p:sp>
        <p:nvSpPr>
          <p:cNvPr id="1640" name=""/>
          <p:cNvSpPr/>
          <p:nvPr/>
        </p:nvSpPr>
        <p:spPr>
          <a:xfrm rot="5400000">
            <a:off x="5406120" y="188676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rot="5400000">
            <a:off x="4956840" y="393120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 rot="5400000">
            <a:off x="6410880" y="3561480"/>
            <a:ext cx="212760" cy="760320"/>
          </a:xfrm>
          <a:prstGeom prst="can">
            <a:avLst>
              <a:gd name="adj" fmla="val 182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Times New Roman"/>
              </a:rPr>
              <a:t>T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3" name="agentred" descr=""/>
          <p:cNvPicPr/>
          <p:nvPr/>
        </p:nvPicPr>
        <p:blipFill>
          <a:blip r:embed="rId4"/>
          <a:stretch/>
        </p:blipFill>
        <p:spPr>
          <a:xfrm>
            <a:off x="7740720" y="2298600"/>
            <a:ext cx="696960" cy="720720"/>
          </a:xfrm>
          <a:prstGeom prst="rect">
            <a:avLst/>
          </a:prstGeom>
          <a:ln w="0">
            <a:noFill/>
          </a:ln>
        </p:spPr>
      </p:pic>
      <p:grpSp>
        <p:nvGrpSpPr>
          <p:cNvPr id="1644" name=""/>
          <p:cNvGrpSpPr/>
          <p:nvPr/>
        </p:nvGrpSpPr>
        <p:grpSpPr>
          <a:xfrm>
            <a:off x="7897680" y="3065400"/>
            <a:ext cx="414360" cy="722160"/>
            <a:chOff x="7897680" y="3065400"/>
            <a:chExt cx="414360" cy="722160"/>
          </a:xfrm>
        </p:grpSpPr>
        <p:sp>
          <p:nvSpPr>
            <p:cNvPr id="1645" name=""/>
            <p:cNvSpPr/>
            <p:nvPr/>
          </p:nvSpPr>
          <p:spPr>
            <a:xfrm>
              <a:off x="7897680" y="3294000"/>
              <a:ext cx="414360" cy="49356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"/>
            <p:cNvGrpSpPr/>
            <p:nvPr/>
          </p:nvGrpSpPr>
          <p:grpSpPr>
            <a:xfrm>
              <a:off x="7926480" y="3065400"/>
              <a:ext cx="358560" cy="290160"/>
              <a:chOff x="7926480" y="3065400"/>
              <a:chExt cx="358560" cy="290160"/>
            </a:xfrm>
          </p:grpSpPr>
          <p:sp>
            <p:nvSpPr>
              <p:cNvPr id="1647" name=""/>
              <p:cNvSpPr/>
              <p:nvPr/>
            </p:nvSpPr>
            <p:spPr>
              <a:xfrm flipV="1">
                <a:off x="8110440" y="3080880"/>
                <a:ext cx="0" cy="27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V="1">
                <a:off x="7926480" y="3065400"/>
                <a:ext cx="358560" cy="1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9" name=""/>
          <p:cNvSpPr/>
          <p:nvPr/>
        </p:nvSpPr>
        <p:spPr>
          <a:xfrm flipV="1">
            <a:off x="5234040" y="3120840"/>
            <a:ext cx="155520" cy="39204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 flipV="1">
            <a:off x="5457960" y="3580920"/>
            <a:ext cx="828720" cy="3682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H="1" flipV="1">
            <a:off x="5748120" y="2952360"/>
            <a:ext cx="571320" cy="515880"/>
          </a:xfrm>
          <a:prstGeom prst="line">
            <a:avLst/>
          </a:prstGeom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5827680" y="2259000"/>
            <a:ext cx="2062080" cy="1411200"/>
          </a:xfrm>
          <a:custGeom>
            <a:avLst/>
            <a:gdLst/>
            <a:ahLst/>
            <a:rect l="l" t="t" r="r" b="b"/>
            <a:pathLst>
              <a:path w="1299" h="889">
                <a:moveTo>
                  <a:pt x="1299" y="889"/>
                </a:moveTo>
                <a:cubicBezTo>
                  <a:pt x="1220" y="883"/>
                  <a:pt x="1142" y="877"/>
                  <a:pt x="1094" y="868"/>
                </a:cubicBezTo>
                <a:cubicBezTo>
                  <a:pt x="1046" y="859"/>
                  <a:pt x="1035" y="872"/>
                  <a:pt x="1009" y="833"/>
                </a:cubicBezTo>
                <a:cubicBezTo>
                  <a:pt x="983" y="794"/>
                  <a:pt x="964" y="720"/>
                  <a:pt x="939" y="635"/>
                </a:cubicBezTo>
                <a:cubicBezTo>
                  <a:pt x="914" y="550"/>
                  <a:pt x="917" y="379"/>
                  <a:pt x="861" y="324"/>
                </a:cubicBezTo>
                <a:cubicBezTo>
                  <a:pt x="805" y="269"/>
                  <a:pt x="667" y="309"/>
                  <a:pt x="600" y="303"/>
                </a:cubicBezTo>
                <a:cubicBezTo>
                  <a:pt x="533" y="297"/>
                  <a:pt x="496" y="307"/>
                  <a:pt x="459" y="289"/>
                </a:cubicBezTo>
                <a:cubicBezTo>
                  <a:pt x="422" y="271"/>
                  <a:pt x="397" y="224"/>
                  <a:pt x="374" y="197"/>
                </a:cubicBezTo>
                <a:cubicBezTo>
                  <a:pt x="351" y="170"/>
                  <a:pt x="355" y="151"/>
                  <a:pt x="324" y="127"/>
                </a:cubicBezTo>
                <a:cubicBezTo>
                  <a:pt x="293" y="103"/>
                  <a:pt x="244" y="77"/>
                  <a:pt x="190" y="56"/>
                </a:cubicBezTo>
                <a:cubicBezTo>
                  <a:pt x="136" y="35"/>
                  <a:pt x="68" y="17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6835680" y="3639960"/>
            <a:ext cx="1054080" cy="298800"/>
          </a:xfrm>
          <a:custGeom>
            <a:avLst/>
            <a:gdLst/>
            <a:ahLst/>
            <a:rect l="l" t="t" r="r" b="b"/>
            <a:pathLst>
              <a:path w="664" h="188">
                <a:moveTo>
                  <a:pt x="664" y="12"/>
                </a:moveTo>
                <a:cubicBezTo>
                  <a:pt x="596" y="6"/>
                  <a:pt x="528" y="0"/>
                  <a:pt x="473" y="12"/>
                </a:cubicBezTo>
                <a:cubicBezTo>
                  <a:pt x="418" y="24"/>
                  <a:pt x="386" y="61"/>
                  <a:pt x="332" y="83"/>
                </a:cubicBezTo>
                <a:cubicBezTo>
                  <a:pt x="278" y="105"/>
                  <a:pt x="184" y="130"/>
                  <a:pt x="148" y="146"/>
                </a:cubicBezTo>
                <a:cubicBezTo>
                  <a:pt x="112" y="162"/>
                  <a:pt x="138" y="174"/>
                  <a:pt x="113" y="181"/>
                </a:cubicBezTo>
                <a:cubicBezTo>
                  <a:pt x="88" y="188"/>
                  <a:pt x="44" y="188"/>
                  <a:pt x="0" y="188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378400" y="3894120"/>
            <a:ext cx="1658880" cy="506520"/>
          </a:xfrm>
          <a:custGeom>
            <a:avLst/>
            <a:gdLst/>
            <a:ahLst/>
            <a:rect l="l" t="t" r="r" b="b"/>
            <a:pathLst>
              <a:path w="1045" h="319">
                <a:moveTo>
                  <a:pt x="1045" y="0"/>
                </a:moveTo>
                <a:cubicBezTo>
                  <a:pt x="1021" y="32"/>
                  <a:pt x="997" y="65"/>
                  <a:pt x="982" y="106"/>
                </a:cubicBezTo>
                <a:cubicBezTo>
                  <a:pt x="967" y="147"/>
                  <a:pt x="981" y="218"/>
                  <a:pt x="953" y="247"/>
                </a:cubicBezTo>
                <a:cubicBezTo>
                  <a:pt x="925" y="276"/>
                  <a:pt x="852" y="271"/>
                  <a:pt x="812" y="283"/>
                </a:cubicBezTo>
                <a:cubicBezTo>
                  <a:pt x="772" y="295"/>
                  <a:pt x="746" y="317"/>
                  <a:pt x="713" y="318"/>
                </a:cubicBezTo>
                <a:cubicBezTo>
                  <a:pt x="680" y="319"/>
                  <a:pt x="653" y="303"/>
                  <a:pt x="614" y="290"/>
                </a:cubicBezTo>
                <a:cubicBezTo>
                  <a:pt x="575" y="277"/>
                  <a:pt x="525" y="244"/>
                  <a:pt x="480" y="240"/>
                </a:cubicBezTo>
                <a:cubicBezTo>
                  <a:pt x="435" y="236"/>
                  <a:pt x="374" y="259"/>
                  <a:pt x="346" y="268"/>
                </a:cubicBezTo>
                <a:cubicBezTo>
                  <a:pt x="318" y="277"/>
                  <a:pt x="331" y="291"/>
                  <a:pt x="311" y="297"/>
                </a:cubicBezTo>
                <a:cubicBezTo>
                  <a:pt x="291" y="303"/>
                  <a:pt x="262" y="303"/>
                  <a:pt x="226" y="304"/>
                </a:cubicBezTo>
                <a:cubicBezTo>
                  <a:pt x="190" y="305"/>
                  <a:pt x="130" y="311"/>
                  <a:pt x="92" y="304"/>
                </a:cubicBezTo>
                <a:cubicBezTo>
                  <a:pt x="54" y="297"/>
                  <a:pt x="27" y="279"/>
                  <a:pt x="0" y="26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4853160" y="4606920"/>
            <a:ext cx="34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Ongoing research: market-based resource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595440" y="1301760"/>
            <a:ext cx="3119400" cy="4866120"/>
            <a:chOff x="595440" y="1301760"/>
            <a:chExt cx="3119400" cy="4866120"/>
          </a:xfrm>
        </p:grpSpPr>
        <p:grpSp>
          <p:nvGrpSpPr>
            <p:cNvPr id="1657" name=""/>
            <p:cNvGrpSpPr/>
            <p:nvPr/>
          </p:nvGrpSpPr>
          <p:grpSpPr>
            <a:xfrm>
              <a:off x="765000" y="3952800"/>
              <a:ext cx="2779560" cy="1679400"/>
              <a:chOff x="765000" y="3952800"/>
              <a:chExt cx="2779560" cy="1679400"/>
            </a:xfrm>
          </p:grpSpPr>
          <p:pic>
            <p:nvPicPr>
              <p:cNvPr id="1658" name="gateway" descr=""/>
              <p:cNvPicPr/>
              <p:nvPr/>
            </p:nvPicPr>
            <p:blipFill>
              <a:blip r:embed="rId5"/>
              <a:stretch/>
            </p:blipFill>
            <p:spPr>
              <a:xfrm>
                <a:off x="2784240" y="3952800"/>
                <a:ext cx="76032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9" name="agentred" descr=""/>
              <p:cNvPicPr/>
              <p:nvPr/>
            </p:nvPicPr>
            <p:blipFill>
              <a:blip r:embed="rId6"/>
              <a:stretch/>
            </p:blipFill>
            <p:spPr>
              <a:xfrm>
                <a:off x="798480" y="4443120"/>
                <a:ext cx="69660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0" name=""/>
              <p:cNvSpPr/>
              <p:nvPr/>
            </p:nvSpPr>
            <p:spPr>
              <a:xfrm rot="5400000">
                <a:off x="1143360" y="501228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 rot="5400000">
                <a:off x="1038600" y="50979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 rot="5400000">
                <a:off x="1046520" y="4883760"/>
                <a:ext cx="21276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3" name=""/>
              <p:cNvGrpSpPr/>
              <p:nvPr/>
            </p:nvGrpSpPr>
            <p:grpSpPr>
              <a:xfrm>
                <a:off x="2919240" y="4910040"/>
                <a:ext cx="414360" cy="722160"/>
                <a:chOff x="2919240" y="4910040"/>
                <a:chExt cx="414360" cy="72216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2919240" y="5138640"/>
                  <a:ext cx="41436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65" name=""/>
                <p:cNvGrpSpPr/>
                <p:nvPr/>
              </p:nvGrpSpPr>
              <p:grpSpPr>
                <a:xfrm>
                  <a:off x="2948040" y="4910040"/>
                  <a:ext cx="358560" cy="290160"/>
                  <a:chOff x="2948040" y="4910040"/>
                  <a:chExt cx="358560" cy="290160"/>
                </a:xfrm>
              </p:grpSpPr>
              <p:sp>
                <p:nvSpPr>
                  <p:cNvPr id="1666" name=""/>
                  <p:cNvSpPr/>
                  <p:nvPr/>
                </p:nvSpPr>
                <p:spPr>
                  <a:xfrm flipV="1">
                    <a:off x="3132000" y="492552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V="1">
                    <a:off x="2948040" y="4910040"/>
                    <a:ext cx="35856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68" name=""/>
              <p:cNvSpPr/>
              <p:nvPr/>
            </p:nvSpPr>
            <p:spPr>
              <a:xfrm>
                <a:off x="1785600" y="5486040"/>
                <a:ext cx="1132200" cy="14148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573200" y="5386320"/>
                <a:ext cx="212400" cy="15552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73120" y="5284440"/>
                <a:ext cx="436320" cy="33660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49360" y="5486040"/>
                <a:ext cx="438120" cy="13824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2" name=""/>
            <p:cNvGrpSpPr/>
            <p:nvPr/>
          </p:nvGrpSpPr>
          <p:grpSpPr>
            <a:xfrm>
              <a:off x="797040" y="1301760"/>
              <a:ext cx="2714040" cy="1523520"/>
              <a:chOff x="797040" y="1301760"/>
              <a:chExt cx="2714040" cy="1523520"/>
            </a:xfrm>
          </p:grpSpPr>
          <p:pic>
            <p:nvPicPr>
              <p:cNvPr id="1673" name="gateway" descr=""/>
              <p:cNvPicPr/>
              <p:nvPr/>
            </p:nvPicPr>
            <p:blipFill>
              <a:blip r:embed="rId7"/>
              <a:stretch/>
            </p:blipFill>
            <p:spPr>
              <a:xfrm>
                <a:off x="855720" y="1685880"/>
                <a:ext cx="759960" cy="93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4" name="agentred" descr=""/>
              <p:cNvPicPr/>
              <p:nvPr/>
            </p:nvPicPr>
            <p:blipFill>
              <a:blip r:embed="rId8"/>
              <a:stretch/>
            </p:blipFill>
            <p:spPr>
              <a:xfrm>
                <a:off x="2814480" y="1301760"/>
                <a:ext cx="696600" cy="72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5" name=""/>
              <p:cNvSpPr/>
              <p:nvPr/>
            </p:nvSpPr>
            <p:spPr>
              <a:xfrm rot="5400000">
                <a:off x="1175400" y="220536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rot="5400000">
                <a:off x="1071000" y="2291040"/>
                <a:ext cx="21204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rot="5400000">
                <a:off x="1078560" y="2076840"/>
                <a:ext cx="212400" cy="760320"/>
              </a:xfrm>
              <a:prstGeom prst="can">
                <a:avLst>
                  <a:gd name="adj" fmla="val 18268"/>
                </a:avLst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cc66"/>
                    </a:solidFill>
                    <a:latin typeface="Times New Roman"/>
                  </a:rPr>
                  <a:t>T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2950920" y="2103120"/>
                <a:ext cx="414000" cy="722160"/>
                <a:chOff x="2950920" y="2103120"/>
                <a:chExt cx="414000" cy="72216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2950920" y="2331720"/>
                  <a:ext cx="414000" cy="493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80" name=""/>
                <p:cNvGrpSpPr/>
                <p:nvPr/>
              </p:nvGrpSpPr>
              <p:grpSpPr>
                <a:xfrm>
                  <a:off x="2979360" y="2103120"/>
                  <a:ext cx="358200" cy="290160"/>
                  <a:chOff x="2979360" y="2103120"/>
                  <a:chExt cx="358200" cy="290160"/>
                </a:xfrm>
              </p:grpSpPr>
              <p:sp>
                <p:nvSpPr>
                  <p:cNvPr id="1681" name=""/>
                  <p:cNvSpPr/>
                  <p:nvPr/>
                </p:nvSpPr>
                <p:spPr>
                  <a:xfrm flipV="1">
                    <a:off x="3162960" y="2118600"/>
                    <a:ext cx="0" cy="274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V="1">
                    <a:off x="2979360" y="2103120"/>
                    <a:ext cx="358200" cy="17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83" name=""/>
              <p:cNvSpPr/>
              <p:nvPr/>
            </p:nvSpPr>
            <p:spPr>
              <a:xfrm>
                <a:off x="1817640" y="2679480"/>
                <a:ext cx="1131480" cy="141120"/>
              </a:xfrm>
              <a:custGeom>
                <a:avLst/>
                <a:gdLst/>
                <a:ahLst/>
                <a:rect l="l" t="t" r="r" b="b"/>
                <a:pathLst>
                  <a:path w="713" h="89">
                    <a:moveTo>
                      <a:pt x="0" y="35"/>
                    </a:moveTo>
                    <a:cubicBezTo>
                      <a:pt x="11" y="53"/>
                      <a:pt x="23" y="71"/>
                      <a:pt x="71" y="78"/>
                    </a:cubicBezTo>
                    <a:cubicBezTo>
                      <a:pt x="119" y="85"/>
                      <a:pt x="250" y="89"/>
                      <a:pt x="290" y="78"/>
                    </a:cubicBezTo>
                    <a:cubicBezTo>
                      <a:pt x="330" y="67"/>
                      <a:pt x="297" y="25"/>
                      <a:pt x="311" y="14"/>
                    </a:cubicBezTo>
                    <a:cubicBezTo>
                      <a:pt x="325" y="3"/>
                      <a:pt x="354" y="6"/>
                      <a:pt x="374" y="14"/>
                    </a:cubicBezTo>
                    <a:cubicBezTo>
                      <a:pt x="394" y="22"/>
                      <a:pt x="399" y="58"/>
                      <a:pt x="431" y="64"/>
                    </a:cubicBezTo>
                    <a:cubicBezTo>
                      <a:pt x="463" y="70"/>
                      <a:pt x="540" y="59"/>
                      <a:pt x="565" y="50"/>
                    </a:cubicBezTo>
                    <a:cubicBezTo>
                      <a:pt x="590" y="41"/>
                      <a:pt x="561" y="14"/>
                      <a:pt x="579" y="7"/>
                    </a:cubicBezTo>
                    <a:cubicBezTo>
                      <a:pt x="597" y="0"/>
                      <a:pt x="649" y="2"/>
                      <a:pt x="671" y="7"/>
                    </a:cubicBezTo>
                    <a:cubicBezTo>
                      <a:pt x="693" y="12"/>
                      <a:pt x="703" y="23"/>
                      <a:pt x="713" y="35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604880" y="2579400"/>
                <a:ext cx="212400" cy="155160"/>
              </a:xfrm>
              <a:custGeom>
                <a:avLst/>
                <a:gdLst/>
                <a:ahLst/>
                <a:rect l="l" t="t" r="r" b="b"/>
                <a:pathLst>
                  <a:path w="134" h="98">
                    <a:moveTo>
                      <a:pt x="134" y="98"/>
                    </a:moveTo>
                    <a:cubicBezTo>
                      <a:pt x="125" y="73"/>
                      <a:pt x="116" y="49"/>
                      <a:pt x="106" y="35"/>
                    </a:cubicBezTo>
                    <a:cubicBezTo>
                      <a:pt x="96" y="21"/>
                      <a:pt x="89" y="20"/>
                      <a:pt x="71" y="14"/>
                    </a:cubicBezTo>
                    <a:cubicBezTo>
                      <a:pt x="53" y="8"/>
                      <a:pt x="26" y="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504800" y="2477880"/>
                <a:ext cx="436320" cy="336240"/>
              </a:xfrm>
              <a:custGeom>
                <a:avLst/>
                <a:gdLst/>
                <a:ahLst/>
                <a:rect l="l" t="t" r="r" b="b"/>
                <a:pathLst>
                  <a:path w="275" h="212">
                    <a:moveTo>
                      <a:pt x="275" y="212"/>
                    </a:moveTo>
                    <a:cubicBezTo>
                      <a:pt x="216" y="199"/>
                      <a:pt x="158" y="187"/>
                      <a:pt x="127" y="169"/>
                    </a:cubicBezTo>
                    <a:cubicBezTo>
                      <a:pt x="96" y="151"/>
                      <a:pt x="105" y="131"/>
                      <a:pt x="91" y="106"/>
                    </a:cubicBezTo>
                    <a:cubicBezTo>
                      <a:pt x="77" y="81"/>
                      <a:pt x="57" y="38"/>
                      <a:pt x="42" y="21"/>
                    </a:cubicBezTo>
                    <a:cubicBezTo>
                      <a:pt x="27" y="4"/>
                      <a:pt x="13" y="2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481040" y="2679480"/>
                <a:ext cx="437760" cy="137880"/>
              </a:xfrm>
              <a:custGeom>
                <a:avLst/>
                <a:gdLst/>
                <a:ahLst/>
                <a:rect l="l" t="t" r="r" b="b"/>
                <a:pathLst>
                  <a:path w="276" h="87">
                    <a:moveTo>
                      <a:pt x="276" y="71"/>
                    </a:moveTo>
                    <a:cubicBezTo>
                      <a:pt x="226" y="77"/>
                      <a:pt x="177" y="83"/>
                      <a:pt x="149" y="85"/>
                    </a:cubicBezTo>
                    <a:cubicBezTo>
                      <a:pt x="121" y="87"/>
                      <a:pt x="124" y="86"/>
                      <a:pt x="106" y="85"/>
                    </a:cubicBezTo>
                    <a:cubicBezTo>
                      <a:pt x="88" y="84"/>
                      <a:pt x="57" y="85"/>
                      <a:pt x="43" y="78"/>
                    </a:cubicBezTo>
                    <a:cubicBezTo>
                      <a:pt x="29" y="71"/>
                      <a:pt x="29" y="55"/>
                      <a:pt x="22" y="42"/>
                    </a:cubicBezTo>
                    <a:cubicBezTo>
                      <a:pt x="15" y="29"/>
                      <a:pt x="7" y="14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595440" y="2938320"/>
              <a:ext cx="3119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Implemented hard limits, but not scheduling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8080" y="5769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</a:rPr>
                <a:t>(Other research group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BCC6-C241-404D-B96C-12A1B7CD5C7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07960" y="76320"/>
            <a:ext cx="8142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’Agents: Protecting the machi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ker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terpeter (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5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2403720" y="2332080"/>
            <a:ext cx="239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Authent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Accept or re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Resume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1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02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668920" y="1152360"/>
            <a:ext cx="24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open tutorial.ppt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2392200" y="3762360"/>
            <a:ext cx="3214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Access request (read) and security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{owner, untrusted machines?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5985000" y="3900600"/>
            <a:ext cx="148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Yes / no / qua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18480" y="3900600"/>
            <a:ext cx="11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If yes,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EC18-2D73-4C86-8202-02EC921F00F7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98560" y="80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99800" y="13032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stributed Computing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0240" y="1147680"/>
            <a:ext cx="7826400" cy="2273040"/>
            <a:chOff x="660240" y="1147680"/>
            <a:chExt cx="7826400" cy="2273040"/>
          </a:xfrm>
        </p:grpSpPr>
        <p:sp>
          <p:nvSpPr>
            <p:cNvPr id="73" name=""/>
            <p:cNvSpPr/>
            <p:nvPr/>
          </p:nvSpPr>
          <p:spPr>
            <a:xfrm>
              <a:off x="66024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3184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3872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53480" y="22856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7464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81400" y="1528560"/>
              <a:ext cx="914400" cy="91440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53000" y="175716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59880" y="251424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3920" y="182844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5800" y="19857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51560" y="114768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51560" y="236664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994360" y="1299960"/>
              <a:ext cx="4572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94360" y="2214360"/>
              <a:ext cx="4572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371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85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65760" y="1528560"/>
              <a:ext cx="0" cy="9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79760" y="175716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03960" y="2900160"/>
              <a:ext cx="641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Traditional” Parallel Computing Mod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0" y="364176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4720" y="4048200"/>
            <a:ext cx="8139600" cy="2057400"/>
            <a:chOff x="504720" y="4048200"/>
            <a:chExt cx="8139600" cy="2057400"/>
          </a:xfrm>
        </p:grpSpPr>
        <p:sp>
          <p:nvSpPr>
            <p:cNvPr id="94" name=""/>
            <p:cNvSpPr/>
            <p:nvPr/>
          </p:nvSpPr>
          <p:spPr>
            <a:xfrm>
              <a:off x="733320" y="40482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85600" y="481032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47720" y="4962600"/>
              <a:ext cx="38088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52280" y="404820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95080" y="5724720"/>
              <a:ext cx="381240" cy="380880"/>
            </a:xfrm>
            <a:prstGeom prst="rect">
              <a:avLst/>
            </a:pr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62120" y="45817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62120" y="541980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14200" y="4200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85600" y="44290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875960" y="4429080"/>
              <a:ext cx="22860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14200" y="4429080"/>
              <a:ext cx="533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647360" y="5343480"/>
              <a:ext cx="15228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028600" y="4810320"/>
              <a:ext cx="53352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876320" y="5648040"/>
              <a:ext cx="6858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790720" y="50389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57400" y="4734000"/>
              <a:ext cx="1143000" cy="533520"/>
            </a:xfrm>
            <a:prstGeom prst="rightArrow">
              <a:avLst>
                <a:gd name="adj1" fmla="val 50000"/>
                <a:gd name="adj2" fmla="val 5355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68520" y="4168800"/>
              <a:ext cx="85428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6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10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63200" y="5562720"/>
              <a:ext cx="51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istributed Information System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4720" y="5496120"/>
              <a:ext cx="457200" cy="4572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33320" y="5190840"/>
              <a:ext cx="3808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61920" y="5724720"/>
              <a:ext cx="53316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65C0-C4BF-4DDF-B671-69AAD2DBA85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me managers for all langu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842000" y="4865760"/>
            <a:ext cx="1388880" cy="1377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895480" y="1330200"/>
            <a:ext cx="1255680" cy="97488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45200" y="2662200"/>
            <a:ext cx="3402000" cy="84924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security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248440" y="2031840"/>
            <a:ext cx="3402000" cy="849600"/>
          </a:xfrm>
          <a:prstGeom prst="cube">
            <a:avLst>
              <a:gd name="adj" fmla="val 25981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ava V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338960" y="5208480"/>
            <a:ext cx="1585800" cy="671760"/>
          </a:xfrm>
          <a:prstGeom prst="can">
            <a:avLst>
              <a:gd name="adj" fmla="val 316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8" name="agentred" descr=""/>
          <p:cNvPicPr/>
          <p:nvPr/>
        </p:nvPicPr>
        <p:blipFill>
          <a:blip r:embed="rId1"/>
          <a:stretch/>
        </p:blipFill>
        <p:spPr>
          <a:xfrm>
            <a:off x="903240" y="1704960"/>
            <a:ext cx="509760" cy="527040"/>
          </a:xfrm>
          <a:prstGeom prst="rect">
            <a:avLst/>
          </a:prstGeom>
          <a:ln w="0">
            <a:noFill/>
          </a:ln>
        </p:spPr>
      </p:pic>
      <p:sp>
        <p:nvSpPr>
          <p:cNvPr id="1719" name=""/>
          <p:cNvSpPr/>
          <p:nvPr/>
        </p:nvSpPr>
        <p:spPr>
          <a:xfrm>
            <a:off x="534960" y="1457280"/>
            <a:ext cx="1266840" cy="81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3800" y="1479600"/>
            <a:ext cx="638280" cy="156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H="1">
            <a:off x="1161720" y="1468440"/>
            <a:ext cx="639720" cy="168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2" name="agentred" descr=""/>
          <p:cNvPicPr/>
          <p:nvPr/>
        </p:nvPicPr>
        <p:blipFill>
          <a:blip r:embed="rId2"/>
          <a:stretch/>
        </p:blipFill>
        <p:spPr>
          <a:xfrm>
            <a:off x="6659640" y="1644480"/>
            <a:ext cx="509400" cy="527400"/>
          </a:xfrm>
          <a:prstGeom prst="rect">
            <a:avLst/>
          </a:prstGeom>
          <a:ln w="0">
            <a:noFill/>
          </a:ln>
        </p:spPr>
      </p:pic>
      <p:sp>
        <p:nvSpPr>
          <p:cNvPr id="1723" name=""/>
          <p:cNvSpPr/>
          <p:nvPr/>
        </p:nvSpPr>
        <p:spPr>
          <a:xfrm>
            <a:off x="1849320" y="1897200"/>
            <a:ext cx="1019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030560" y="1897200"/>
            <a:ext cx="258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425920" y="3575160"/>
            <a:ext cx="135000" cy="123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707080" y="3630240"/>
            <a:ext cx="469800" cy="11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597800" y="3597120"/>
            <a:ext cx="527040" cy="170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10160" y="5546880"/>
            <a:ext cx="8622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735360" y="3403440"/>
            <a:ext cx="1774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Same filesystem manager (and same access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162720" y="2309760"/>
            <a:ext cx="200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Java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igitally sig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33280" y="3973680"/>
            <a:ext cx="3111480" cy="2199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a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for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7160">
              <a:lnSpc>
                <a:spcPct val="100000"/>
              </a:lnSpc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 at application level (with normal Tcl/Java supp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58FE-1739-493B-B444-0D4D7DFA2CB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cl/T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277920" y="992160"/>
            <a:ext cx="4070160" cy="5159520"/>
            <a:chOff x="277920" y="992160"/>
            <a:chExt cx="4070160" cy="5159520"/>
          </a:xfrm>
        </p:grpSpPr>
        <p:sp>
          <p:nvSpPr>
            <p:cNvPr id="1734" name=""/>
            <p:cNvSpPr/>
            <p:nvPr/>
          </p:nvSpPr>
          <p:spPr>
            <a:xfrm>
              <a:off x="277920" y="2663640"/>
              <a:ext cx="4070160" cy="348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nterpreted scripting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rything is a string.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ot object-oriented, but has namespa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deal for “glue” appl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00000"/>
                </a:lnSpc>
                <a:spcBef>
                  <a:spcPts val="675"/>
                </a:spcBef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all high-level operation 1, modest processing to decide next operation, call high-level operation 2, 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k provides GUI capabilit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312840" y="992160"/>
              <a:ext cx="4003560" cy="1471680"/>
              <a:chOff x="312840" y="992160"/>
              <a:chExt cx="4003560" cy="1471680"/>
            </a:xfrm>
          </p:grpSpPr>
          <p:sp>
            <p:nvSpPr>
              <p:cNvPr id="1736" name=""/>
              <p:cNvSpPr/>
              <p:nvPr/>
            </p:nvSpPr>
            <p:spPr>
              <a:xfrm>
                <a:off x="1348200" y="1530360"/>
                <a:ext cx="296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scriptics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37" name="tcl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840" y="992160"/>
                <a:ext cx="981000" cy="1471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38" name=""/>
          <p:cNvSpPr/>
          <p:nvPr/>
        </p:nvSpPr>
        <p:spPr>
          <a:xfrm>
            <a:off x="4493160" y="968400"/>
            <a:ext cx="4388400" cy="5202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{filenam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 open the file and read in cont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fd [open $filename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ntents [read $f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ose $f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split the file contents into a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and process each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splitContents [split $contents 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line $splitContents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</a:rPr>
              <a:t># MAIN SCRIPT - call our only proced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 code [catch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process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agent.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errorMessag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f {$code}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ts $error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0100-A842-4DC0-846B-370D3D0AE17D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9" name=""/>
          <p:cNvGrpSpPr/>
          <p:nvPr/>
        </p:nvGrpSpPr>
        <p:grpSpPr>
          <a:xfrm>
            <a:off x="619200" y="1357200"/>
            <a:ext cx="3968640" cy="606240"/>
            <a:chOff x="619200" y="1357200"/>
            <a:chExt cx="3968640" cy="606240"/>
          </a:xfrm>
        </p:grpSpPr>
        <p:sp>
          <p:nvSpPr>
            <p:cNvPr id="1740" name=""/>
            <p:cNvSpPr/>
            <p:nvPr/>
          </p:nvSpPr>
          <p:spPr>
            <a:xfrm>
              <a:off x="619200" y="13572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73560" y="1538280"/>
              <a:ext cx="2032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EXPRE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019680" y="153828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259920" y="76320"/>
            <a:ext cx="85899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cl interpreter that captures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207040" y="1382760"/>
            <a:ext cx="3699000" cy="1988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xp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sh body onto 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5205240" y="4586400"/>
            <a:ext cx="3699000" cy="169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dure WHILE_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err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NEXT_COMMA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 = </a:t>
            </a:r>
            <a:r>
              <a:rPr b="1" lang="en-US" sz="1600" spc="-1" strike="noStrike" u="sng">
                <a:solidFill>
                  <a:srgbClr val="ff3300"/>
                </a:solidFill>
                <a:uFillTx/>
                <a:latin typeface="Courier New"/>
              </a:rPr>
              <a:t>WHILE_EX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359360" y="979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836800" y="98748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com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619200" y="3092400"/>
            <a:ext cx="3968640" cy="606240"/>
            <a:chOff x="619200" y="3092400"/>
            <a:chExt cx="3968640" cy="606240"/>
          </a:xfrm>
        </p:grpSpPr>
        <p:sp>
          <p:nvSpPr>
            <p:cNvPr id="1749" name=""/>
            <p:cNvSpPr/>
            <p:nvPr/>
          </p:nvSpPr>
          <p:spPr>
            <a:xfrm>
              <a:off x="619200" y="309240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680" y="3273120"/>
              <a:ext cx="183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PARSE_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441960" y="3273120"/>
              <a:ext cx="55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619200" y="4543560"/>
            <a:ext cx="3968640" cy="606240"/>
            <a:chOff x="619200" y="4543560"/>
            <a:chExt cx="3968640" cy="606240"/>
          </a:xfrm>
        </p:grpSpPr>
        <p:sp>
          <p:nvSpPr>
            <p:cNvPr id="1753" name=""/>
            <p:cNvSpPr/>
            <p:nvPr/>
          </p:nvSpPr>
          <p:spPr>
            <a:xfrm>
              <a:off x="619200" y="454356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985320" y="47466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3019680" y="47466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6" name=""/>
          <p:cNvGrpSpPr/>
          <p:nvPr/>
        </p:nvGrpSpPr>
        <p:grpSpPr>
          <a:xfrm>
            <a:off x="619200" y="2532240"/>
            <a:ext cx="3968640" cy="606240"/>
            <a:chOff x="619200" y="2532240"/>
            <a:chExt cx="3968640" cy="606240"/>
          </a:xfrm>
        </p:grpSpPr>
        <p:sp>
          <p:nvSpPr>
            <p:cNvPr id="1757" name=""/>
            <p:cNvSpPr/>
            <p:nvPr/>
          </p:nvSpPr>
          <p:spPr>
            <a:xfrm>
              <a:off x="619200" y="2532240"/>
              <a:ext cx="3968640" cy="606240"/>
            </a:xfrm>
            <a:prstGeom prst="cube">
              <a:avLst>
                <a:gd name="adj" fmla="val 816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985320" y="2701800"/>
              <a:ext cx="140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0000"/>
                  </a:solidFill>
                  <a:uFillTx/>
                  <a:latin typeface="Times New Roman"/>
                </a:rPr>
                <a:t>WHILE_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019680" y="2701800"/>
              <a:ext cx="140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expr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565520" y="1666800"/>
            <a:ext cx="773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286280" y="3916440"/>
            <a:ext cx="26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valuate and pop 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567320" y="4856040"/>
            <a:ext cx="772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2631960" y="370836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631960" y="4297320"/>
            <a:ext cx="0" cy="274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-228600" y="2006640"/>
            <a:ext cx="6021360" cy="4141800"/>
          </a:xfrm>
          <a:custGeom>
            <a:avLst/>
            <a:gdLst/>
            <a:ahLst/>
            <a:rect l="l" t="t" r="r" b="b"/>
            <a:pathLst>
              <a:path w="3737" h="2624">
                <a:moveTo>
                  <a:pt x="3737" y="2534"/>
                </a:moveTo>
                <a:cubicBezTo>
                  <a:pt x="2407" y="2579"/>
                  <a:pt x="1078" y="2624"/>
                  <a:pt x="539" y="2202"/>
                </a:cubicBezTo>
                <a:cubicBezTo>
                  <a:pt x="0" y="1780"/>
                  <a:pt x="252" y="890"/>
                  <a:pt x="504" y="0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549680" y="2467080"/>
            <a:ext cx="1209600" cy="649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487-E195-4377-90D8-689284B91D7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148320" y="1411200"/>
            <a:ext cx="42343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ister with the local agent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name 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tain a name in the namesp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3920">
              <a:lnSpc>
                <a:spcPct val="100000"/>
              </a:lnSpc>
              <a:tabLst>
                <a:tab algn="l" pos="0"/>
                <a:tab algn="l" pos="919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register and ex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6573960" y="1162080"/>
            <a:ext cx="1233360" cy="6602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0" name="agentred" descr=""/>
          <p:cNvPicPr/>
          <p:nvPr/>
        </p:nvPicPr>
        <p:blipFill>
          <a:blip r:embed="rId1"/>
          <a:stretch/>
        </p:blipFill>
        <p:spPr>
          <a:xfrm>
            <a:off x="6872400" y="2292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4356720" y="122220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425920" y="2813040"/>
            <a:ext cx="3470400" cy="1116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402160" y="2630520"/>
            <a:ext cx="0" cy="404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8921880" y="2631960"/>
            <a:ext cx="0" cy="405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5400720" y="176184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 flipV="1">
            <a:off x="5630760" y="1763280"/>
            <a:ext cx="1379520" cy="10652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3465000" y="310824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name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 flipH="1" flipV="1">
            <a:off x="7521480" y="1779120"/>
            <a:ext cx="1378080" cy="103356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6986160" y="31068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633096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35880" y="227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759280" y="1546200"/>
            <a:ext cx="460440" cy="628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 flipH="1">
            <a:off x="6028920" y="2308320"/>
            <a:ext cx="257400" cy="784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 flipH="1">
            <a:off x="8008920" y="2360520"/>
            <a:ext cx="257040" cy="784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155520" y="4249800"/>
            <a:ext cx="4256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e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agent&gt; &lt;code&gt; &lt;strin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d a message to a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agent_rece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&lt;varname&gt; &lt;varname&g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eive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9280" y="380376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7" name=""/>
          <p:cNvGrpSpPr/>
          <p:nvPr/>
        </p:nvGrpSpPr>
        <p:grpSpPr>
          <a:xfrm>
            <a:off x="7147080" y="4449600"/>
            <a:ext cx="1780920" cy="716040"/>
            <a:chOff x="7147080" y="4449600"/>
            <a:chExt cx="1780920" cy="716040"/>
          </a:xfrm>
        </p:grpSpPr>
        <p:sp>
          <p:nvSpPr>
            <p:cNvPr id="1788" name=""/>
            <p:cNvSpPr/>
            <p:nvPr/>
          </p:nvSpPr>
          <p:spPr>
            <a:xfrm>
              <a:off x="7147080" y="4751280"/>
              <a:ext cx="1780920" cy="414360"/>
            </a:xfrm>
            <a:prstGeom prst="parallelogram">
              <a:avLst>
                <a:gd name="adj" fmla="val 14762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9" name="agentred" descr=""/>
            <p:cNvPicPr/>
            <p:nvPr/>
          </p:nvPicPr>
          <p:blipFill>
            <a:blip r:embed="rId2"/>
            <a:stretch/>
          </p:blipFill>
          <p:spPr>
            <a:xfrm>
              <a:off x="7803720" y="4449600"/>
              <a:ext cx="50940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0" name=""/>
          <p:cNvSpPr/>
          <p:nvPr/>
        </p:nvSpPr>
        <p:spPr>
          <a:xfrm>
            <a:off x="7311960" y="58356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4505400" y="5127480"/>
            <a:ext cx="1781280" cy="716040"/>
            <a:chOff x="4505400" y="5127480"/>
            <a:chExt cx="1781280" cy="716040"/>
          </a:xfrm>
        </p:grpSpPr>
        <p:sp>
          <p:nvSpPr>
            <p:cNvPr id="1792" name=""/>
            <p:cNvSpPr/>
            <p:nvPr/>
          </p:nvSpPr>
          <p:spPr>
            <a:xfrm>
              <a:off x="4505400" y="5429160"/>
              <a:ext cx="1781280" cy="414360"/>
            </a:xfrm>
            <a:prstGeom prst="parallelogram">
              <a:avLst>
                <a:gd name="adj" fmla="val 14765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3" name="agentred" descr=""/>
            <p:cNvPicPr/>
            <p:nvPr/>
          </p:nvPicPr>
          <p:blipFill>
            <a:blip r:embed="rId3"/>
            <a:stretch/>
          </p:blipFill>
          <p:spPr>
            <a:xfrm>
              <a:off x="5162400" y="5127480"/>
              <a:ext cx="50976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94" name=""/>
          <p:cNvSpPr/>
          <p:nvPr/>
        </p:nvSpPr>
        <p:spPr>
          <a:xfrm>
            <a:off x="4682880" y="583740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V="1">
            <a:off x="5703840" y="4617720"/>
            <a:ext cx="2095560" cy="649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163040" y="4011480"/>
            <a:ext cx="48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1. agent_send {B database} 0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6388200" y="4370400"/>
            <a:ext cx="257040" cy="61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7867080" y="114444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9" name=""/>
          <p:cNvGrpSpPr/>
          <p:nvPr/>
        </p:nvGrpSpPr>
        <p:grpSpPr>
          <a:xfrm>
            <a:off x="6989760" y="4492800"/>
            <a:ext cx="383760" cy="183960"/>
            <a:chOff x="6989760" y="4492800"/>
            <a:chExt cx="383760" cy="183960"/>
          </a:xfrm>
        </p:grpSpPr>
        <p:sp>
          <p:nvSpPr>
            <p:cNvPr id="1800" name=""/>
            <p:cNvSpPr/>
            <p:nvPr/>
          </p:nvSpPr>
          <p:spPr>
            <a:xfrm>
              <a:off x="6992640" y="4492800"/>
              <a:ext cx="380880" cy="1839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1" name=""/>
            <p:cNvGrpSpPr/>
            <p:nvPr/>
          </p:nvGrpSpPr>
          <p:grpSpPr>
            <a:xfrm>
              <a:off x="6989760" y="4494960"/>
              <a:ext cx="383400" cy="82440"/>
              <a:chOff x="6989760" y="4494960"/>
              <a:chExt cx="383400" cy="82440"/>
            </a:xfrm>
          </p:grpSpPr>
          <p:sp>
            <p:nvSpPr>
              <p:cNvPr id="1802" name=""/>
              <p:cNvSpPr/>
              <p:nvPr/>
            </p:nvSpPr>
            <p:spPr>
              <a:xfrm>
                <a:off x="6989760" y="4500360"/>
                <a:ext cx="191880" cy="77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7181280" y="4494960"/>
                <a:ext cx="19188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04" name=""/>
          <p:cNvSpPr/>
          <p:nvPr/>
        </p:nvSpPr>
        <p:spPr>
          <a:xfrm>
            <a:off x="6314040" y="5351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2. agent_receive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H="1">
            <a:off x="7989840" y="4964040"/>
            <a:ext cx="77760" cy="43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B4B3-ECDB-4753-A719-CAA431153BC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179280" y="3314880"/>
            <a:ext cx="877428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127080" y="1344600"/>
            <a:ext cx="42559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rate to a new machine and continue from the point of the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63536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6845400" y="19699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000760" y="158904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5699160" y="2057400"/>
            <a:ext cx="1563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3" name="agentred" descr=""/>
          <p:cNvPicPr/>
          <p:nvPr/>
        </p:nvPicPr>
        <p:blipFill>
          <a:blip r:embed="rId1"/>
          <a:stretch/>
        </p:blipFill>
        <p:spPr>
          <a:xfrm>
            <a:off x="7277040" y="16002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14" name=""/>
          <p:cNvSpPr/>
          <p:nvPr/>
        </p:nvSpPr>
        <p:spPr>
          <a:xfrm>
            <a:off x="6951600" y="24750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4829040" y="2476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571720" y="11127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jump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578640" y="1469880"/>
            <a:ext cx="245880" cy="582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27080" y="4184640"/>
            <a:ext cx="42559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&lt;procedur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&lt;variable-lis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&lt;scrip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a new (child)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9" name=""/>
          <p:cNvGrpSpPr/>
          <p:nvPr/>
        </p:nvGrpSpPr>
        <p:grpSpPr>
          <a:xfrm>
            <a:off x="4277160" y="3440160"/>
            <a:ext cx="4757040" cy="3005640"/>
            <a:chOff x="4277160" y="3440160"/>
            <a:chExt cx="4757040" cy="3005640"/>
          </a:xfrm>
        </p:grpSpPr>
        <p:sp>
          <p:nvSpPr>
            <p:cNvPr id="1820" name=""/>
            <p:cNvSpPr/>
            <p:nvPr/>
          </p:nvSpPr>
          <p:spPr>
            <a:xfrm>
              <a:off x="4538880" y="400536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593040" y="554184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2" name="agentred" descr=""/>
            <p:cNvPicPr/>
            <p:nvPr/>
          </p:nvPicPr>
          <p:blipFill>
            <a:blip r:embed="rId2"/>
            <a:stretch/>
          </p:blipFill>
          <p:spPr>
            <a:xfrm>
              <a:off x="7024680" y="517212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"/>
            <p:cNvSpPr/>
            <p:nvPr/>
          </p:nvSpPr>
          <p:spPr>
            <a:xfrm>
              <a:off x="6699240" y="6046920"/>
              <a:ext cx="136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732200" y="451152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25" name="agentred" descr=""/>
            <p:cNvPicPr/>
            <p:nvPr/>
          </p:nvPicPr>
          <p:blipFill>
            <a:blip r:embed="rId3"/>
            <a:stretch/>
          </p:blipFill>
          <p:spPr>
            <a:xfrm>
              <a:off x="5069160" y="3608280"/>
              <a:ext cx="677880" cy="7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6" name=""/>
            <p:cNvSpPr/>
            <p:nvPr/>
          </p:nvSpPr>
          <p:spPr>
            <a:xfrm>
              <a:off x="5748480" y="4124160"/>
              <a:ext cx="1266840" cy="1041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247440" y="3440160"/>
              <a:ext cx="2786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1. agent_submit 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procs sear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vars 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-scrip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    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{search $query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6656040" y="4627440"/>
              <a:ext cx="157320" cy="258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277160" y="529740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2.search $que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6510240" y="5378400"/>
              <a:ext cx="515880" cy="101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4AE8-0F53-42DF-A623-0F103BB992BC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Tcl primitives (III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326880" y="3166920"/>
            <a:ext cx="4256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&lt;machi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25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ne an agent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f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 chil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930920" y="24829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985080" y="401940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5" name="agentred" descr=""/>
          <p:cNvPicPr/>
          <p:nvPr/>
        </p:nvPicPr>
        <p:blipFill>
          <a:blip r:embed="rId1"/>
          <a:stretch/>
        </p:blipFill>
        <p:spPr>
          <a:xfrm>
            <a:off x="7416720" y="364968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6" name=""/>
          <p:cNvSpPr/>
          <p:nvPr/>
        </p:nvSpPr>
        <p:spPr>
          <a:xfrm>
            <a:off x="7091280" y="452448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5124240" y="2989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8" name="agentred" descr=""/>
          <p:cNvPicPr/>
          <p:nvPr/>
        </p:nvPicPr>
        <p:blipFill>
          <a:blip r:embed="rId2"/>
          <a:stretch/>
        </p:blipFill>
        <p:spPr>
          <a:xfrm>
            <a:off x="5460840" y="208584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39" name=""/>
          <p:cNvSpPr/>
          <p:nvPr/>
        </p:nvSpPr>
        <p:spPr>
          <a:xfrm>
            <a:off x="6140520" y="2602080"/>
            <a:ext cx="1266840" cy="104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6932160" y="27129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fork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>
            <a:off x="7048080" y="3105000"/>
            <a:ext cx="157320" cy="2588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5334120" y="3486240"/>
            <a:ext cx="165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xact copy that continues from fork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H="1">
            <a:off x="6902280" y="3855960"/>
            <a:ext cx="516240" cy="101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08AE-EA69-4B70-9624-5C273CFE697A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ther featu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951840" y="1289160"/>
            <a:ext cx="7237800" cy="4435560"/>
            <a:chOff x="951840" y="1289160"/>
            <a:chExt cx="7237800" cy="4435560"/>
          </a:xfrm>
        </p:grpSpPr>
        <p:sp>
          <p:nvSpPr>
            <p:cNvPr id="1846" name=""/>
            <p:cNvSpPr/>
            <p:nvPr/>
          </p:nvSpPr>
          <p:spPr>
            <a:xfrm>
              <a:off x="1278000" y="141156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Meeting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88960" y="2387880"/>
              <a:ext cx="94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e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951840" y="3357720"/>
              <a:ext cx="202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atus repor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039680" y="4210200"/>
              <a:ext cx="184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Notif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965520" y="4899240"/>
              <a:ext cx="1994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Event-driv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progra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154320" y="12891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econd communication mechanism (direct connection between agent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154320" y="22654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ait for a message, meeting request, data arriving over a meeting, etc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154320" y="323568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hich agents are running on machine A?  Who owns agent X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154320" y="4240440"/>
              <a:ext cx="503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essage from server on agent birth or dea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154320" y="4959360"/>
              <a:ext cx="48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vent handlers for all types of incoming 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4378-E000-442A-A804-46627308580B}" type="slidenum">
              <a:t>6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aming schem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7" name=""/>
          <p:cNvGrpSpPr/>
          <p:nvPr/>
        </p:nvGrpSpPr>
        <p:grpSpPr>
          <a:xfrm>
            <a:off x="225720" y="1224000"/>
            <a:ext cx="8675280" cy="3539880"/>
            <a:chOff x="225720" y="1224000"/>
            <a:chExt cx="8675280" cy="3539880"/>
          </a:xfrm>
        </p:grpSpPr>
        <p:grpSp>
          <p:nvGrpSpPr>
            <p:cNvPr id="1858" name=""/>
            <p:cNvGrpSpPr/>
            <p:nvPr/>
          </p:nvGrpSpPr>
          <p:grpSpPr>
            <a:xfrm>
              <a:off x="5054400" y="3630600"/>
              <a:ext cx="1781280" cy="1133280"/>
              <a:chOff x="5054400" y="3630600"/>
              <a:chExt cx="1781280" cy="1133280"/>
            </a:xfrm>
          </p:grpSpPr>
          <p:grpSp>
            <p:nvGrpSpPr>
              <p:cNvPr id="1859" name=""/>
              <p:cNvGrpSpPr/>
              <p:nvPr/>
            </p:nvGrpSpPr>
            <p:grpSpPr>
              <a:xfrm>
                <a:off x="5054400" y="3630600"/>
                <a:ext cx="1781280" cy="715320"/>
                <a:chOff x="5054400" y="3630600"/>
                <a:chExt cx="1781280" cy="715320"/>
              </a:xfrm>
            </p:grpSpPr>
            <p:sp>
              <p:nvSpPr>
                <p:cNvPr id="1860" name=""/>
                <p:cNvSpPr/>
                <p:nvPr/>
              </p:nvSpPr>
              <p:spPr>
                <a:xfrm>
                  <a:off x="5054400" y="3931920"/>
                  <a:ext cx="1781280" cy="414000"/>
                </a:xfrm>
                <a:prstGeom prst="parallelogram">
                  <a:avLst>
                    <a:gd name="adj" fmla="val 147782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1" name="agentred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711400" y="3630600"/>
                  <a:ext cx="509760" cy="526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2" name=""/>
              <p:cNvSpPr/>
              <p:nvPr/>
            </p:nvSpPr>
            <p:spPr>
              <a:xfrm>
                <a:off x="5221080" y="4365000"/>
                <a:ext cx="1361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3" name=""/>
            <p:cNvGrpSpPr/>
            <p:nvPr/>
          </p:nvGrpSpPr>
          <p:grpSpPr>
            <a:xfrm>
              <a:off x="919080" y="3625560"/>
              <a:ext cx="1780920" cy="1108440"/>
              <a:chOff x="919080" y="3625560"/>
              <a:chExt cx="1780920" cy="1108440"/>
            </a:xfrm>
          </p:grpSpPr>
          <p:grpSp>
            <p:nvGrpSpPr>
              <p:cNvPr id="1864" name=""/>
              <p:cNvGrpSpPr/>
              <p:nvPr/>
            </p:nvGrpSpPr>
            <p:grpSpPr>
              <a:xfrm>
                <a:off x="919080" y="3625560"/>
                <a:ext cx="1780920" cy="716040"/>
                <a:chOff x="919080" y="3625560"/>
                <a:chExt cx="1780920" cy="716040"/>
              </a:xfrm>
            </p:grpSpPr>
            <p:sp>
              <p:nvSpPr>
                <p:cNvPr id="1865" name=""/>
                <p:cNvSpPr/>
                <p:nvPr/>
              </p:nvSpPr>
              <p:spPr>
                <a:xfrm>
                  <a:off x="919080" y="3927240"/>
                  <a:ext cx="1780920" cy="414360"/>
                </a:xfrm>
                <a:prstGeom prst="parallelogram">
                  <a:avLst>
                    <a:gd name="adj" fmla="val 147624"/>
                  </a:avLst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6" name="agentred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575720" y="3625560"/>
                  <a:ext cx="509400" cy="527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67" name=""/>
              <p:cNvSpPr/>
              <p:nvPr/>
            </p:nvSpPr>
            <p:spPr>
              <a:xfrm>
                <a:off x="1096560" y="4335120"/>
                <a:ext cx="137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achine 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8" name=""/>
            <p:cNvSpPr/>
            <p:nvPr/>
          </p:nvSpPr>
          <p:spPr>
            <a:xfrm flipV="1">
              <a:off x="2118960" y="3774960"/>
              <a:ext cx="3584880" cy="6624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25720" y="2665440"/>
              <a:ext cx="278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TR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send {B 17}…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0" name=""/>
            <p:cNvGrpSpPr/>
            <p:nvPr/>
          </p:nvGrpSpPr>
          <p:grpSpPr>
            <a:xfrm>
              <a:off x="3740040" y="3560760"/>
              <a:ext cx="383760" cy="183600"/>
              <a:chOff x="3740040" y="3560760"/>
              <a:chExt cx="383760" cy="183600"/>
            </a:xfrm>
          </p:grpSpPr>
          <p:sp>
            <p:nvSpPr>
              <p:cNvPr id="1871" name=""/>
              <p:cNvSpPr/>
              <p:nvPr/>
            </p:nvSpPr>
            <p:spPr>
              <a:xfrm>
                <a:off x="3742920" y="3560760"/>
                <a:ext cx="380880" cy="183600"/>
              </a:xfrm>
              <a:prstGeom prst="rect">
                <a:avLst/>
              </a:prstGeom>
              <a:noFill/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740040" y="3562920"/>
                <a:ext cx="383400" cy="82080"/>
                <a:chOff x="3740040" y="3562920"/>
                <a:chExt cx="383400" cy="8208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740040" y="3568320"/>
                  <a:ext cx="191880" cy="766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H="1">
                  <a:off x="3931560" y="3562920"/>
                  <a:ext cx="191880" cy="82080"/>
                </a:xfrm>
                <a:prstGeom prst="line">
                  <a:avLst/>
                </a:prstGeom>
                <a:ln w="38160">
                  <a:solidFill>
                    <a:srgbClr val="33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5" name=""/>
            <p:cNvSpPr/>
            <p:nvPr/>
          </p:nvSpPr>
          <p:spPr>
            <a:xfrm>
              <a:off x="5029560" y="3236760"/>
              <a:ext cx="1761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&lt;B, “TR”, 17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689280" y="2112840"/>
              <a:ext cx="1212840" cy="7038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n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028840" y="1224000"/>
              <a:ext cx="1873440" cy="1008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mbolic name (chosen by ag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027560" y="1503360"/>
              <a:ext cx="1873440" cy="13136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eric id (chosen by system, unique per machin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4673520" y="2855880"/>
              <a:ext cx="54900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H="1">
              <a:off x="5940360" y="2273040"/>
              <a:ext cx="5544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flipH="1">
              <a:off x="6578280" y="2855880"/>
              <a:ext cx="728640" cy="437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2" name=""/>
          <p:cNvSpPr/>
          <p:nvPr/>
        </p:nvSpPr>
        <p:spPr>
          <a:xfrm>
            <a:off x="551880" y="5284800"/>
            <a:ext cx="8033400" cy="6404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ion-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ddressing through the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yellow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03A-280A-48AE-953E-A06465DB2D25}" type="slidenum">
              <a:t>6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 skeleton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276120" y="1054080"/>
            <a:ext cx="4248360" cy="48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child {machine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 task, updat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 and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1518120" y="603576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51600" y="1138320"/>
            <a:ext cx="3887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submit ch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machines {A B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submit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$agent(local-server)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procs child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vars machin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-script {child $machines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# ge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code string -blo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136920" y="603720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ent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4527720" y="4202280"/>
            <a:ext cx="660240" cy="178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 flipH="1" flipV="1">
            <a:off x="4527360" y="1053720"/>
            <a:ext cx="671400" cy="1792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D7F-62D1-468A-970A-77AD819772F3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1400760" y="55897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ld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43000" y="1349280"/>
            <a:ext cx="4079880" cy="4168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igrate through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machines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jump $mach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pend results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exec who &lt;&lt; {}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root)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4711680" y="4041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4840200" y="456732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26120" y="17636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385040" y="13273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7" name="agentred" descr=""/>
          <p:cNvPicPr/>
          <p:nvPr/>
        </p:nvPicPr>
        <p:blipFill>
          <a:blip r:embed="rId2"/>
          <a:stretch/>
        </p:blipFill>
        <p:spPr>
          <a:xfrm>
            <a:off x="6656400" y="136692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898" name=""/>
          <p:cNvSpPr/>
          <p:nvPr/>
        </p:nvSpPr>
        <p:spPr>
          <a:xfrm>
            <a:off x="7093080" y="405288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221240" y="457668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481880" y="367992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441560" y="33480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2" name="agentred" descr=""/>
          <p:cNvPicPr/>
          <p:nvPr/>
        </p:nvPicPr>
        <p:blipFill>
          <a:blip r:embed="rId3"/>
          <a:stretch/>
        </p:blipFill>
        <p:spPr>
          <a:xfrm>
            <a:off x="5151600" y="3672000"/>
            <a:ext cx="677880" cy="758880"/>
          </a:xfrm>
          <a:prstGeom prst="rect">
            <a:avLst/>
          </a:prstGeom>
          <a:ln w="0">
            <a:noFill/>
          </a:ln>
        </p:spPr>
      </p:pic>
      <p:sp>
        <p:nvSpPr>
          <p:cNvPr id="1903" name=""/>
          <p:cNvSpPr/>
          <p:nvPr/>
        </p:nvSpPr>
        <p:spPr>
          <a:xfrm>
            <a:off x="5108040" y="33498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351560" y="2151000"/>
            <a:ext cx="436680" cy="1211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639200" y="228132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Submit ch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194600" y="4975200"/>
            <a:ext cx="673200" cy="897120"/>
          </a:xfrm>
          <a:custGeom>
            <a:avLst/>
            <a:gdLst/>
            <a:ahLst/>
            <a:rect l="l" t="t" r="r" b="b"/>
            <a:pathLst>
              <a:path w="375" h="593">
                <a:moveTo>
                  <a:pt x="375" y="0"/>
                </a:moveTo>
                <a:cubicBezTo>
                  <a:pt x="374" y="141"/>
                  <a:pt x="373" y="282"/>
                  <a:pt x="311" y="381"/>
                </a:cubicBezTo>
                <a:cubicBezTo>
                  <a:pt x="249" y="480"/>
                  <a:pt x="124" y="536"/>
                  <a:pt x="0" y="593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22920" y="5450040"/>
            <a:ext cx="52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5535720" y="4986360"/>
            <a:ext cx="1009440" cy="896760"/>
          </a:xfrm>
          <a:custGeom>
            <a:avLst/>
            <a:gdLst/>
            <a:ahLst/>
            <a:rect l="l" t="t" r="r" b="b"/>
            <a:pathLst>
              <a:path w="636" h="565">
                <a:moveTo>
                  <a:pt x="636" y="565"/>
                </a:moveTo>
                <a:cubicBezTo>
                  <a:pt x="466" y="527"/>
                  <a:pt x="297" y="489"/>
                  <a:pt x="191" y="395"/>
                </a:cubicBezTo>
                <a:cubicBezTo>
                  <a:pt x="85" y="301"/>
                  <a:pt x="42" y="15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6273720" y="528480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 flipV="1">
            <a:off x="5502240" y="2139840"/>
            <a:ext cx="1120680" cy="122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4567320" y="2209680"/>
            <a:ext cx="145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end list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8DF6-E0F6-434D-ABD4-129D8B89E1F5}" type="slidenum">
              <a:t>6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what’s new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440" y="2263680"/>
            <a:ext cx="7929000" cy="33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nd services are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different administrative domains, format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dynamically chan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sources appear and disapp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s on data can be one-of-a-k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onal simulations and distribu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assimi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95760" y="136440"/>
            <a:ext cx="3353040" cy="228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55680" y="512604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2B1F-7C41-410A-9933-9F5542A52A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p:transition>
    <p:fade thruBlk="true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3" name="smart" descr=""/>
          <p:cNvPicPr/>
          <p:nvPr/>
        </p:nvPicPr>
        <p:blipFill>
          <a:blip r:embed="rId1"/>
          <a:stretch/>
        </p:blipFill>
        <p:spPr>
          <a:xfrm>
            <a:off x="1030320" y="10270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14" name="list" descr=""/>
          <p:cNvPicPr/>
          <p:nvPr/>
        </p:nvPicPr>
        <p:blipFill>
          <a:blip r:embed="rId2"/>
          <a:stretch/>
        </p:blipFill>
        <p:spPr>
          <a:xfrm>
            <a:off x="216000" y="22478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365760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6" name="agentred" descr=""/>
          <p:cNvPicPr/>
          <p:nvPr/>
        </p:nvPicPr>
        <p:blipFill>
          <a:blip r:embed="rId3"/>
          <a:stretch/>
        </p:blipFill>
        <p:spPr>
          <a:xfrm>
            <a:off x="390852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17" name=""/>
          <p:cNvSpPr/>
          <p:nvPr/>
        </p:nvSpPr>
        <p:spPr>
          <a:xfrm>
            <a:off x="2095560" y="2409840"/>
            <a:ext cx="53352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2554200" y="29462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4153680" y="1601640"/>
            <a:ext cx="195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Ask for qu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663560" y="5373720"/>
            <a:ext cx="203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8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2017800" y="40766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416000" y="582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u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7015320" y="4835520"/>
            <a:ext cx="1828800" cy="969840"/>
            <a:chOff x="7015320" y="4835520"/>
            <a:chExt cx="1828800" cy="969840"/>
          </a:xfrm>
        </p:grpSpPr>
        <p:sp>
          <p:nvSpPr>
            <p:cNvPr id="1924" name=""/>
            <p:cNvSpPr/>
            <p:nvPr/>
          </p:nvSpPr>
          <p:spPr>
            <a:xfrm>
              <a:off x="7015320" y="52722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7974360" y="48355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26" name="agentred" descr=""/>
            <p:cNvPicPr/>
            <p:nvPr/>
          </p:nvPicPr>
          <p:blipFill>
            <a:blip r:embed="rId4"/>
            <a:stretch/>
          </p:blipFill>
          <p:spPr>
            <a:xfrm>
              <a:off x="7216920" y="53118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7" name=""/>
          <p:cNvSpPr/>
          <p:nvPr/>
        </p:nvSpPr>
        <p:spPr>
          <a:xfrm>
            <a:off x="7463880" y="261144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i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7032600" y="1646280"/>
            <a:ext cx="1828800" cy="960120"/>
            <a:chOff x="7032600" y="1646280"/>
            <a:chExt cx="1828800" cy="960120"/>
          </a:xfrm>
        </p:grpSpPr>
        <p:sp>
          <p:nvSpPr>
            <p:cNvPr id="1929" name=""/>
            <p:cNvSpPr/>
            <p:nvPr/>
          </p:nvSpPr>
          <p:spPr>
            <a:xfrm>
              <a:off x="7032600" y="20732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011800" y="16462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31" name="agentred" descr=""/>
            <p:cNvPicPr/>
            <p:nvPr/>
          </p:nvPicPr>
          <p:blipFill>
            <a:blip r:embed="rId5"/>
            <a:stretch/>
          </p:blipFill>
          <p:spPr>
            <a:xfrm>
              <a:off x="7254720" y="21128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"/>
          <p:cNvSpPr/>
          <p:nvPr/>
        </p:nvSpPr>
        <p:spPr>
          <a:xfrm flipV="1">
            <a:off x="4594320" y="25650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4583160" y="50418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5373720" y="41403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. Submit search ag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 Collect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 flipV="1">
            <a:off x="7710480" y="20494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 flipV="1">
            <a:off x="7664400" y="52430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046320" y="3198960"/>
            <a:ext cx="1974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93120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128520" y="4062240"/>
            <a:ext cx="163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9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0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913440" y="900000"/>
            <a:ext cx="223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. Query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. Return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381800" y="3189240"/>
            <a:ext cx="17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ocument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F507-8DC1-4E9C-A413-F2A98A0A5B81}" type="slidenum">
              <a:t>7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2530080" y="76320"/>
            <a:ext cx="6024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Talking to the user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2084400" y="1025640"/>
            <a:ext cx="683892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beg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gister with the agent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-nonewline “Enter a query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s stdin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roxy 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bald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collections {</a:t>
            </a:r>
            <a:r>
              <a:rPr b="1" lang="en-US" sz="1600" spc="-1" strike="noStrike">
                <a:solidFill>
                  <a:srgbClr val="3333cc"/>
                </a:solidFill>
                <a:latin typeface="Courier New"/>
              </a:rPr>
              <a:t>muir tioga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proxy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the proxy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proclist {proxyAgent searchAgent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 collections}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proxyAgent $parent $query $collections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ceive the query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“Query results: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ts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180720" y="3201840"/>
            <a:ext cx="18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nt-e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71360" y="5383080"/>
            <a:ext cx="187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6147-C42D-478C-81EF-2AFDF6745676}" type="slidenum">
              <a:t>7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2085840" y="75960"/>
            <a:ext cx="668520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itting in the middle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1984320" y="925560"/>
            <a:ext cx="6883560" cy="5385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proxyAgent {parent query collections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numCollections [llength $numColle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results {}; set parent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$agent(loc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machine $collections {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ubmit search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ubmit $machin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g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varlist {parent query} -proclist searchAgent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-script {searchAgent $que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{set i 0} {i &lt; $numCollections} {incr i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\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col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code partial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merge into results so f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35080" y="276696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front-end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166680" y="5505480"/>
            <a:ext cx="18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Note: Position of some comments is invalid Tcl synt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626-B662-4147-A00E-7BE4B0E5A17C}" type="slidenum">
              <a:t>7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2019240" y="7632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984320" y="1014480"/>
            <a:ext cx="6883560" cy="514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 searchAgent {parent query}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global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the query to the database interfac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nd receive the 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“$agent(local-server) TR” \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0 “keyword-query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ource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receive code results -blocking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in a more complex version of the TR, u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abstract of the most relevant document 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new query, compare the two result list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# send back the results and s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send $parent 0 $resu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gent_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35080" y="2733840"/>
            <a:ext cx="1736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submitted by the proxy ag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651-716B-4074-A4BC-8031A409755E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4" name="smart" descr=""/>
          <p:cNvPicPr/>
          <p:nvPr/>
        </p:nvPicPr>
        <p:blipFill>
          <a:blip r:embed="rId1"/>
          <a:stretch/>
        </p:blipFill>
        <p:spPr>
          <a:xfrm>
            <a:off x="1041480" y="128268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1955" name="list" descr=""/>
          <p:cNvPicPr/>
          <p:nvPr/>
        </p:nvPicPr>
        <p:blipFill>
          <a:blip r:embed="rId2"/>
          <a:stretch/>
        </p:blipFill>
        <p:spPr>
          <a:xfrm>
            <a:off x="227160" y="2503440"/>
            <a:ext cx="1782720" cy="1785960"/>
          </a:xfrm>
          <a:prstGeom prst="rect">
            <a:avLst/>
          </a:prstGeom>
          <a:ln w="0">
            <a:noFill/>
          </a:ln>
        </p:spPr>
      </p:pic>
      <p:sp>
        <p:nvSpPr>
          <p:cNvPr id="1956" name=""/>
          <p:cNvSpPr/>
          <p:nvPr/>
        </p:nvSpPr>
        <p:spPr>
          <a:xfrm>
            <a:off x="3668760" y="5386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7" name="agentred" descr=""/>
          <p:cNvPicPr/>
          <p:nvPr/>
        </p:nvPicPr>
        <p:blipFill>
          <a:blip r:embed="rId3"/>
          <a:stretch/>
        </p:blipFill>
        <p:spPr>
          <a:xfrm>
            <a:off x="3919680" y="51577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1958" name=""/>
          <p:cNvSpPr/>
          <p:nvPr/>
        </p:nvSpPr>
        <p:spPr>
          <a:xfrm>
            <a:off x="2106720" y="2665440"/>
            <a:ext cx="5331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65360" y="3201840"/>
            <a:ext cx="1344600" cy="19386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178160" y="1738440"/>
            <a:ext cx="243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_be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gets stdin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1181160" y="56498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8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2028960" y="4332240"/>
            <a:ext cx="1847880" cy="1414440"/>
          </a:xfrm>
          <a:custGeom>
            <a:avLst/>
            <a:gdLst/>
            <a:ahLst/>
            <a:rect l="l" t="t" r="r" b="b"/>
            <a:pathLst>
              <a:path w="1270" h="453">
                <a:moveTo>
                  <a:pt x="1270" y="297"/>
                </a:moveTo>
                <a:cubicBezTo>
                  <a:pt x="1009" y="375"/>
                  <a:pt x="748" y="453"/>
                  <a:pt x="536" y="403"/>
                </a:cubicBezTo>
                <a:cubicBezTo>
                  <a:pt x="324" y="353"/>
                  <a:pt x="89" y="67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7026120" y="5091120"/>
            <a:ext cx="1828800" cy="969840"/>
            <a:chOff x="7026120" y="5091120"/>
            <a:chExt cx="1828800" cy="969840"/>
          </a:xfrm>
        </p:grpSpPr>
        <p:sp>
          <p:nvSpPr>
            <p:cNvPr id="1964" name=""/>
            <p:cNvSpPr/>
            <p:nvPr/>
          </p:nvSpPr>
          <p:spPr>
            <a:xfrm>
              <a:off x="7026120" y="552780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985160" y="509112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66" name="agentred" descr=""/>
            <p:cNvPicPr/>
            <p:nvPr/>
          </p:nvPicPr>
          <p:blipFill>
            <a:blip r:embed="rId4"/>
            <a:stretch/>
          </p:blipFill>
          <p:spPr>
            <a:xfrm>
              <a:off x="7227720" y="556740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7" name=""/>
          <p:cNvGrpSpPr/>
          <p:nvPr/>
        </p:nvGrpSpPr>
        <p:grpSpPr>
          <a:xfrm>
            <a:off x="7043760" y="1901880"/>
            <a:ext cx="1828800" cy="960120"/>
            <a:chOff x="7043760" y="1901880"/>
            <a:chExt cx="1828800" cy="960120"/>
          </a:xfrm>
        </p:grpSpPr>
        <p:sp>
          <p:nvSpPr>
            <p:cNvPr id="1968" name=""/>
            <p:cNvSpPr/>
            <p:nvPr/>
          </p:nvSpPr>
          <p:spPr>
            <a:xfrm>
              <a:off x="7043760" y="232884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8022960" y="1901880"/>
              <a:ext cx="68436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0" name="agentred" descr=""/>
            <p:cNvPicPr/>
            <p:nvPr/>
          </p:nvPicPr>
          <p:blipFill>
            <a:blip r:embed="rId5"/>
            <a:stretch/>
          </p:blipFill>
          <p:spPr>
            <a:xfrm>
              <a:off x="7265880" y="2368440"/>
              <a:ext cx="430200" cy="4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1" name=""/>
          <p:cNvSpPr/>
          <p:nvPr/>
        </p:nvSpPr>
        <p:spPr>
          <a:xfrm flipV="1">
            <a:off x="4605480" y="2820600"/>
            <a:ext cx="2644560" cy="24210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594320" y="5297400"/>
            <a:ext cx="2611440" cy="3938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 flipV="1">
            <a:off x="7721640" y="2305080"/>
            <a:ext cx="547560" cy="247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flipV="1">
            <a:off x="7675560" y="5498640"/>
            <a:ext cx="538200" cy="25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90720" y="313848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3. agent_submit proxy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6654960" y="968400"/>
            <a:ext cx="248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gent_sen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agent_s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5384880" y="4398840"/>
            <a:ext cx="249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4. agent_submit search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7. agent_rece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111240" y="4311720"/>
            <a:ext cx="218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9. puts $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0. agent_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46B-F368-424C-BE58-C6D7806B24B0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0" name=""/>
          <p:cNvGrpSpPr/>
          <p:nvPr/>
        </p:nvGrpSpPr>
        <p:grpSpPr>
          <a:xfrm>
            <a:off x="293040" y="762120"/>
            <a:ext cx="3304080" cy="5487480"/>
            <a:chOff x="293040" y="762120"/>
            <a:chExt cx="3304080" cy="5487480"/>
          </a:xfrm>
        </p:grpSpPr>
        <p:grpSp>
          <p:nvGrpSpPr>
            <p:cNvPr id="1981" name=""/>
            <p:cNvGrpSpPr/>
            <p:nvPr/>
          </p:nvGrpSpPr>
          <p:grpSpPr>
            <a:xfrm>
              <a:off x="293040" y="762120"/>
              <a:ext cx="2931480" cy="1725840"/>
              <a:chOff x="293040" y="762120"/>
              <a:chExt cx="2931480" cy="1725840"/>
            </a:xfrm>
          </p:grpSpPr>
          <p:pic>
            <p:nvPicPr>
              <p:cNvPr id="1982" name="javalo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366560" y="762120"/>
                <a:ext cx="783720" cy="1326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3" name=""/>
              <p:cNvSpPr/>
              <p:nvPr/>
            </p:nvSpPr>
            <p:spPr>
              <a:xfrm>
                <a:off x="293040" y="2089080"/>
                <a:ext cx="2931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Times New Roman"/>
                  </a:rPr>
                  <a:t>http://www.javasoft.com/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299880" y="2755800"/>
              <a:ext cx="3297240" cy="34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ilar to C+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Object-ori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ointer-fre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Garbage-collec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ulti-thread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tat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3920" indent="-22392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ompiled into bytecod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tack-based V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4360" indent="-227160">
                <a:lnSpc>
                  <a:spcPct val="130000"/>
                </a:lnSpc>
                <a:buClr>
                  <a:srgbClr val="000066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uch faster than T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5" name=""/>
          <p:cNvSpPr/>
          <p:nvPr/>
        </p:nvSpPr>
        <p:spPr>
          <a:xfrm>
            <a:off x="4022640" y="954000"/>
            <a:ext cx="4754160" cy="5189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class Rectangl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width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height =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nstru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Rectangle(int w, int h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his(w, 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ompute the area of the recta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int area (void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ass UseRectangle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ctangle r = new Rectangle (10, 20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a = r.area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CC8-A76A-444C-B8AE-8B91DEDB041A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2080" y="76320"/>
            <a:ext cx="84582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Java VM that capture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threa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at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2142720" y="17892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2243880" y="2698920"/>
            <a:ext cx="117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337680" y="3679920"/>
            <a:ext cx="125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1886040" y="3573360"/>
            <a:ext cx="990360" cy="1828800"/>
          </a:xfrm>
          <a:prstGeom prst="rect">
            <a:avLst/>
          </a:prstGeom>
          <a:solidFill>
            <a:srgbClr val="ffccff"/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188604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886040" y="144000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790800" y="1440000"/>
            <a:ext cx="0" cy="49528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886040" y="6240240"/>
            <a:ext cx="22860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114640" y="6240600"/>
            <a:ext cx="7596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2190600" y="608760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343240" y="6087960"/>
            <a:ext cx="152280" cy="15264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2495520" y="6164280"/>
            <a:ext cx="304920" cy="7632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800440" y="616428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2952720" y="6012000"/>
            <a:ext cx="228600" cy="3045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3181320" y="601200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257640" y="60879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3333600" y="6087960"/>
            <a:ext cx="152640" cy="22860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3562200" y="6240240"/>
            <a:ext cx="76320" cy="7596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638520" y="6240600"/>
            <a:ext cx="152280" cy="15228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3486240" y="6316560"/>
            <a:ext cx="7596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1886040" y="5402160"/>
            <a:ext cx="190476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886040" y="250668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1886040" y="35733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2876400" y="3573360"/>
            <a:ext cx="0" cy="17528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1886040" y="40305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886040" y="44877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886040" y="4944960"/>
            <a:ext cx="1904760" cy="0"/>
          </a:xfrm>
          <a:prstGeom prst="line">
            <a:avLst/>
          </a:prstGeom>
          <a:ln w="381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2154960" y="35971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26160" y="404172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126160" y="4944960"/>
            <a:ext cx="5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2055240" y="451152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83160" y="974880"/>
            <a:ext cx="189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Thread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4000" y="4414680"/>
            <a:ext cx="146376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e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819360" y="4910040"/>
            <a:ext cx="648720" cy="398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4491000" y="2789280"/>
            <a:ext cx="60660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5459400" y="22240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302600" y="32418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4491000" y="392904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5884920" y="38685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5884920" y="4896000"/>
            <a:ext cx="606240" cy="60624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302600" y="405288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4489560" y="1704960"/>
            <a:ext cx="60624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304040" y="4898880"/>
            <a:ext cx="606600" cy="60660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3675240" y="2004840"/>
            <a:ext cx="7491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3652920" y="3092400"/>
            <a:ext cx="77148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5305320" y="97488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ava objects on he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3311640" y="5160960"/>
            <a:ext cx="2538360" cy="460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478560" y="4349880"/>
            <a:ext cx="828720" cy="5824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6540480" y="4189320"/>
            <a:ext cx="727200" cy="112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6504120" y="3666600"/>
            <a:ext cx="804600" cy="3589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4359240"/>
            <a:ext cx="838080" cy="6271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 flipV="1">
            <a:off x="5138640" y="4179600"/>
            <a:ext cx="749520" cy="442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282840" y="4248000"/>
            <a:ext cx="1141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5130720" y="2046240"/>
            <a:ext cx="401760" cy="2682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180960" y="3603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021120" y="45068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6297480" y="1560600"/>
            <a:ext cx="2667240" cy="1371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-and-sweep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find and serialize all reachable obj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A01-C3DB-4B3D-836A-AB2EF33E486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"/>
          <p:cNvSpPr/>
          <p:nvPr/>
        </p:nvSpPr>
        <p:spPr>
          <a:xfrm>
            <a:off x="1087560" y="4997520"/>
            <a:ext cx="6902280" cy="806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 and Agent Tcl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011040" y="4157640"/>
            <a:ext cx="312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. Same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151360" y="5832360"/>
            <a:ext cx="48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. One-to-one “command”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7520" y="3225960"/>
            <a:ext cx="2992320" cy="86184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4280" y="2577960"/>
            <a:ext cx="2992320" cy="862200"/>
          </a:xfrm>
          <a:prstGeom prst="cube">
            <a:avLst>
              <a:gd name="adj" fmla="val 2301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mon C++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17520" y="1746360"/>
            <a:ext cx="162252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1738440" y="1746360"/>
            <a:ext cx="1565280" cy="1085760"/>
          </a:xfrm>
          <a:prstGeom prst="cube">
            <a:avLst>
              <a:gd name="adj" fmla="val 1856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17520" y="1089000"/>
            <a:ext cx="2989080" cy="862200"/>
          </a:xfrm>
          <a:prstGeom prst="cube">
            <a:avLst>
              <a:gd name="adj" fmla="val 2293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3" name=""/>
          <p:cNvGrpSpPr/>
          <p:nvPr/>
        </p:nvGrpSpPr>
        <p:grpSpPr>
          <a:xfrm>
            <a:off x="4383000" y="1811160"/>
            <a:ext cx="4446360" cy="1552680"/>
            <a:chOff x="4383000" y="1811160"/>
            <a:chExt cx="4446360" cy="1552680"/>
          </a:xfrm>
        </p:grpSpPr>
        <p:grpSp>
          <p:nvGrpSpPr>
            <p:cNvPr id="2054" name=""/>
            <p:cNvGrpSpPr/>
            <p:nvPr/>
          </p:nvGrpSpPr>
          <p:grpSpPr>
            <a:xfrm>
              <a:off x="7048440" y="2647800"/>
              <a:ext cx="1780920" cy="716040"/>
              <a:chOff x="7048440" y="2647800"/>
              <a:chExt cx="1780920" cy="716040"/>
            </a:xfrm>
          </p:grpSpPr>
          <p:sp>
            <p:nvSpPr>
              <p:cNvPr id="2055" name=""/>
              <p:cNvSpPr/>
              <p:nvPr/>
            </p:nvSpPr>
            <p:spPr>
              <a:xfrm>
                <a:off x="704844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6" name="agentred" descr=""/>
              <p:cNvPicPr/>
              <p:nvPr/>
            </p:nvPicPr>
            <p:blipFill>
              <a:blip r:embed="rId2"/>
              <a:stretch/>
            </p:blipFill>
            <p:spPr>
              <a:xfrm>
                <a:off x="770508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57" name=""/>
            <p:cNvGrpSpPr/>
            <p:nvPr/>
          </p:nvGrpSpPr>
          <p:grpSpPr>
            <a:xfrm>
              <a:off x="4383000" y="2647800"/>
              <a:ext cx="1780920" cy="716040"/>
              <a:chOff x="4383000" y="2647800"/>
              <a:chExt cx="1780920" cy="716040"/>
            </a:xfrm>
          </p:grpSpPr>
          <p:sp>
            <p:nvSpPr>
              <p:cNvPr id="2058" name=""/>
              <p:cNvSpPr/>
              <p:nvPr/>
            </p:nvSpPr>
            <p:spPr>
              <a:xfrm>
                <a:off x="4383000" y="2949480"/>
                <a:ext cx="1780920" cy="414360"/>
              </a:xfrm>
              <a:prstGeom prst="parallelogram">
                <a:avLst>
                  <a:gd name="adj" fmla="val 14762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59" name="agentred" descr=""/>
              <p:cNvPicPr/>
              <p:nvPr/>
            </p:nvPicPr>
            <p:blipFill>
              <a:blip r:embed="rId3"/>
              <a:stretch/>
            </p:blipFill>
            <p:spPr>
              <a:xfrm>
                <a:off x="5039640" y="264780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0" name=""/>
            <p:cNvSpPr/>
            <p:nvPr/>
          </p:nvSpPr>
          <p:spPr>
            <a:xfrm flipV="1">
              <a:off x="5592600" y="2809440"/>
              <a:ext cx="2060640" cy="11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549840" y="2562120"/>
              <a:ext cx="383760" cy="184320"/>
              <a:chOff x="6549840" y="2562120"/>
              <a:chExt cx="383760" cy="184320"/>
            </a:xfrm>
          </p:grpSpPr>
          <p:sp>
            <p:nvSpPr>
              <p:cNvPr id="2062" name=""/>
              <p:cNvSpPr/>
              <p:nvPr/>
            </p:nvSpPr>
            <p:spPr>
              <a:xfrm>
                <a:off x="6552720" y="256212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3" name=""/>
              <p:cNvGrpSpPr/>
              <p:nvPr/>
            </p:nvGrpSpPr>
            <p:grpSpPr>
              <a:xfrm>
                <a:off x="6549840" y="2564280"/>
                <a:ext cx="383400" cy="82440"/>
                <a:chOff x="6549840" y="2564280"/>
                <a:chExt cx="383400" cy="82440"/>
              </a:xfrm>
            </p:grpSpPr>
            <p:sp>
              <p:nvSpPr>
                <p:cNvPr id="2064" name=""/>
                <p:cNvSpPr/>
                <p:nvPr/>
              </p:nvSpPr>
              <p:spPr>
                <a:xfrm>
                  <a:off x="6549840" y="256968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>
                  <a:off x="6741360" y="256428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66" name=""/>
            <p:cNvSpPr/>
            <p:nvPr/>
          </p:nvSpPr>
          <p:spPr>
            <a:xfrm>
              <a:off x="4786200" y="1811160"/>
              <a:ext cx="979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cl 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7459560" y="1850760"/>
              <a:ext cx="979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av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8" name=""/>
            <p:cNvGrpSpPr/>
            <p:nvPr/>
          </p:nvGrpSpPr>
          <p:grpSpPr>
            <a:xfrm>
              <a:off x="6549840" y="2031840"/>
              <a:ext cx="383760" cy="184320"/>
              <a:chOff x="6549840" y="2031840"/>
              <a:chExt cx="383760" cy="184320"/>
            </a:xfrm>
          </p:grpSpPr>
          <p:sp>
            <p:nvSpPr>
              <p:cNvPr id="2069" name=""/>
              <p:cNvSpPr/>
              <p:nvPr/>
            </p:nvSpPr>
            <p:spPr>
              <a:xfrm>
                <a:off x="6552720" y="203184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0" name=""/>
              <p:cNvGrpSpPr/>
              <p:nvPr/>
            </p:nvGrpSpPr>
            <p:grpSpPr>
              <a:xfrm>
                <a:off x="6549840" y="2034000"/>
                <a:ext cx="383400" cy="82440"/>
                <a:chOff x="6549840" y="2034000"/>
                <a:chExt cx="383400" cy="8244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6549840" y="203940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6741360" y="203400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3" name=""/>
            <p:cNvGrpSpPr/>
            <p:nvPr/>
          </p:nvGrpSpPr>
          <p:grpSpPr>
            <a:xfrm>
              <a:off x="6549840" y="2295360"/>
              <a:ext cx="383760" cy="184320"/>
              <a:chOff x="6549840" y="2295360"/>
              <a:chExt cx="383760" cy="184320"/>
            </a:xfrm>
          </p:grpSpPr>
          <p:sp>
            <p:nvSpPr>
              <p:cNvPr id="2074" name=""/>
              <p:cNvSpPr/>
              <p:nvPr/>
            </p:nvSpPr>
            <p:spPr>
              <a:xfrm>
                <a:off x="6552720" y="2295360"/>
                <a:ext cx="380880" cy="1843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5" name=""/>
              <p:cNvGrpSpPr/>
              <p:nvPr/>
            </p:nvGrpSpPr>
            <p:grpSpPr>
              <a:xfrm>
                <a:off x="6549840" y="2297520"/>
                <a:ext cx="383400" cy="82440"/>
                <a:chOff x="6549840" y="2297520"/>
                <a:chExt cx="383400" cy="82440"/>
              </a:xfrm>
            </p:grpSpPr>
            <p:sp>
              <p:nvSpPr>
                <p:cNvPr id="2076" name=""/>
                <p:cNvSpPr/>
                <p:nvPr/>
              </p:nvSpPr>
              <p:spPr>
                <a:xfrm>
                  <a:off x="6549840" y="2302920"/>
                  <a:ext cx="191880" cy="77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H="1">
                  <a:off x="6741360" y="2297520"/>
                  <a:ext cx="191880" cy="824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078" name=""/>
          <p:cNvSpPr/>
          <p:nvPr/>
        </p:nvSpPr>
        <p:spPr>
          <a:xfrm>
            <a:off x="3713040" y="2359080"/>
            <a:ext cx="704880" cy="45864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9" name=""/>
          <p:cNvGrpSpPr/>
          <p:nvPr/>
        </p:nvGrpSpPr>
        <p:grpSpPr>
          <a:xfrm>
            <a:off x="1201680" y="5094360"/>
            <a:ext cx="6745320" cy="642600"/>
            <a:chOff x="1201680" y="5094360"/>
            <a:chExt cx="6745320" cy="642600"/>
          </a:xfrm>
        </p:grpSpPr>
        <p:sp>
          <p:nvSpPr>
            <p:cNvPr id="2080" name=""/>
            <p:cNvSpPr/>
            <p:nvPr/>
          </p:nvSpPr>
          <p:spPr>
            <a:xfrm>
              <a:off x="3187440" y="5167080"/>
              <a:ext cx="704520" cy="458280"/>
            </a:xfrm>
            <a:prstGeom prst="rightArrow">
              <a:avLst>
                <a:gd name="adj1" fmla="val 50000"/>
                <a:gd name="adj2" fmla="val 38433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1680" y="523044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_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0120" y="5094360"/>
              <a:ext cx="3746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 agent = new Agent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agent.begin(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C66-1CE2-476E-AB55-077D3ECF5713}" type="slidenum">
              <a:t>7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aj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680" y="1353960"/>
            <a:ext cx="7680240" cy="4820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Agen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hand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or creates an internal C++ ins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native int createNativeAgent 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gent() { handle = createNativeAgent ();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gister and unregister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begin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end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migrate to a new machine (timeout parameter not show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void jump (String machin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ublic native AgentId sub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(String machine, AgentEntryPoint newAgent)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4136760" y="895320"/>
            <a:ext cx="4784760" cy="1491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class AgentEntry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abstract void ru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Agent age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32D-2CB6-4F8C-ADEB-EC8F1D610548}" type="slidenum">
              <a:t>7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"/>
          <p:cNvSpPr/>
          <p:nvPr/>
        </p:nvSpPr>
        <p:spPr>
          <a:xfrm>
            <a:off x="416880" y="1211400"/>
            <a:ext cx="8366040" cy="219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AgentI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achine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name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ymbolic name for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id;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meric id of the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448080" y="2565360"/>
            <a:ext cx="3782880" cy="2469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int code;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essage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t Java: Minor class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85280" y="4110120"/>
            <a:ext cx="8228880" cy="1920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9000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class RecMessage extends Messag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senderId;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ecurityVector securityInfo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curity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ccess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64AE-CABD-4D00-A133-59D3D9E4B260}" type="slidenum">
              <a:t>7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mobile agen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31880" y="3884760"/>
            <a:ext cx="17035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354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33540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3188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13000" y="3198960"/>
            <a:ext cx="17035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01652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agentred" descr=""/>
          <p:cNvPicPr/>
          <p:nvPr/>
        </p:nvPicPr>
        <p:blipFill>
          <a:blip r:embed="rId1"/>
          <a:stretch/>
        </p:blipFill>
        <p:spPr>
          <a:xfrm>
            <a:off x="201312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908600" y="3884760"/>
            <a:ext cx="1701720" cy="514080"/>
          </a:xfrm>
          <a:prstGeom prst="rect">
            <a:avLst/>
          </a:pr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61032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610320" y="371268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08600" y="3198600"/>
            <a:ext cx="681120" cy="68580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89720" y="3198960"/>
            <a:ext cx="1701720" cy="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91440" y="3198960"/>
            <a:ext cx="0" cy="514080"/>
          </a:xfrm>
          <a:prstGeom prst="line">
            <a:avLst/>
          </a:prstGeom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agentred" descr=""/>
          <p:cNvPicPr/>
          <p:nvPr/>
        </p:nvPicPr>
        <p:blipFill>
          <a:blip r:embed="rId2"/>
          <a:stretch/>
        </p:blipFill>
        <p:spPr>
          <a:xfrm>
            <a:off x="5270400" y="2841480"/>
            <a:ext cx="884160" cy="9144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32480" y="2579760"/>
            <a:ext cx="762120" cy="7617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92080" y="2503440"/>
            <a:ext cx="9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imes New Roman"/>
              </a:rPr>
              <a:t>eng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189840" y="297504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22400" y="273204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41560" y="3341520"/>
            <a:ext cx="2286000" cy="76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03880" y="3494160"/>
            <a:ext cx="182880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0160" y="1219320"/>
            <a:ext cx="7483680" cy="825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2400" indent="-1022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gen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Program that acts autonomously on behalf of a user (usually communicating with other agen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160" y="5029200"/>
            <a:ext cx="7483680" cy="1557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6960" indent="-966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obile agent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es from machine to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heterogeneou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171880" indent="-225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imes of its own choosing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E634-9D4C-4FAC-8A08-E7D7E3B1D15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who” agent: Parent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461880" y="971640"/>
            <a:ext cx="8215560" cy="5303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machines = new Vect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“A”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chines.addElement (new String (”B")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childAgent = new ChildAgent (machin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child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03EA-4E0C-45EE-B934-34549C0B0E11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“who” agent: Child agen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433440" y="74916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Child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Vector m_machines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chin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ildAgent (Vector machines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 m_machines = machines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ring executeWhoCommand 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"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igrate through all the machines in the l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m_machine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machine = (String) m_machines.elementAt 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jump (machine, 10)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a.getRootId()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377-B29F-4F3F-B37C-BE97C2AA936A}" type="slidenum">
              <a:t>8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ecuting  the “who” command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250920" y="782640"/>
            <a:ext cx="8651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String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ecuteWhoCommand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: enclosing try-catch, check for non-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it code, etc., are not sh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untime runtime = Runtime.getRunti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ess process = runtime.exec("/usr/bin/who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exitCode = process.waitFor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putStream whoOutputStream = process.getInputStream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InputStream whoOutpu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DataInputStream (whoOutputStream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users = ""; boolean done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!don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line = whoOutput.readLin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line == null) { done = true } else {users = …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(user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750-FD6C-4761-8B36-324B355BBF3E}" type="slidenum">
              <a:t>8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5008680" y="68400"/>
            <a:ext cx="4086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 appl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09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09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0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61120" y="113184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778040" y="3027240"/>
            <a:ext cx="21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5. Send merged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440320" y="4151160"/>
            <a:ext cx="20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imes New Roman"/>
              </a:rPr>
              <a:t>Sen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query and receive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944880" y="2457360"/>
            <a:ext cx="136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 Submit proxy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008960" y="57103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a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88920" y="2606760"/>
            <a:ext cx="138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6. Display resu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344600" y="2678040"/>
            <a:ext cx="2587680" cy="2352600"/>
          </a:xfrm>
          <a:custGeom>
            <a:avLst/>
            <a:gdLst/>
            <a:ahLst/>
            <a:rect l="l" t="t" r="r" b="b"/>
            <a:pathLst>
              <a:path w="1630" h="1482">
                <a:moveTo>
                  <a:pt x="1630" y="1482"/>
                </a:moveTo>
                <a:cubicBezTo>
                  <a:pt x="1236" y="1203"/>
                  <a:pt x="843" y="925"/>
                  <a:pt x="571" y="678"/>
                </a:cubicBezTo>
                <a:cubicBezTo>
                  <a:pt x="299" y="431"/>
                  <a:pt x="149" y="215"/>
                  <a:pt x="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5040360" y="5386320"/>
            <a:ext cx="21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Hardcode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roxy and directory lo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4" name=""/>
          <p:cNvCxnSpPr>
            <a:stCxn id="2121" idx="3"/>
            <a:endCxn id="2120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5" name=""/>
          <p:cNvCxnSpPr>
            <a:stCxn id="2122" idx="3"/>
            <a:endCxn id="2120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23" idx="3"/>
            <a:endCxn id="2120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27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757520" y="5289480"/>
            <a:ext cx="167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 Query yellow pages for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043640" y="4664160"/>
            <a:ext cx="104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ay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FC12-4F4E-48A0-8546-52ACB94EC5C6}" type="slidenum">
              <a:t>8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Getting started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339840" y="960480"/>
            <a:ext cx="8461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query = “…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// keyword que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proxy = “bald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// hard-coded proxy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yp = “mayday”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// hard-coded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 with the ag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imeout after </a:t>
            </a:r>
            <a:r>
              <a:rPr b="1" lang="en-US" sz="1800" spc="-1" strike="noStrike" u="sng">
                <a:solidFill>
                  <a:srgbClr val="008000"/>
                </a:solidFill>
                <a:uFillTx/>
                <a:latin typeface="Courier New"/>
              </a:rPr>
              <a:t>10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bmit the child ag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xyAgent proxyAgent = new ProxyAgent (id, query, yp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childId = a.submit (“localhost”, proxyAgent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ait for and display the results and then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sult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ln (result.getMessage(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C7CF-F01F-4133-B9EA-7B0BBE768AFF}" type="slidenum">
              <a:t>8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: Asking the yellow pag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72880" y="927000"/>
            <a:ext cx="8596440" cy="5212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ProxyAgent extends AgentEntryPoi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AgentId m_pa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d of parent (“front-end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query;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keyword 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String m_yp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yellow-pages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ProxyAg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AgentId parent, String query, String yp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_parent = parent; m_query = query; m_yp = yp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run (Agent 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k the yellow pages to locate TR colle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e that method extractTrIds is not sh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ypId = new AgentId (m_yp, “yellow pages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ypMessage = new Message (0, “locate tr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ypId, yp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ypResonse = a.receive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ector trIds =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extractTrIds(ypResponse.getMessage()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1794-11AB-48DB-B467-FE07F645AD43}" type="slidenum">
              <a:t>8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529920" y="76320"/>
            <a:ext cx="8077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 agent: Searching the collectio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33440" y="793800"/>
            <a:ext cx="8246880" cy="5486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a query message to all the TR coll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ntId = (AgentId) trIds.elementAt(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trMessage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Message (0, “keyword-query “ + m_quer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.send (trId, trMessage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llect the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results = “”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0; i &lt; trIds.size(); ++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trResponse = a.receive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sults = results + …;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erge into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nd back results and ex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ssage message = new Message (0, result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send (m_parent, message, 10); a.end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EA91-A065-4F89-B82B-D57751880E7B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660920" y="55080"/>
            <a:ext cx="440856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: Step by step (redux)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7" name="smart" descr=""/>
          <p:cNvPicPr/>
          <p:nvPr/>
        </p:nvPicPr>
        <p:blipFill>
          <a:blip r:embed="rId1"/>
          <a:stretch/>
        </p:blipFill>
        <p:spPr>
          <a:xfrm>
            <a:off x="355680" y="209520"/>
            <a:ext cx="3139920" cy="1805040"/>
          </a:xfrm>
          <a:prstGeom prst="rect">
            <a:avLst/>
          </a:prstGeom>
          <a:ln w="0">
            <a:noFill/>
          </a:ln>
        </p:spPr>
      </p:pic>
      <p:pic>
        <p:nvPicPr>
          <p:cNvPr id="2138" name="list" descr=""/>
          <p:cNvPicPr/>
          <p:nvPr/>
        </p:nvPicPr>
        <p:blipFill>
          <a:blip r:embed="rId2"/>
          <a:stretch/>
        </p:blipFill>
        <p:spPr>
          <a:xfrm>
            <a:off x="236520" y="1541520"/>
            <a:ext cx="1089000" cy="1092240"/>
          </a:xfrm>
          <a:prstGeom prst="rect">
            <a:avLst/>
          </a:prstGeom>
          <a:ln w="0">
            <a:noFill/>
          </a:ln>
        </p:spPr>
      </p:pic>
      <p:sp>
        <p:nvSpPr>
          <p:cNvPr id="2139" name=""/>
          <p:cNvSpPr/>
          <p:nvPr/>
        </p:nvSpPr>
        <p:spPr>
          <a:xfrm>
            <a:off x="3735360" y="51307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0" name="agentred" descr=""/>
          <p:cNvPicPr/>
          <p:nvPr/>
        </p:nvPicPr>
        <p:blipFill>
          <a:blip r:embed="rId3"/>
          <a:stretch/>
        </p:blipFill>
        <p:spPr>
          <a:xfrm>
            <a:off x="3986280" y="4902120"/>
            <a:ext cx="663480" cy="685800"/>
          </a:xfrm>
          <a:prstGeom prst="rect">
            <a:avLst/>
          </a:prstGeom>
          <a:ln w="0">
            <a:noFill/>
          </a:ln>
        </p:spPr>
      </p:pic>
      <p:sp>
        <p:nvSpPr>
          <p:cNvPr id="2141" name=""/>
          <p:cNvSpPr/>
          <p:nvPr/>
        </p:nvSpPr>
        <p:spPr>
          <a:xfrm>
            <a:off x="1387440" y="1579680"/>
            <a:ext cx="533520" cy="533160"/>
          </a:xfrm>
          <a:prstGeom prst="ellipse">
            <a:avLst/>
          </a:prstGeom>
          <a:noFill/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3525840" y="1108080"/>
            <a:ext cx="23752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1. Agent a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a.begin(…);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366840" y="365436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5. a.send (m_par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7443360" y="582300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7093080" y="52722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7705800" y="5059440"/>
            <a:ext cx="68400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7450920" y="26114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7110360" y="207324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7719840" y="1881360"/>
            <a:ext cx="684360" cy="5936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 flipV="1">
            <a:off x="4672080" y="2431800"/>
            <a:ext cx="3003480" cy="255420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660920" y="5041800"/>
            <a:ext cx="298116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272200" y="4430880"/>
            <a:ext cx="29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4. a.send (trId, …); a_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3533760" y="2057400"/>
            <a:ext cx="31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2. a.submit (proxy, proxyAgent, 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9280" y="265104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6. println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7. a.end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927080" y="2039760"/>
            <a:ext cx="2408400" cy="2778480"/>
          </a:xfrm>
          <a:custGeom>
            <a:avLst/>
            <a:gdLst/>
            <a:ahLst/>
            <a:rect l="l" t="t" r="r" b="b"/>
            <a:pathLst>
              <a:path w="1517" h="1750">
                <a:moveTo>
                  <a:pt x="0" y="0"/>
                </a:moveTo>
                <a:cubicBezTo>
                  <a:pt x="477" y="37"/>
                  <a:pt x="954" y="75"/>
                  <a:pt x="1207" y="367"/>
                </a:cubicBezTo>
                <a:cubicBezTo>
                  <a:pt x="1460" y="659"/>
                  <a:pt x="1488" y="1204"/>
                  <a:pt x="1517" y="175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739640" y="3551400"/>
            <a:ext cx="10947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11132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7200" y="45910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6280" y="510228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58640" y="5580000"/>
            <a:ext cx="336600" cy="3571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1" name=""/>
          <p:cNvCxnSpPr>
            <a:stCxn id="2158" idx="3"/>
            <a:endCxn id="2157" idx="1"/>
          </p:cNvCxnSpPr>
          <p:nvPr/>
        </p:nvCxnSpPr>
        <p:spPr>
          <a:xfrm>
            <a:off x="806400" y="4770360"/>
            <a:ext cx="293040" cy="5119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2" name=""/>
          <p:cNvCxnSpPr>
            <a:stCxn id="2159" idx="3"/>
            <a:endCxn id="2157" idx="1"/>
          </p:cNvCxnSpPr>
          <p:nvPr/>
        </p:nvCxnSpPr>
        <p:spPr>
          <a:xfrm>
            <a:off x="825120" y="5281200"/>
            <a:ext cx="2739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2163" name=""/>
          <p:cNvCxnSpPr>
            <a:stCxn id="2160" idx="3"/>
            <a:endCxn id="2157" idx="1"/>
          </p:cNvCxnSpPr>
          <p:nvPr/>
        </p:nvCxnSpPr>
        <p:spPr>
          <a:xfrm flipV="1">
            <a:off x="807840" y="5280840"/>
            <a:ext cx="291240" cy="4784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164" name=""/>
          <p:cNvSpPr/>
          <p:nvPr/>
        </p:nvSpPr>
        <p:spPr>
          <a:xfrm flipV="1">
            <a:off x="1474920" y="5262120"/>
            <a:ext cx="2487600" cy="111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952560" y="56386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3200" indent="-40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urier New"/>
              </a:rPr>
              <a:t>3. a.send (ypId, …); a.receive(…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1389240" y="2319480"/>
            <a:ext cx="2700000" cy="2487600"/>
          </a:xfrm>
          <a:custGeom>
            <a:avLst/>
            <a:gdLst/>
            <a:ahLst/>
            <a:rect l="l" t="t" r="r" b="b"/>
            <a:pathLst>
              <a:path w="1701" h="1567">
                <a:moveTo>
                  <a:pt x="1701" y="1567"/>
                </a:moveTo>
                <a:cubicBezTo>
                  <a:pt x="1617" y="1111"/>
                  <a:pt x="1534" y="656"/>
                  <a:pt x="1250" y="395"/>
                </a:cubicBezTo>
                <a:cubicBezTo>
                  <a:pt x="966" y="134"/>
                  <a:pt x="483" y="67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23F-43A3-4B4E-B3A6-E7A013F32E90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“Smart” ag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8" name=""/>
          <p:cNvGrpSpPr/>
          <p:nvPr/>
        </p:nvGrpSpPr>
        <p:grpSpPr>
          <a:xfrm>
            <a:off x="290520" y="1754280"/>
            <a:ext cx="2263680" cy="3562920"/>
            <a:chOff x="290520" y="1754280"/>
            <a:chExt cx="2263680" cy="3562920"/>
          </a:xfrm>
        </p:grpSpPr>
        <p:sp>
          <p:nvSpPr>
            <p:cNvPr id="2169" name=""/>
            <p:cNvSpPr/>
            <p:nvPr/>
          </p:nvSpPr>
          <p:spPr>
            <a:xfrm>
              <a:off x="974160" y="4918320"/>
              <a:ext cx="1320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Machin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33240" y="4380120"/>
              <a:ext cx="1828800" cy="533160"/>
            </a:xfrm>
            <a:prstGeom prst="parallelogram">
              <a:avLst>
                <a:gd name="adj" fmla="val 105555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243080" y="4187880"/>
              <a:ext cx="684000" cy="59364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0520" y="1754280"/>
              <a:ext cx="2263680" cy="1618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 stationary agent that provides an interface to Cornell’s Smart 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165320" y="3402000"/>
              <a:ext cx="414360" cy="86364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2903400" y="920880"/>
            <a:ext cx="6174000" cy="5212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 agent = new Agent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gentId id = a.begin (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.name (“TR”, 1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qu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1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RecMessage request = a.receive (-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curityVector secVec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quest.getSecurityInfo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owner = secVec.getOwnerKey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(!secVec.isOwnerAuth(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!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onAccessList(owner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ject 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ndle request, possibly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other th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670-E661-4AE5-B221-F9FC359EAA46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ving along ..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030760" y="2057400"/>
            <a:ext cx="506664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3920" indent="-223920">
              <a:spcBef>
                <a:spcPts val="1749"/>
              </a:spcBef>
              <a:spcAft>
                <a:spcPts val="876"/>
              </a:spcAft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’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876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sults and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Choose when to 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search: Other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spcBef>
                <a:spcPts val="174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The future of mobil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000080" y="267336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A12-6F66-46A9-AC6D-766CFD5532F0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fferent kinds of mobility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143000"/>
            <a:ext cx="0" cy="4952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0240" y="2438280"/>
            <a:ext cx="2152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and contr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7040" y="1457280"/>
            <a:ext cx="4038480" cy="914400"/>
            <a:chOff x="257040" y="1457280"/>
            <a:chExt cx="4038480" cy="914400"/>
          </a:xfrm>
        </p:grpSpPr>
        <p:sp>
          <p:nvSpPr>
            <p:cNvPr id="151" name=""/>
            <p:cNvSpPr/>
            <p:nvPr/>
          </p:nvSpPr>
          <p:spPr>
            <a:xfrm>
              <a:off x="25704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66720" y="1838160"/>
              <a:ext cx="1828800" cy="533520"/>
            </a:xfrm>
            <a:prstGeom prst="parallelogram">
              <a:avLst>
                <a:gd name="adj" fmla="val 105484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976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47600" y="1457280"/>
              <a:ext cx="685800" cy="762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66520" y="1990800"/>
              <a:ext cx="22860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592640" y="5326200"/>
            <a:ext cx="136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data 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704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67080" y="464040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12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47960" y="425916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3865680"/>
            <a:ext cx="2209680" cy="939600"/>
          </a:xfrm>
          <a:custGeom>
            <a:avLst/>
            <a:gdLst/>
            <a:ahLst/>
            <a:rect l="l" t="t" r="r" b="b"/>
            <a:pathLst>
              <a:path w="1392" h="592">
                <a:moveTo>
                  <a:pt x="0" y="584"/>
                </a:moveTo>
                <a:cubicBezTo>
                  <a:pt x="144" y="584"/>
                  <a:pt x="288" y="584"/>
                  <a:pt x="384" y="584"/>
                </a:cubicBezTo>
                <a:cubicBezTo>
                  <a:pt x="480" y="584"/>
                  <a:pt x="504" y="584"/>
                  <a:pt x="576" y="584"/>
                </a:cubicBezTo>
                <a:cubicBezTo>
                  <a:pt x="648" y="584"/>
                  <a:pt x="760" y="592"/>
                  <a:pt x="816" y="584"/>
                </a:cubicBezTo>
                <a:cubicBezTo>
                  <a:pt x="872" y="576"/>
                  <a:pt x="880" y="560"/>
                  <a:pt x="912" y="536"/>
                </a:cubicBezTo>
                <a:cubicBezTo>
                  <a:pt x="944" y="512"/>
                  <a:pt x="984" y="472"/>
                  <a:pt x="1008" y="440"/>
                </a:cubicBezTo>
                <a:cubicBezTo>
                  <a:pt x="1032" y="408"/>
                  <a:pt x="1048" y="384"/>
                  <a:pt x="1056" y="344"/>
                </a:cubicBezTo>
                <a:cubicBezTo>
                  <a:pt x="1064" y="304"/>
                  <a:pt x="1048" y="248"/>
                  <a:pt x="1056" y="200"/>
                </a:cubicBezTo>
                <a:cubicBezTo>
                  <a:pt x="1064" y="152"/>
                  <a:pt x="1080" y="88"/>
                  <a:pt x="1104" y="56"/>
                </a:cubicBezTo>
                <a:cubicBezTo>
                  <a:pt x="1128" y="24"/>
                  <a:pt x="1168" y="16"/>
                  <a:pt x="1200" y="8"/>
                </a:cubicBezTo>
                <a:cubicBezTo>
                  <a:pt x="1232" y="0"/>
                  <a:pt x="1272" y="0"/>
                  <a:pt x="1296" y="8"/>
                </a:cubicBezTo>
                <a:cubicBezTo>
                  <a:pt x="1320" y="16"/>
                  <a:pt x="1328" y="24"/>
                  <a:pt x="1344" y="56"/>
                </a:cubicBezTo>
                <a:cubicBezTo>
                  <a:pt x="1360" y="88"/>
                  <a:pt x="1376" y="144"/>
                  <a:pt x="1392" y="20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45960" y="2819520"/>
            <a:ext cx="2375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1508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24760" y="1676520"/>
            <a:ext cx="1828800" cy="533160"/>
          </a:xfrm>
          <a:prstGeom prst="parallelogram">
            <a:avLst>
              <a:gd name="adj" fmla="val 10555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05640" y="1295280"/>
            <a:ext cx="685800" cy="762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5040" y="17859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2133720"/>
            <a:ext cx="857520" cy="6379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91240" y="1905120"/>
            <a:ext cx="1143000" cy="546120"/>
          </a:xfrm>
          <a:custGeom>
            <a:avLst/>
            <a:gdLst/>
            <a:ahLst/>
            <a:rect l="l" t="t" r="r" b="b"/>
            <a:pathLst>
              <a:path w="720" h="344">
                <a:moveTo>
                  <a:pt x="720" y="0"/>
                </a:moveTo>
                <a:cubicBezTo>
                  <a:pt x="612" y="116"/>
                  <a:pt x="504" y="232"/>
                  <a:pt x="384" y="288"/>
                </a:cubicBezTo>
                <a:cubicBezTo>
                  <a:pt x="264" y="344"/>
                  <a:pt x="64" y="328"/>
                  <a:pt x="0" y="33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1240" y="1752480"/>
            <a:ext cx="1308240" cy="952560"/>
          </a:xfrm>
          <a:custGeom>
            <a:avLst/>
            <a:gdLst/>
            <a:ahLst/>
            <a:rect l="l" t="t" r="r" b="b"/>
            <a:pathLst>
              <a:path w="824" h="600">
                <a:moveTo>
                  <a:pt x="816" y="0"/>
                </a:moveTo>
                <a:cubicBezTo>
                  <a:pt x="820" y="144"/>
                  <a:pt x="824" y="288"/>
                  <a:pt x="768" y="384"/>
                </a:cubicBezTo>
                <a:cubicBezTo>
                  <a:pt x="712" y="480"/>
                  <a:pt x="608" y="552"/>
                  <a:pt x="480" y="576"/>
                </a:cubicBezTo>
                <a:cubicBezTo>
                  <a:pt x="352" y="600"/>
                  <a:pt x="176" y="564"/>
                  <a:pt x="0" y="5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30680" y="5486400"/>
            <a:ext cx="2806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o proxy 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no “system” st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1508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24760" y="4324320"/>
            <a:ext cx="1828800" cy="533520"/>
          </a:xfrm>
          <a:prstGeom prst="parallelogram">
            <a:avLst>
              <a:gd name="adj" fmla="val 10548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05640" y="3943440"/>
            <a:ext cx="685800" cy="761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5040" y="4433760"/>
            <a:ext cx="1563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91240" y="4552920"/>
            <a:ext cx="304920" cy="83808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9840" y="455292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576" y="0"/>
                </a:moveTo>
                <a:cubicBezTo>
                  <a:pt x="528" y="76"/>
                  <a:pt x="480" y="152"/>
                  <a:pt x="384" y="192"/>
                </a:cubicBezTo>
                <a:cubicBezTo>
                  <a:pt x="288" y="232"/>
                  <a:pt x="144" y="236"/>
                  <a:pt x="0" y="24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67360" y="4400640"/>
            <a:ext cx="1067040" cy="863640"/>
          </a:xfrm>
          <a:custGeom>
            <a:avLst/>
            <a:gdLst/>
            <a:ahLst/>
            <a:rect l="l" t="t" r="r" b="b"/>
            <a:pathLst>
              <a:path w="672" h="544">
                <a:moveTo>
                  <a:pt x="624" y="0"/>
                </a:moveTo>
                <a:cubicBezTo>
                  <a:pt x="648" y="148"/>
                  <a:pt x="672" y="296"/>
                  <a:pt x="624" y="384"/>
                </a:cubicBezTo>
                <a:cubicBezTo>
                  <a:pt x="576" y="472"/>
                  <a:pt x="440" y="512"/>
                  <a:pt x="336" y="528"/>
                </a:cubicBezTo>
                <a:cubicBezTo>
                  <a:pt x="232" y="544"/>
                  <a:pt x="116" y="512"/>
                  <a:pt x="0" y="48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95920" y="4724280"/>
            <a:ext cx="857160" cy="6382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6C86-A0C9-4B3F-9F92-F962BBA46C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74480" y="76320"/>
            <a:ext cx="82198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 10 Mb/s Etherne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9" name="queries-ethernet" descr=""/>
          <p:cNvPicPr/>
          <p:nvPr/>
        </p:nvPicPr>
        <p:blipFill>
          <a:blip r:embed="rId1"/>
          <a:stretch/>
        </p:blipFill>
        <p:spPr>
          <a:xfrm>
            <a:off x="1157400" y="113364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86D1-E033-4D8F-B212-8DA42673DBA8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1 Mb/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1" name="queries-roamabout" descr=""/>
          <p:cNvPicPr/>
          <p:nvPr/>
        </p:nvPicPr>
        <p:blipFill>
          <a:blip r:embed="rId1"/>
          <a:stretch/>
        </p:blipFill>
        <p:spPr>
          <a:xfrm>
            <a:off x="1157400" y="110016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DF1-9B5B-459D-BC8D-C9C2A4970074}" type="slidenum">
              <a:t>9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ultiple queries: 0.1 Mb/s mod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3" name="queries-modem" descr=""/>
          <p:cNvPicPr/>
          <p:nvPr/>
        </p:nvPicPr>
        <p:blipFill>
          <a:blip r:embed="rId1"/>
          <a:stretch/>
        </p:blipFill>
        <p:spPr>
          <a:xfrm>
            <a:off x="1157400" y="1122480"/>
            <a:ext cx="682920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303-3737-4BCE-B9FF-89C00BC8B186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ase performanc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5" name="base-roamabout" descr=""/>
          <p:cNvPicPr/>
          <p:nvPr/>
        </p:nvPicPr>
        <p:blipFill>
          <a:blip r:embed="rId1"/>
          <a:stretch/>
        </p:blipFill>
        <p:spPr>
          <a:xfrm>
            <a:off x="1122480" y="1112760"/>
            <a:ext cx="6896160" cy="499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8C6-515C-44C1-863A-7E4DD8EA2822}" type="slidenum">
              <a:t>9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lowers performance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291760" y="3306600"/>
            <a:ext cx="508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 All messages through server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324180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714240" y="2152800"/>
            <a:ext cx="1781280" cy="715320"/>
            <a:chOff x="714240" y="2152800"/>
            <a:chExt cx="1781280" cy="715320"/>
          </a:xfrm>
        </p:grpSpPr>
        <p:sp>
          <p:nvSpPr>
            <p:cNvPr id="2190" name=""/>
            <p:cNvSpPr/>
            <p:nvPr/>
          </p:nvSpPr>
          <p:spPr>
            <a:xfrm>
              <a:off x="714240" y="2454120"/>
              <a:ext cx="1781280" cy="414000"/>
            </a:xfrm>
            <a:prstGeom prst="parallelogram">
              <a:avLst>
                <a:gd name="adj" fmla="val 14778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1" name="agentred" descr=""/>
            <p:cNvPicPr/>
            <p:nvPr/>
          </p:nvPicPr>
          <p:blipFill>
            <a:blip r:embed="rId1"/>
            <a:stretch/>
          </p:blipFill>
          <p:spPr>
            <a:xfrm>
              <a:off x="1371240" y="2152800"/>
              <a:ext cx="509760" cy="52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2" name=""/>
          <p:cNvGrpSpPr/>
          <p:nvPr/>
        </p:nvGrpSpPr>
        <p:grpSpPr>
          <a:xfrm>
            <a:off x="2730600" y="1401840"/>
            <a:ext cx="383760" cy="183960"/>
            <a:chOff x="2730600" y="1401840"/>
            <a:chExt cx="383760" cy="183960"/>
          </a:xfrm>
        </p:grpSpPr>
        <p:sp>
          <p:nvSpPr>
            <p:cNvPr id="2193" name=""/>
            <p:cNvSpPr/>
            <p:nvPr/>
          </p:nvSpPr>
          <p:spPr>
            <a:xfrm>
              <a:off x="2733480" y="140184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4" name=""/>
            <p:cNvGrpSpPr/>
            <p:nvPr/>
          </p:nvGrpSpPr>
          <p:grpSpPr>
            <a:xfrm>
              <a:off x="2730600" y="1404000"/>
              <a:ext cx="383400" cy="82440"/>
              <a:chOff x="2730600" y="1404000"/>
              <a:chExt cx="383400" cy="82440"/>
            </a:xfrm>
          </p:grpSpPr>
          <p:sp>
            <p:nvSpPr>
              <p:cNvPr id="2195" name=""/>
              <p:cNvSpPr/>
              <p:nvPr/>
            </p:nvSpPr>
            <p:spPr>
              <a:xfrm>
                <a:off x="2730600" y="140940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>
                <a:off x="2922120" y="140400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7" name=""/>
          <p:cNvGrpSpPr/>
          <p:nvPr/>
        </p:nvGrpSpPr>
        <p:grpSpPr>
          <a:xfrm>
            <a:off x="2870280" y="2152800"/>
            <a:ext cx="1780920" cy="715320"/>
            <a:chOff x="2870280" y="2152800"/>
            <a:chExt cx="1780920" cy="715320"/>
          </a:xfrm>
        </p:grpSpPr>
        <p:sp>
          <p:nvSpPr>
            <p:cNvPr id="2198" name=""/>
            <p:cNvSpPr/>
            <p:nvPr/>
          </p:nvSpPr>
          <p:spPr>
            <a:xfrm>
              <a:off x="2870280" y="2454120"/>
              <a:ext cx="1780920" cy="414000"/>
            </a:xfrm>
            <a:prstGeom prst="parallelogram">
              <a:avLst>
                <a:gd name="adj" fmla="val 14775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99" name="agentred" descr=""/>
            <p:cNvPicPr/>
            <p:nvPr/>
          </p:nvPicPr>
          <p:blipFill>
            <a:blip r:embed="rId2"/>
            <a:stretch/>
          </p:blipFill>
          <p:spPr>
            <a:xfrm>
              <a:off x="3526920" y="2152800"/>
              <a:ext cx="509400" cy="52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0" name=""/>
          <p:cNvSpPr/>
          <p:nvPr/>
        </p:nvSpPr>
        <p:spPr>
          <a:xfrm flipV="1">
            <a:off x="1900080" y="1669680"/>
            <a:ext cx="1289160" cy="5367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782880" y="1771560"/>
            <a:ext cx="0" cy="34632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84600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981160" y="282744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027080" y="1111320"/>
            <a:ext cx="12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TCP/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214720" y="1703520"/>
            <a:ext cx="223560" cy="2808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5911920" y="2454120"/>
            <a:ext cx="3036960" cy="414360"/>
          </a:xfrm>
          <a:prstGeom prst="parallelogram">
            <a:avLst>
              <a:gd name="adj" fmla="val 1463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7" name="agentred" descr=""/>
          <p:cNvPicPr/>
          <p:nvPr/>
        </p:nvPicPr>
        <p:blipFill>
          <a:blip r:embed="rId3"/>
          <a:stretch/>
        </p:blipFill>
        <p:spPr>
          <a:xfrm>
            <a:off x="6540480" y="2239920"/>
            <a:ext cx="509760" cy="527040"/>
          </a:xfrm>
          <a:prstGeom prst="rect">
            <a:avLst/>
          </a:prstGeom>
          <a:ln w="0">
            <a:noFill/>
          </a:ln>
        </p:spPr>
      </p:pic>
      <p:pic>
        <p:nvPicPr>
          <p:cNvPr id="2208" name="agentred" descr=""/>
          <p:cNvPicPr/>
          <p:nvPr/>
        </p:nvPicPr>
        <p:blipFill>
          <a:blip r:embed="rId4"/>
          <a:stretch/>
        </p:blipFill>
        <p:spPr>
          <a:xfrm>
            <a:off x="7658280" y="2238480"/>
            <a:ext cx="509400" cy="527040"/>
          </a:xfrm>
          <a:prstGeom prst="rect">
            <a:avLst/>
          </a:prstGeom>
          <a:ln w="0">
            <a:noFill/>
          </a:ln>
        </p:spPr>
      </p:pic>
      <p:sp>
        <p:nvSpPr>
          <p:cNvPr id="2209" name=""/>
          <p:cNvSpPr/>
          <p:nvPr/>
        </p:nvSpPr>
        <p:spPr>
          <a:xfrm>
            <a:off x="6846840" y="1082520"/>
            <a:ext cx="1233360" cy="660600"/>
          </a:xfrm>
          <a:prstGeom prst="cube">
            <a:avLst>
              <a:gd name="adj" fmla="val 230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3920" indent="-2239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6624360" y="282744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hin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 flipV="1">
            <a:off x="6810480" y="1782360"/>
            <a:ext cx="336600" cy="4366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7634160" y="1789200"/>
            <a:ext cx="236520" cy="41436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3" name=""/>
          <p:cNvGrpSpPr/>
          <p:nvPr/>
        </p:nvGrpSpPr>
        <p:grpSpPr>
          <a:xfrm>
            <a:off x="6446880" y="1835280"/>
            <a:ext cx="383760" cy="183960"/>
            <a:chOff x="6446880" y="1835280"/>
            <a:chExt cx="383760" cy="183960"/>
          </a:xfrm>
        </p:grpSpPr>
        <p:sp>
          <p:nvSpPr>
            <p:cNvPr id="2214" name=""/>
            <p:cNvSpPr/>
            <p:nvPr/>
          </p:nvSpPr>
          <p:spPr>
            <a:xfrm>
              <a:off x="6449760" y="1835280"/>
              <a:ext cx="380880" cy="18396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5" name=""/>
            <p:cNvGrpSpPr/>
            <p:nvPr/>
          </p:nvGrpSpPr>
          <p:grpSpPr>
            <a:xfrm>
              <a:off x="6446880" y="1837440"/>
              <a:ext cx="383400" cy="82440"/>
              <a:chOff x="6446880" y="1837440"/>
              <a:chExt cx="383400" cy="82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6446880" y="1842840"/>
                <a:ext cx="191880" cy="770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H="1">
                <a:off x="6638400" y="1837440"/>
                <a:ext cx="191880" cy="8244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8" name=""/>
          <p:cNvGrpSpPr/>
          <p:nvPr/>
        </p:nvGrpSpPr>
        <p:grpSpPr>
          <a:xfrm>
            <a:off x="1687680" y="4119480"/>
            <a:ext cx="6292800" cy="1655640"/>
            <a:chOff x="1687680" y="4119480"/>
            <a:chExt cx="6292800" cy="1655640"/>
          </a:xfrm>
        </p:grpSpPr>
        <p:grpSp>
          <p:nvGrpSpPr>
            <p:cNvPr id="2219" name=""/>
            <p:cNvGrpSpPr/>
            <p:nvPr/>
          </p:nvGrpSpPr>
          <p:grpSpPr>
            <a:xfrm>
              <a:off x="4943880" y="4701960"/>
              <a:ext cx="3036600" cy="1073160"/>
              <a:chOff x="4943880" y="4701960"/>
              <a:chExt cx="3036600" cy="1073160"/>
            </a:xfrm>
          </p:grpSpPr>
          <p:sp>
            <p:nvSpPr>
              <p:cNvPr id="2220" name=""/>
              <p:cNvSpPr/>
              <p:nvPr/>
            </p:nvSpPr>
            <p:spPr>
              <a:xfrm>
                <a:off x="4943880" y="5360760"/>
                <a:ext cx="3036600" cy="414360"/>
              </a:xfrm>
              <a:prstGeom prst="parallelogram">
                <a:avLst>
                  <a:gd name="adj" fmla="val 100766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5362920" y="4707000"/>
                <a:ext cx="1233360" cy="963360"/>
              </a:xfrm>
              <a:prstGeom prst="cube">
                <a:avLst>
                  <a:gd name="adj" fmla="val 23018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378840" y="4701960"/>
                <a:ext cx="1233360" cy="963720"/>
              </a:xfrm>
              <a:prstGeom prst="cube">
                <a:avLst>
                  <a:gd name="adj" fmla="val 23018"/>
                </a:avLst>
              </a:prstGeom>
              <a:solidFill>
                <a:srgbClr val="ff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Tc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223920" indent="-223920"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p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3" name=""/>
            <p:cNvGrpSpPr/>
            <p:nvPr/>
          </p:nvGrpSpPr>
          <p:grpSpPr>
            <a:xfrm>
              <a:off x="1687680" y="4890960"/>
              <a:ext cx="1781280" cy="695160"/>
              <a:chOff x="1687680" y="4890960"/>
              <a:chExt cx="1781280" cy="695160"/>
            </a:xfrm>
          </p:grpSpPr>
          <p:sp>
            <p:nvSpPr>
              <p:cNvPr id="2224" name=""/>
              <p:cNvSpPr/>
              <p:nvPr/>
            </p:nvSpPr>
            <p:spPr>
              <a:xfrm>
                <a:off x="1687680" y="5171760"/>
                <a:ext cx="1781280" cy="414360"/>
              </a:xfrm>
              <a:prstGeom prst="parallelogram">
                <a:avLst>
                  <a:gd name="adj" fmla="val 147654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5" name="agentred" descr=""/>
              <p:cNvPicPr/>
              <p:nvPr/>
            </p:nvPicPr>
            <p:blipFill>
              <a:blip r:embed="rId5"/>
              <a:stretch/>
            </p:blipFill>
            <p:spPr>
              <a:xfrm>
                <a:off x="2332440" y="4890960"/>
                <a:ext cx="509400" cy="527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26" name=""/>
            <p:cNvSpPr/>
            <p:nvPr/>
          </p:nvSpPr>
          <p:spPr>
            <a:xfrm>
              <a:off x="2876760" y="5076720"/>
              <a:ext cx="245448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319560" y="4221000"/>
              <a:ext cx="1235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TCP/I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Times New Roman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942000" y="4840200"/>
              <a:ext cx="133200" cy="22392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27800" y="506556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ju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902560" y="4119480"/>
              <a:ext cx="1054080" cy="709560"/>
            </a:xfrm>
            <a:custGeom>
              <a:avLst/>
              <a:gdLst/>
              <a:ahLst/>
              <a:rect l="l" t="t" r="r" b="b"/>
              <a:pathLst>
                <a:path w="657" h="447">
                  <a:moveTo>
                    <a:pt x="0" y="447"/>
                  </a:moveTo>
                  <a:cubicBezTo>
                    <a:pt x="164" y="225"/>
                    <a:pt x="329" y="4"/>
                    <a:pt x="438" y="2"/>
                  </a:cubicBezTo>
                  <a:cubicBezTo>
                    <a:pt x="547" y="0"/>
                    <a:pt x="602" y="216"/>
                    <a:pt x="657" y="433"/>
                  </a:cubicBezTo>
                </a:path>
              </a:pathLst>
            </a:custGeom>
            <a:noFill/>
            <a:ln w="38160">
              <a:solidFill>
                <a:srgbClr val="0000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1" name=""/>
          <p:cNvSpPr/>
          <p:nvPr/>
        </p:nvSpPr>
        <p:spPr>
          <a:xfrm>
            <a:off x="2496960" y="58561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. Interpreter initialization (plus TCP/I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220320" y="3665520"/>
            <a:ext cx="1198800" cy="100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lv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B3B-143D-4A2B-8E26-477CC405A336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PlaceHolder 1"/>
          <p:cNvSpPr>
            <a:spLocks noGrp="1"/>
          </p:cNvSpPr>
          <p:nvPr>
            <p:ph type="title"/>
          </p:nvPr>
        </p:nvSpPr>
        <p:spPr>
          <a:xfrm>
            <a:off x="66348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hoosing to jump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719280" y="973080"/>
            <a:ext cx="770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should jump wh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has become suboptim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the local environment will cease to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n agent will jump to a new machine, M, 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unique resources required by the agen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M has the best environment for the agent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xt task(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n a dynamic environment, this requires “plann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r “control”….solving some sort of optimization problem.  Planning, in turn, requires knowledge of “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1E46-87AE-4EE4-ADB0-AD2356C608C9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gent Planning: An introduc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35120" y="1512720"/>
            <a:ext cx="7341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gents for planning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lanning for agents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oblem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Formulate the decision to jump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 where to jump as an optimizatio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generically NP-Hard because it involves T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problems, uncertainty about future environme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isions about whether to clone or no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developed some simplifications for wh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timal algorithmic solutions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321-EEEA-48DB-88CA-35363F53DCC4}" type="slidenum">
              <a:t>9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veling Agent Problem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Moziumi and Cybenko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69760" y="1393920"/>
            <a:ext cx="740592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ite j “costs” 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o visit and has probability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f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Visit sites until none left or successful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9" name=""/>
          <p:cNvGrpSpPr/>
          <p:nvPr/>
        </p:nvGrpSpPr>
        <p:grpSpPr>
          <a:xfrm>
            <a:off x="1042920" y="2405160"/>
            <a:ext cx="7081560" cy="2325600"/>
            <a:chOff x="1042920" y="2405160"/>
            <a:chExt cx="7081560" cy="2325600"/>
          </a:xfrm>
        </p:grpSpPr>
        <p:sp>
          <p:nvSpPr>
            <p:cNvPr id="2240" name=""/>
            <p:cNvSpPr/>
            <p:nvPr/>
          </p:nvSpPr>
          <p:spPr>
            <a:xfrm>
              <a:off x="1042920" y="4133880"/>
              <a:ext cx="6600600" cy="5968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41" name=""/>
            <p:cNvGrpSpPr/>
            <p:nvPr/>
          </p:nvGrpSpPr>
          <p:grpSpPr>
            <a:xfrm>
              <a:off x="1175400" y="2405160"/>
              <a:ext cx="2570040" cy="2291400"/>
              <a:chOff x="1175400" y="2405160"/>
              <a:chExt cx="2570040" cy="2291400"/>
            </a:xfrm>
          </p:grpSpPr>
          <p:sp>
            <p:nvSpPr>
              <p:cNvPr id="2242" name=""/>
              <p:cNvSpPr/>
              <p:nvPr/>
            </p:nvSpPr>
            <p:spPr>
              <a:xfrm>
                <a:off x="2566800" y="2609640"/>
                <a:ext cx="368280" cy="3679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1265040" y="275580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001320" y="240516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175400" y="4187880"/>
                <a:ext cx="25700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Expected cost =  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6" name=""/>
            <p:cNvGrpSpPr/>
            <p:nvPr/>
          </p:nvGrpSpPr>
          <p:grpSpPr>
            <a:xfrm>
              <a:off x="2932560" y="2405160"/>
              <a:ext cx="2035440" cy="2291400"/>
              <a:chOff x="2932560" y="2405160"/>
              <a:chExt cx="2035440" cy="2291400"/>
            </a:xfrm>
          </p:grpSpPr>
          <p:grpSp>
            <p:nvGrpSpPr>
              <p:cNvPr id="2247" name=""/>
              <p:cNvGrpSpPr/>
              <p:nvPr/>
            </p:nvGrpSpPr>
            <p:grpSpPr>
              <a:xfrm>
                <a:off x="2932560" y="2405160"/>
                <a:ext cx="1614960" cy="1035720"/>
                <a:chOff x="2932560" y="2405160"/>
                <a:chExt cx="1614960" cy="103572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4005000" y="2609640"/>
                  <a:ext cx="36792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49" name=""/>
                <p:cNvGrpSpPr/>
                <p:nvPr/>
              </p:nvGrpSpPr>
              <p:grpSpPr>
                <a:xfrm>
                  <a:off x="2932560" y="2680200"/>
                  <a:ext cx="1067040" cy="760680"/>
                  <a:chOff x="2932560" y="2680200"/>
                  <a:chExt cx="1067040" cy="760680"/>
                </a:xfrm>
              </p:grpSpPr>
              <p:sp>
                <p:nvSpPr>
                  <p:cNvPr id="2250" name=""/>
                  <p:cNvSpPr/>
                  <p:nvPr/>
                </p:nvSpPr>
                <p:spPr>
                  <a:xfrm>
                    <a:off x="2933640" y="2680200"/>
                    <a:ext cx="106596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1" name=""/>
                  <p:cNvSpPr/>
                  <p:nvPr/>
                </p:nvSpPr>
                <p:spPr>
                  <a:xfrm>
                    <a:off x="2932560" y="2680200"/>
                    <a:ext cx="1065240" cy="760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2" name=""/>
                <p:cNvSpPr/>
                <p:nvPr/>
              </p:nvSpPr>
              <p:spPr>
                <a:xfrm>
                  <a:off x="4363920" y="2405160"/>
                  <a:ext cx="18360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3" name=""/>
              <p:cNvSpPr/>
              <p:nvPr/>
            </p:nvSpPr>
            <p:spPr>
              <a:xfrm>
                <a:off x="3611160" y="4187880"/>
                <a:ext cx="13568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"/>
            <p:cNvGrpSpPr/>
            <p:nvPr/>
          </p:nvGrpSpPr>
          <p:grpSpPr>
            <a:xfrm>
              <a:off x="4248360" y="2405160"/>
              <a:ext cx="2746080" cy="2291400"/>
              <a:chOff x="4248360" y="2405160"/>
              <a:chExt cx="2746080" cy="2291400"/>
            </a:xfrm>
          </p:grpSpPr>
          <p:grpSp>
            <p:nvGrpSpPr>
              <p:cNvPr id="2255" name=""/>
              <p:cNvGrpSpPr/>
              <p:nvPr/>
            </p:nvGrpSpPr>
            <p:grpSpPr>
              <a:xfrm>
                <a:off x="4248360" y="2405160"/>
                <a:ext cx="1813680" cy="1112040"/>
                <a:chOff x="4248360" y="2405160"/>
                <a:chExt cx="1813680" cy="1112040"/>
              </a:xfrm>
            </p:grpSpPr>
            <p:sp>
              <p:nvSpPr>
                <p:cNvPr id="2256" name=""/>
                <p:cNvSpPr/>
                <p:nvPr/>
              </p:nvSpPr>
              <p:spPr>
                <a:xfrm>
                  <a:off x="5321160" y="2609640"/>
                  <a:ext cx="368280" cy="367920"/>
                </a:xfrm>
                <a:prstGeom prst="ellipse">
                  <a:avLst/>
                </a:prstGeom>
                <a:solidFill>
                  <a:srgbClr val="00cc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57" name=""/>
                <p:cNvGrpSpPr/>
                <p:nvPr/>
              </p:nvGrpSpPr>
              <p:grpSpPr>
                <a:xfrm>
                  <a:off x="4248360" y="2755800"/>
                  <a:ext cx="1067760" cy="761400"/>
                  <a:chOff x="4248360" y="2755800"/>
                  <a:chExt cx="1067760" cy="761400"/>
                </a:xfrm>
              </p:grpSpPr>
              <p:sp>
                <p:nvSpPr>
                  <p:cNvPr id="2258" name=""/>
                  <p:cNvSpPr/>
                  <p:nvPr/>
                </p:nvSpPr>
                <p:spPr>
                  <a:xfrm>
                    <a:off x="4249440" y="2755800"/>
                    <a:ext cx="106668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9" name=""/>
                  <p:cNvSpPr/>
                  <p:nvPr/>
                </p:nvSpPr>
                <p:spPr>
                  <a:xfrm>
                    <a:off x="4248360" y="2755800"/>
                    <a:ext cx="1065960" cy="7614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00000"/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60" name=""/>
                <p:cNvSpPr/>
                <p:nvPr/>
              </p:nvSpPr>
              <p:spPr>
                <a:xfrm>
                  <a:off x="5679000" y="2405160"/>
                  <a:ext cx="3830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m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61" name=""/>
              <p:cNvSpPr/>
              <p:nvPr/>
            </p:nvSpPr>
            <p:spPr>
              <a:xfrm>
                <a:off x="4861800" y="4187880"/>
                <a:ext cx="213264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+ 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k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(1-p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j</a:t>
                </a:r>
                <a:r>
                  <a:rPr b="1" lang="en-US" sz="2400" spc="-1" strike="noStrike">
                    <a:solidFill>
                      <a:srgbClr val="000066"/>
                    </a:solidFill>
                    <a:latin typeface="Times New Roman"/>
                  </a:rPr>
                  <a:t>)c</a:t>
                </a:r>
                <a:r>
                  <a:rPr b="1" lang="en-US" sz="2400" spc="-1" strike="noStrike" baseline="-25000">
                    <a:solidFill>
                      <a:srgbClr val="000066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2" name=""/>
            <p:cNvGrpSpPr/>
            <p:nvPr/>
          </p:nvGrpSpPr>
          <p:grpSpPr>
            <a:xfrm>
              <a:off x="5608800" y="2405160"/>
              <a:ext cx="2515680" cy="2241000"/>
              <a:chOff x="5608800" y="2405160"/>
              <a:chExt cx="2515680" cy="2241000"/>
            </a:xfrm>
          </p:grpSpPr>
          <p:grpSp>
            <p:nvGrpSpPr>
              <p:cNvPr id="2263" name=""/>
              <p:cNvGrpSpPr/>
              <p:nvPr/>
            </p:nvGrpSpPr>
            <p:grpSpPr>
              <a:xfrm>
                <a:off x="7056000" y="2755800"/>
                <a:ext cx="1068480" cy="761400"/>
                <a:chOff x="7056000" y="2755800"/>
                <a:chExt cx="1068480" cy="76140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70578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7056000" y="2755800"/>
                  <a:ext cx="106668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540000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6" name=""/>
              <p:cNvGrpSpPr/>
              <p:nvPr/>
            </p:nvGrpSpPr>
            <p:grpSpPr>
              <a:xfrm>
                <a:off x="5608800" y="2405160"/>
                <a:ext cx="1864440" cy="2241000"/>
                <a:chOff x="5608800" y="2405160"/>
                <a:chExt cx="1864440" cy="2241000"/>
              </a:xfrm>
            </p:grpSpPr>
            <p:grpSp>
              <p:nvGrpSpPr>
                <p:cNvPr id="2267" name=""/>
                <p:cNvGrpSpPr/>
                <p:nvPr/>
              </p:nvGrpSpPr>
              <p:grpSpPr>
                <a:xfrm>
                  <a:off x="5608800" y="2405160"/>
                  <a:ext cx="1820160" cy="1112040"/>
                  <a:chOff x="5608800" y="2405160"/>
                  <a:chExt cx="1820160" cy="1112040"/>
                </a:xfrm>
              </p:grpSpPr>
              <p:sp>
                <p:nvSpPr>
                  <p:cNvPr id="2268" name=""/>
                  <p:cNvSpPr/>
                  <p:nvPr/>
                </p:nvSpPr>
                <p:spPr>
                  <a:xfrm>
                    <a:off x="6681600" y="2609640"/>
                    <a:ext cx="368280" cy="367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269" name=""/>
                  <p:cNvGrpSpPr/>
                  <p:nvPr/>
                </p:nvGrpSpPr>
                <p:grpSpPr>
                  <a:xfrm>
                    <a:off x="5608800" y="2755800"/>
                    <a:ext cx="1067760" cy="761400"/>
                    <a:chOff x="5608800" y="2755800"/>
                    <a:chExt cx="1067760" cy="761400"/>
                  </a:xfrm>
                </p:grpSpPr>
                <p:sp>
                  <p:nvSpPr>
                    <p:cNvPr id="2270" name=""/>
                    <p:cNvSpPr/>
                    <p:nvPr/>
                  </p:nvSpPr>
                  <p:spPr>
                    <a:xfrm>
                      <a:off x="5609880" y="2755800"/>
                      <a:ext cx="106668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00" y="21600"/>
                          </a:moveTo>
                          <a:arcTo wR="10800" hR="10800" stAng="540000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00" y="21600"/>
                          </a:moveTo>
                          <a:arcTo wR="10800" hR="10800" stAng="540000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>
                      <a:off x="5608800" y="2755800"/>
                      <a:ext cx="1065960" cy="76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21600" y="10800"/>
                          </a:moveTo>
                          <a:arcTo wR="10800" hR="10800" stAng="0" swAng="5400000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21600" y="10800"/>
                          </a:moveTo>
                          <a:arcTo wR="10800" hR="10800" stAng="0" swAng="5400000"/>
                        </a:path>
                      </a:pathLst>
                    </a:custGeom>
                    <a:noFill/>
                    <a:ln cap="rnd" w="25560">
                      <a:solidFill>
                        <a:srgbClr val="000000"/>
                      </a:solidFill>
                      <a:miter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272" name=""/>
                  <p:cNvSpPr/>
                  <p:nvPr/>
                </p:nvSpPr>
                <p:spPr>
                  <a:xfrm>
                    <a:off x="7115760" y="2405160"/>
                    <a:ext cx="31320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n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73" name=""/>
                <p:cNvSpPr/>
                <p:nvPr/>
              </p:nvSpPr>
              <p:spPr>
                <a:xfrm>
                  <a:off x="6811200" y="4187880"/>
                  <a:ext cx="662040" cy="45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Times New Roman"/>
                    </a:rPr>
                    <a:t>+ </a:t>
                  </a:r>
                  <a:r>
                    <a:rPr b="0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..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274" name=""/>
          <p:cNvSpPr/>
          <p:nvPr/>
        </p:nvSpPr>
        <p:spPr>
          <a:xfrm>
            <a:off x="323640" y="5072040"/>
            <a:ext cx="854280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eorem:  Minimum occurs when  p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/c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are in decreasing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his is a stochastic version of the Traveling Salesman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3012840" y="24922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455000" y="249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05280" y="2494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7110720" y="2492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17AA-9A21-41F0-8642-B7218E6C47EC}" type="slidenum">
              <a:t>9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aveling agent in multiple LAN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85800" y="2133720"/>
            <a:ext cx="2209680" cy="12189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704960" y="3371760"/>
            <a:ext cx="122400" cy="1344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flipV="1">
            <a:off x="2870280" y="4644720"/>
            <a:ext cx="560160" cy="4525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685960" y="3121200"/>
            <a:ext cx="679680" cy="657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2741040" y="1946160"/>
            <a:ext cx="285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AN 1 has 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4033800" y="4776840"/>
            <a:ext cx="14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k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112200" y="2967120"/>
            <a:ext cx="169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atency 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6181560" y="2290680"/>
            <a:ext cx="238464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sult 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eads t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2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(1+m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tep algorit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94720" y="1260360"/>
            <a:ext cx="80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tencies constant within LAN’s, but variable across LAN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6400" y="3560760"/>
            <a:ext cx="2209680" cy="12193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62120" y="4762440"/>
            <a:ext cx="2209680" cy="121932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1898640" y="5881680"/>
            <a:ext cx="1521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</a:t>
            </a:r>
            <a:r>
              <a:rPr b="1" lang="en-US" sz="2400" spc="-1" strike="noStrike" baseline="-25000">
                <a:solidFill>
                  <a:srgbClr val="cc0000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96920" y="38815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1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604960" y="4324320"/>
            <a:ext cx="59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L</a:t>
            </a:r>
            <a:r>
              <a:rPr b="1" lang="en-US" sz="2400" spc="-1" strike="noStrike" baseline="-25000">
                <a:solidFill>
                  <a:srgbClr val="336600"/>
                </a:solidFill>
                <a:latin typeface="Times New Roman"/>
              </a:rPr>
              <a:t>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F5D2-7F70-4B80-9BB6-9A390BFF889B}" type="slidenum">
              <a:t>9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ltiple Agent Problem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846000" y="30132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3255840" y="3024360"/>
            <a:ext cx="476280" cy="40608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080"/>
              <a:gd name="textAreaBottom" fmla="*/ 313560 h 406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267000" y="361800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260880" y="2482920"/>
            <a:ext cx="475920" cy="406440"/>
          </a:xfrm>
          <a:custGeom>
            <a:avLst/>
            <a:gdLst>
              <a:gd name="textAreaLeft" fmla="*/ 108720 w 475920"/>
              <a:gd name="textAreaRight" fmla="*/ 367200 w 47592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3236760" y="1206360"/>
            <a:ext cx="476280" cy="406440"/>
          </a:xfrm>
          <a:custGeom>
            <a:avLst/>
            <a:gdLst>
              <a:gd name="textAreaLeft" fmla="*/ 108720 w 476280"/>
              <a:gd name="textAreaRight" fmla="*/ 367560 w 476280"/>
              <a:gd name="textAreaTop" fmla="*/ 92520 h 406440"/>
              <a:gd name="textAreaBottom" fmla="*/ 313920 h 406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14520" y="1868040"/>
            <a:ext cx="600120" cy="45900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2344680" y="3297240"/>
            <a:ext cx="4939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285920" y="2292480"/>
            <a:ext cx="811080" cy="6350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1334880" y="4368960"/>
            <a:ext cx="28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many agent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ate/clon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5109840" y="1370160"/>
            <a:ext cx="350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have efficien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lgorithms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ing multiple-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heduling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prob of success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P-complete, for prob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ivial and for p&gt;1/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vable efficiently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096640" y="5535720"/>
            <a:ext cx="49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prising results, much more to 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959120" y="5423040"/>
            <a:ext cx="5222880" cy="687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PPS/SPDP'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859-E57B-44C5-953C-FD6E3C6B9998}" type="slidenum">
              <a:t>9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/21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31T15:54:48Z</dcterms:created>
  <dc:creator>hiro</dc:creator>
  <dc:description/>
  <dc:language>en-US</dc:language>
  <cp:lastModifiedBy>hiro</cp:lastModifiedBy>
  <cp:lastPrinted>1999-04-27T12:51:47Z</cp:lastPrinted>
  <dcterms:modified xsi:type="dcterms:W3CDTF">1999-04-27T12:57:03Z</dcterms:modified>
  <cp:revision>711</cp:revision>
  <dc:subject/>
  <dc:title>Mobile Agents in Distribute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actcomm.dartmouth.edu/~rgray/</vt:lpwstr>
  </property>
  <property fmtid="{D5CDD505-2E9C-101B-9397-08002B2CF9AE}" pid="9" name="LinkColor">
    <vt:r8>16711782</vt:r8>
  </property>
  <property fmtid="{D5CDD505-2E9C-101B-9397-08002B2CF9AE}" pid="10" name="MailAddress">
    <vt:lpwstr>robert.s.gray@dartmouth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F:\bob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