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8EF8-C10E-44AF-BDBD-84B98D9C7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C7C73-6A98-4BB4-A04E-31301C756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F37F-0C70-4AD6-BBB9-296115D10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B928E-D7FF-4726-82CB-BFBD9496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CF594-FB4A-40EA-BF35-4B7695D28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CD59-BF76-48DC-9265-BE1E90A3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591A0-7A07-48C7-838C-D4D5E6E7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CEA6-2BDF-4A6C-A0BF-F7C762B9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F38D-E9DD-40C8-B7FE-08D841D8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0D36-70C1-4FB0-A05A-DCE5BD7DD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BCC7-5058-4608-AA21-F4A3AD4BA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14E7-CDBB-47F9-896F-E1C6E98F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3A21-E0E7-45B2-8453-F910E28C0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BAE7-5526-4F21-BEE9-0B4443581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C092A0E-BA44-4D66-8579-69A1E718120F}"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D1D5772-5CB3-4216-AF6E-E3C81B9D300D}"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75E40AB-0915-4E8F-A0D9-EDB1A4E3508B}"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DFA5DFE-A753-47B5-9ECD-A1E1C199246B}"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9F79606-2CFF-41CE-B93D-4A121722539C}"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9A570A3-1F40-4B13-94CF-CA0582906F79}"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4838382-D559-4852-A3BB-16F1AC65AE3A}"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FC2ED0A-0B83-40BE-8E42-B657EBFFE6A5}"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34827C7-D44C-440C-8B1E-50D5D41DDECF}"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48FD12F-329C-4CF1-BAD6-65B1CD81EBC0}"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BCD9380-D8F0-4C16-8B31-37792DFA7CA6}"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36EEEDB-1901-485F-9ECD-28EA0D035E50}"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86AF995-2226-4351-BB45-BFBEDF07524A}"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19DBEF0-E1C5-42E2-B453-698A35388FA3}"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A16175C-B7AE-46D9-A825-ECC951072D20}"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8A2F299-B695-4515-8777-AE59E8EB1C5C}"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049D74-F546-4B14-A711-CFC1FA6604ED}"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408F908-31F8-46EE-AA72-A692503B71B6}"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FA4DDD5-7239-42DF-9013-B80E9A155853}"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3995EFF-693B-4C99-B78D-318A82F7C2C5}"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56D729-B806-4D19-B79F-0CDAB8647183}"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FF2D700-F102-421C-9893-92E94F7A58DB}"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1A76CE-EFC5-422A-80B4-D2D07AC45104}"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231A185-0B55-4C3A-8DDE-E22B43857A7D}"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21DCC93-A6B2-4A1E-9C1B-3772DBCDF140}"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86602DA-E82A-49F1-8F2A-2BBCE392D31B}"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09F5B4F-A8F9-4694-81C6-43BB7155C1A6}"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17FAD73-11B3-4E07-A1DD-C862F90B4036}"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5A3A31D-B2D6-4FA6-9076-01AFB9BD3A21}"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2A727B0-3916-408C-870C-CA06C62C1B71}"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B8B1AC2-B5F9-4685-BB3C-C36501FDAFF0}"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9D87E4F-B4FB-47C0-ABF9-B7749146138F}"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8CA3337-65EC-45A7-98AE-3B7603021DFB}"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03BD0CA-7574-49DE-B18D-ABD24B1FE13F}"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7CF8C45-F765-472D-89EF-D1ADC26C5E67}"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74A02C6-D765-4391-829D-0C3954A1C466}"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F034DD7-6CD1-49FD-BEC7-7014FFFEA197}"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4335C2F-FB54-4105-9447-39988F3969EE}"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2F7A657-421F-41F1-AE33-2B57F424FCC6}"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212DE6A-E527-48E5-A042-F60731E6DDCF}"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736A805-C0F4-4ACC-8038-23C9FC16D7E3}"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B2ADA03-F717-4A91-88EC-8FFC85535989}"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4DF002C-B677-4448-82FC-D88F3A2621BD}"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875FFF8-D8E3-4FDF-A692-4D56FE87DAD0}"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C60499B-C6A7-4CE8-9C29-21F12233FDC6}"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5DEF1D0-4748-4487-AA6D-8004485A5413}"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83CA3EE-F5B4-4E6E-8955-7D31D8101B2A}"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BC7620B-FAEF-4455-96B9-C55F3F968914}"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9685E4C-431E-4BAE-A4F7-A9BACD7C4586}"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11B6070-59BC-455A-8ACB-F48A27E74934}"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EB01C74-B3BD-4E69-A78C-6927A2F14121}"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C8A6758-1F1B-48C8-BEC8-8FDC4B2D85A2}"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7667A3-17EB-4CC6-8733-F4A12B24EF20}"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38B38FC-0BB1-4210-8C7F-FE3843618441}"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7BA94FA-5BD1-499C-9BD0-F9A2ACB7DF14}"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6DAE221-AD3D-4645-8846-FB103163C186}"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9B286BE-739D-4AE0-AFC0-E678CD7001F7}"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27761F9-9E4C-4FAC-A664-763BC0F33AF3}"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766D9EE-707C-418A-8BE6-F1D00D79F624}"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2BF3081-2C13-4E2C-9D95-F08111AB0712}"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EBB19DE-E402-4A93-9927-97BE832AFBB9}"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64D34F4-B411-46B0-8CE3-7CD2BDFFDA30}"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CB5681D-488A-416B-ADEA-FC18A57D70DA}"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F5482F0-0EC2-429F-8001-C6E3213BB843}"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F0A562A-667E-46F9-AFC2-B8CF7284E280}"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983551F-3872-44D8-9437-FA96BBD319B4}"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637861A-498F-468E-A952-4D84D96D5C07}"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1CD9BEF-49E6-4FCB-BF8B-9BB693D51926}"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729CB21-E772-49C5-A886-4EC6F95C0454}"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5D4A573-A87E-45B5-B80F-4C96D19DA191}"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C63FF0A-49C2-4364-BE6D-310D32624B85}"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F67F715-E1B8-47CF-9D4F-94B36D32A448}"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4BEDCD4-940B-4EC5-AB05-AB91B46A1EF9}"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50AF439-3A9E-4893-A85E-4B49F510AC17}"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AE2E167-12AE-40B8-ABF2-733C9C4099B4}"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DBEFDCD-776A-4749-AC88-FD7BD6B664AE}"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B29846-20A4-4F47-B5F1-D82206B0AD0A}"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18793AC-0854-4D01-B86F-A9974F93D462}"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1CFBC0A-0EF2-4F7F-A766-A416E9606DD6}"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2D480E0-D66F-4502-B4EF-B3A3649AE894}"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B8357E7-63B2-494D-82AF-31B1FC35089D}"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4860D50-6DDF-4646-BAC5-364B3E7AA22F}"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CEA87EE-83CB-42B4-8CA4-3F818AF4F1BE}"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E83963B-4BDE-440E-A69B-2DE0818FB0D1}"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EB44C11-AA42-40C8-B212-065C09EE5958}"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CDC688E-9E80-446E-9261-9403623BE73B}"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874A0C9-38F0-4C40-B648-002D93EFB59F}"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9A63ED8-19A1-4949-BF3D-CB5410EF5853}"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0FF7B86-DDF4-4E22-9F1A-0776C1C5276C}"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FA9D25A-B87D-4705-9464-86580720D840}"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4170316-386E-4261-952D-AD87D6448591}"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337A38A-4343-42ED-ACCD-614066B4D502}"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F0F38EC-4390-4A42-AC99-7E43DC0B59E6}"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E3C983E-7EB7-4FDC-A2FB-9D9E529FF94E}"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A59503E-4E18-4E4C-934F-AD0DF160408F}"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3B55886-F010-46C8-8467-1B94510383FC}"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EC241CC-A32B-464B-AC12-B5B5105C66A8}"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672E8AC-2267-470A-A3BB-652BA3224B9A}"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DF863A8-B743-46A9-B6D9-F8A4DF16A67C}"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2C75D71-55C5-4A06-B5C5-CF5AA1A46701}"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CF857A3-A083-40B1-8C0D-5CAB18AE71DA}"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BB93F7-37D2-45D9-BE0B-477B4AA99541}"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AEE5FCD-4340-4412-B251-19281159F6B9}"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F3B2CBF-95AF-467A-B5F2-E6FAE83E37B0}"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E33C583-651A-4828-998D-F668B0FD7C15}"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2506C59-2800-4430-8C3F-5AE539775F98}"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B0B1E82-429B-4375-A2F1-F121543FA6D9}"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BFF8236-5FBC-44B0-854F-AB9957ABFBAC}"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C019851-057C-4176-9F09-0FC843B9B3FA}"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1FBE8C-B7E0-4931-8910-B8488F7FF0A2}"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E1DDFB-632C-4BE0-9F98-ECC70A0C1AB5}"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ADD8AB1-238C-4F19-B557-314F671AA9FA}"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C85011B-AF7E-4FA2-AF32-E7124F87591D}"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2D05280-3480-49B7-81AA-0C957D0C3433}"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ED6393F-DC8A-44B3-A1CB-6982C6B3AAD4}"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9D8B252-5FBC-44F9-B643-23EE7F3987C1}"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2416EBA-50EB-4C3E-A75C-1F01EBF6039D}"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619402F-204A-433F-9DF9-A47C12BE6CCD}"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0433329-EF8B-4D3E-8D02-019314DD91C3}"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DB0D8CE-0656-45A3-9C93-630D8C8305B8}"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3704711-7EAE-4078-9A35-87F72B74221F}"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