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25A4-CC32-44D0-A504-9C6FF6FF7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0D5A-F384-4F77-8DF6-B360E0AFE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6A58-8764-4FA5-979C-95ED35DC2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C514-C42C-4C39-A260-A84B91D26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4BA4-3654-419F-9BCF-EC641D33F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97FF-61CA-4E68-A8FD-D36AD58E8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AF76-5698-49D6-9E94-1B4C83269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38B1-A527-461A-81A0-7E1C2236B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3A5F-AEBD-4B08-A16C-2A9DAD728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862D-6175-4524-92CE-8DCDF4FF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08A0-F56E-49FA-97BF-60200C3D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0F53-40A2-4F60-BF13-C1240EA9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99565-22BA-4B2C-8848-4EEA21B33F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ernatives to Mobile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ppendix to AFRL tal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vid Ko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51000" y="515880"/>
            <a:ext cx="84405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not extend other techniqu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16120" y="1828800"/>
            <a:ext cx="749448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PI - dynamic process cre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gion - checkpointing to support process mi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va - process serialization and state capture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istence (rumor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re these all going to end up supporting code mobili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any different systems are heading in the direction of mobile code.  Let’s go there directl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1520" y="1479600"/>
            <a:ext cx="818496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92240" y="76320"/>
            <a:ext cx="87962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g picture: A uniform fra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0160" y="1090440"/>
            <a:ext cx="81313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SUMMARY (so f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re are several different strengths of mobile ag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bile code helps solve various performanc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bustness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diosyncratic solutions exist in each problem dom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bile agents provide a unified framework, a si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ology for solving m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t’s go directly to where many different system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olving,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echniques work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36560" y="1165320"/>
            <a:ext cx="740556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mote Procedure Calls (RP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tored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Java Applets and serv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Load balancing in homogeneous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pplication-specific solutions ( eg. adaptive mesh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istributed document retrie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istributed 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 and queued R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99880" y="1092240"/>
            <a:ext cx="8536320" cy="1545840"/>
            <a:chOff x="299880" y="1092240"/>
            <a:chExt cx="8536320" cy="1545840"/>
          </a:xfrm>
        </p:grpSpPr>
        <p:sp>
          <p:nvSpPr>
            <p:cNvPr id="47" name=""/>
            <p:cNvSpPr/>
            <p:nvPr/>
          </p:nvSpPr>
          <p:spPr>
            <a:xfrm>
              <a:off x="299880" y="163656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RP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1389240" y="1092240"/>
              <a:ext cx="7446960" cy="1545840"/>
              <a:chOff x="1389240" y="1092240"/>
              <a:chExt cx="7446960" cy="1545840"/>
            </a:xfrm>
          </p:grpSpPr>
          <p:sp>
            <p:nvSpPr>
              <p:cNvPr id="49" name=""/>
              <p:cNvSpPr/>
              <p:nvPr/>
            </p:nvSpPr>
            <p:spPr>
              <a:xfrm>
                <a:off x="3419640" y="1092240"/>
                <a:ext cx="2032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Call to server proced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5339160" y="1893960"/>
                <a:ext cx="3497040" cy="601560"/>
              </a:xfrm>
              <a:prstGeom prst="parallelogram">
                <a:avLst>
                  <a:gd name="adj" fmla="val 141187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013880" y="1490760"/>
                <a:ext cx="1087560" cy="863640"/>
              </a:xfrm>
              <a:prstGeom prst="can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Datas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389240" y="1893960"/>
                <a:ext cx="2567160" cy="601560"/>
              </a:xfrm>
              <a:prstGeom prst="parallelogram">
                <a:avLst>
                  <a:gd name="adj" fmla="val 172024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2251440" y="1546200"/>
                <a:ext cx="841320" cy="7509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li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870880" y="1547640"/>
                <a:ext cx="841320" cy="7509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138840" y="1784160"/>
                <a:ext cx="26906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3173760" y="2004840"/>
                <a:ext cx="26193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712200" y="1930320"/>
                <a:ext cx="3049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637440" y="1995480"/>
                <a:ext cx="1595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Proced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result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" name=""/>
          <p:cNvGrpSpPr/>
          <p:nvPr/>
        </p:nvGrpSpPr>
        <p:grpSpPr>
          <a:xfrm>
            <a:off x="212760" y="2846520"/>
            <a:ext cx="8704080" cy="1733400"/>
            <a:chOff x="212760" y="2846520"/>
            <a:chExt cx="8704080" cy="1733400"/>
          </a:xfrm>
        </p:grpSpPr>
        <p:grpSp>
          <p:nvGrpSpPr>
            <p:cNvPr id="60" name=""/>
            <p:cNvGrpSpPr/>
            <p:nvPr/>
          </p:nvGrpSpPr>
          <p:grpSpPr>
            <a:xfrm>
              <a:off x="1469880" y="2846520"/>
              <a:ext cx="7446960" cy="1733400"/>
              <a:chOff x="1469880" y="2846520"/>
              <a:chExt cx="7446960" cy="1733400"/>
            </a:xfrm>
          </p:grpSpPr>
          <p:sp>
            <p:nvSpPr>
              <p:cNvPr id="61" name=""/>
              <p:cNvSpPr/>
              <p:nvPr/>
            </p:nvSpPr>
            <p:spPr>
              <a:xfrm>
                <a:off x="5419800" y="3860640"/>
                <a:ext cx="3497040" cy="601920"/>
              </a:xfrm>
              <a:prstGeom prst="parallelogram">
                <a:avLst>
                  <a:gd name="adj" fmla="val 141103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094520" y="3457440"/>
                <a:ext cx="1087200" cy="863640"/>
              </a:xfrm>
              <a:prstGeom prst="can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Datas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69880" y="3860640"/>
                <a:ext cx="2567160" cy="601920"/>
              </a:xfrm>
              <a:prstGeom prst="parallelogram">
                <a:avLst>
                  <a:gd name="adj" fmla="val 171921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332080" y="3513240"/>
                <a:ext cx="841320" cy="7509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li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951520" y="3514680"/>
                <a:ext cx="841320" cy="7509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6792840" y="3897360"/>
                <a:ext cx="3049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446360" y="3317760"/>
                <a:ext cx="455760" cy="1262160"/>
              </a:xfrm>
              <a:prstGeom prst="lightningBol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217680" y="3740040"/>
                <a:ext cx="12351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" name=""/>
              <p:cNvGrpSpPr/>
              <p:nvPr/>
            </p:nvGrpSpPr>
            <p:grpSpPr>
              <a:xfrm>
                <a:off x="3268440" y="3286080"/>
                <a:ext cx="1000440" cy="378000"/>
                <a:chOff x="3268440" y="3286080"/>
                <a:chExt cx="1000440" cy="37800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3935520" y="3286080"/>
                  <a:ext cx="333360" cy="378000"/>
                </a:xfrm>
                <a:prstGeom prst="rect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268440" y="3286080"/>
                  <a:ext cx="333360" cy="378000"/>
                </a:xfrm>
                <a:prstGeom prst="rect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3595680" y="3286080"/>
                  <a:ext cx="333360" cy="378000"/>
                </a:xfrm>
                <a:prstGeom prst="rect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5113080" y="3516480"/>
                <a:ext cx="665280" cy="378720"/>
                <a:chOff x="5113080" y="3516480"/>
                <a:chExt cx="665280" cy="37872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5113080" y="3517920"/>
                  <a:ext cx="333360" cy="377280"/>
                </a:xfrm>
                <a:prstGeom prst="rect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5445000" y="3516480"/>
                  <a:ext cx="333360" cy="377640"/>
                </a:xfrm>
                <a:prstGeom prst="rect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" name=""/>
              <p:cNvSpPr/>
              <p:nvPr/>
            </p:nvSpPr>
            <p:spPr>
              <a:xfrm flipH="1">
                <a:off x="4862520" y="3970440"/>
                <a:ext cx="10159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832120" y="2846520"/>
                <a:ext cx="162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Queued call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871880" y="3098880"/>
                <a:ext cx="185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Queued result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212760" y="3301920"/>
              <a:ext cx="1326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Queu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RP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793080" y="4888080"/>
            <a:ext cx="7567560" cy="1252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 mobile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 constrained to server’s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l requests and results over client’s network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 latency or bandwidth reduction, and blocked if link goes d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ed procedures and RE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0120" y="1066680"/>
            <a:ext cx="25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ored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57480" y="3186000"/>
            <a:ext cx="153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3. Send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38240" y="1668600"/>
            <a:ext cx="3863880" cy="2952720"/>
            <a:chOff x="138240" y="1668600"/>
            <a:chExt cx="3863880" cy="2952720"/>
          </a:xfrm>
        </p:grpSpPr>
        <p:sp>
          <p:nvSpPr>
            <p:cNvPr id="85" name=""/>
            <p:cNvSpPr/>
            <p:nvPr/>
          </p:nvSpPr>
          <p:spPr>
            <a:xfrm>
              <a:off x="200160" y="2071800"/>
              <a:ext cx="3497040" cy="601920"/>
            </a:xfrm>
            <a:prstGeom prst="parallelogram">
              <a:avLst>
                <a:gd name="adj" fmla="val 141103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907920" y="1668600"/>
              <a:ext cx="1087560" cy="86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atas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434960" y="4019760"/>
              <a:ext cx="2567160" cy="601560"/>
            </a:xfrm>
            <a:prstGeom prst="parallelogram">
              <a:avLst>
                <a:gd name="adj" fmla="val 17202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241720" y="3751560"/>
              <a:ext cx="841320" cy="750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300400" y="1714680"/>
              <a:ext cx="841320" cy="750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000160" y="2108520"/>
              <a:ext cx="304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2486160" y="2779560"/>
              <a:ext cx="353880" cy="1015920"/>
              <a:chOff x="2486160" y="2779560"/>
              <a:chExt cx="353880" cy="1015920"/>
            </a:xfrm>
          </p:grpSpPr>
          <p:sp>
            <p:nvSpPr>
              <p:cNvPr id="92" name=""/>
              <p:cNvSpPr/>
              <p:nvPr/>
            </p:nvSpPr>
            <p:spPr>
              <a:xfrm flipV="1">
                <a:off x="2486160" y="2785320"/>
                <a:ext cx="2880" cy="998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flipV="1">
                <a:off x="2651040" y="2779560"/>
                <a:ext cx="7920" cy="989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835360" y="2807640"/>
                <a:ext cx="4680" cy="987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2363760" y="2259360"/>
              <a:ext cx="677880" cy="53496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r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5240" y="2822760"/>
              <a:ext cx="2038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1. Send procedure code to 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38240" y="352440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2. Call proced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2095560" y="3079800"/>
              <a:ext cx="392040" cy="88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2006640" y="3483000"/>
              <a:ext cx="649080" cy="223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2835360" y="3281760"/>
              <a:ext cx="257040" cy="1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6168960" y="106668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21320" y="2071800"/>
            <a:ext cx="3497040" cy="601560"/>
          </a:xfrm>
          <a:prstGeom prst="parallelogram">
            <a:avLst>
              <a:gd name="adj" fmla="val 1411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29080" y="1668600"/>
            <a:ext cx="1087560" cy="8636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856120" y="4019400"/>
            <a:ext cx="2567160" cy="601920"/>
          </a:xfrm>
          <a:prstGeom prst="parallelogram">
            <a:avLst>
              <a:gd name="adj" fmla="val 17192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662880" y="3751200"/>
            <a:ext cx="841320" cy="750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21560" y="1714680"/>
            <a:ext cx="841320" cy="750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21320" y="2108160"/>
            <a:ext cx="304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6765840" y="2752560"/>
            <a:ext cx="152640" cy="1020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88040" y="2739960"/>
            <a:ext cx="308160" cy="708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572160" y="2236680"/>
            <a:ext cx="677880" cy="5349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61040" y="3452760"/>
            <a:ext cx="677880" cy="5349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10120" y="2778120"/>
            <a:ext cx="255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. Send procedure code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Times New Roman"/>
              </a:rPr>
              <a:t>and arguments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to server - procedure called immediat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542360" y="2378160"/>
            <a:ext cx="1579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2. Send results (and maybe a server procedu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6388200" y="3230280"/>
            <a:ext cx="447480" cy="135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7250040" y="3017880"/>
            <a:ext cx="515880" cy="123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1920" y="4989600"/>
            <a:ext cx="8493120" cy="1252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rfect if accessing one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fficulties if accessing more than one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716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cedures usually can not communicate with each 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716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cedures usually can not send out their own procedures (e.g., no prox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ets and servl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1920" y="5167440"/>
            <a:ext cx="8493120" cy="1008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me limitations as stored procedures and R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lementations pay more attention to security than stored procedures and R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00160" y="1119240"/>
            <a:ext cx="8910000" cy="3665520"/>
            <a:chOff x="200160" y="1119240"/>
            <a:chExt cx="8910000" cy="3665520"/>
          </a:xfrm>
        </p:grpSpPr>
        <p:sp>
          <p:nvSpPr>
            <p:cNvPr id="120" name=""/>
            <p:cNvSpPr/>
            <p:nvPr/>
          </p:nvSpPr>
          <p:spPr>
            <a:xfrm>
              <a:off x="1581120" y="1120680"/>
              <a:ext cx="118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pple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200160" y="1712880"/>
              <a:ext cx="4647960" cy="3053880"/>
              <a:chOff x="200160" y="1712880"/>
              <a:chExt cx="4647960" cy="3053880"/>
            </a:xfrm>
          </p:grpSpPr>
          <p:sp>
            <p:nvSpPr>
              <p:cNvPr id="122" name=""/>
              <p:cNvSpPr/>
              <p:nvPr/>
            </p:nvSpPr>
            <p:spPr>
              <a:xfrm>
                <a:off x="2763720" y="2869920"/>
                <a:ext cx="20844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2. Receive page and “embedded” applet; execute applet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00160" y="2182680"/>
                <a:ext cx="3497040" cy="601200"/>
              </a:xfrm>
              <a:prstGeom prst="parallelogram">
                <a:avLst>
                  <a:gd name="adj" fmla="val 141272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907920" y="1712880"/>
                <a:ext cx="1087560" cy="930240"/>
              </a:xfrm>
              <a:prstGeom prst="can">
                <a:avLst>
                  <a:gd name="adj" fmla="val 2013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e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ag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1520" y="4165200"/>
                <a:ext cx="2566800" cy="601560"/>
              </a:xfrm>
              <a:prstGeom prst="parallelogram">
                <a:avLst>
                  <a:gd name="adj" fmla="val 17200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96760" y="3662280"/>
                <a:ext cx="1143000" cy="10170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Brows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255760" y="1780920"/>
                <a:ext cx="955800" cy="8521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e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000160" y="2219040"/>
                <a:ext cx="2494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1724040" y="2537640"/>
                <a:ext cx="743040" cy="1177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2436480" y="2636640"/>
                <a:ext cx="252360" cy="13014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992240" y="3928680"/>
                <a:ext cx="946080" cy="534600"/>
              </a:xfrm>
              <a:prstGeom prst="rect">
                <a:avLst/>
              </a:prstGeom>
              <a:solidFill>
                <a:srgbClr val="ffcc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Appl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20680" y="2922480"/>
                <a:ext cx="1600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1. Request Web pag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568520" y="3192120"/>
                <a:ext cx="403200" cy="134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>
                <a:off x="2532240" y="3450960"/>
                <a:ext cx="482400" cy="10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5124240" y="2178000"/>
              <a:ext cx="3497040" cy="601560"/>
            </a:xfrm>
            <a:prstGeom prst="parallelogram">
              <a:avLst>
                <a:gd name="adj" fmla="val 14118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832360" y="1708200"/>
              <a:ext cx="1087200" cy="930240"/>
            </a:xfrm>
            <a:prstGeom prst="can">
              <a:avLst>
                <a:gd name="adj" fmla="val 2013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e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ag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619600" y="4183200"/>
              <a:ext cx="2566800" cy="601560"/>
            </a:xfrm>
            <a:prstGeom prst="parallelogram">
              <a:avLst>
                <a:gd name="adj" fmla="val 17200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145200" y="3679920"/>
              <a:ext cx="1142640" cy="1017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row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157880" y="1776240"/>
              <a:ext cx="955440" cy="852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e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924600" y="2214720"/>
              <a:ext cx="248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927840" y="3047760"/>
              <a:ext cx="406080" cy="663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7110360" y="3024360"/>
              <a:ext cx="509040" cy="798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119720" y="2511360"/>
              <a:ext cx="945720" cy="53496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rvl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202000" y="3030480"/>
              <a:ext cx="159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1. Send servl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543800" y="3530520"/>
              <a:ext cx="156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2. Get resu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824520" y="3271680"/>
              <a:ext cx="291600" cy="133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96120" y="3495600"/>
              <a:ext cx="267840" cy="157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49680" y="111924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ervle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ad balanc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31760" y="1260360"/>
            <a:ext cx="7326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PI, Condor and Legion: Load balancing can be d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 statically (for a heterogeneous network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 dynamically through data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ch programmer effort required to achieve even limited solu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much security suppo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ten pre-loaded code or homogeneous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-specific sol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20960" y="3862440"/>
            <a:ext cx="971640" cy="828720"/>
          </a:xfrm>
          <a:prstGeom prst="cube">
            <a:avLst>
              <a:gd name="adj" fmla="val 25000"/>
            </a:avLst>
          </a:prstGeom>
          <a:solidFill>
            <a:srgbClr val="00cc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67160" y="4665600"/>
            <a:ext cx="971640" cy="8287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19440" y="2808360"/>
            <a:ext cx="971640" cy="8287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31040" y="3678120"/>
            <a:ext cx="971640" cy="82872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04760" y="3720960"/>
            <a:ext cx="971640" cy="8287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20480" y="4775040"/>
            <a:ext cx="189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phy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onent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87520" y="4699080"/>
            <a:ext cx="187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Grid/me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a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62800" y="3722760"/>
            <a:ext cx="221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composi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608880" y="4651200"/>
            <a:ext cx="23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Visualiza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94040" y="4056120"/>
            <a:ext cx="722160" cy="230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827520" y="3668760"/>
            <a:ext cx="882720" cy="511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9880" y="4427640"/>
            <a:ext cx="1341720" cy="757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610240" y="3139920"/>
            <a:ext cx="1693800" cy="635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6332400" y="4303800"/>
            <a:ext cx="900360" cy="635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77720" y="1407960"/>
            <a:ext cx="84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:  Modeling of complex mechanical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60640" y="2446200"/>
            <a:ext cx="273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defined, fi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tributed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07360" y="5745240"/>
            <a:ext cx="58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ardwired” approach….nothing dynam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 without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smart" descr=""/>
          <p:cNvPicPr/>
          <p:nvPr/>
        </p:nvPicPr>
        <p:blipFill>
          <a:blip r:embed="rId1"/>
          <a:stretch/>
        </p:blipFill>
        <p:spPr>
          <a:xfrm>
            <a:off x="277920" y="1130400"/>
            <a:ext cx="2246040" cy="15699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070520" y="188136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624120" y="2367000"/>
            <a:ext cx="254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Pre-installed application-specific prox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7054920" y="2019240"/>
            <a:ext cx="1828800" cy="703080"/>
            <a:chOff x="7054920" y="2019240"/>
            <a:chExt cx="1828800" cy="703080"/>
          </a:xfrm>
        </p:grpSpPr>
        <p:sp>
          <p:nvSpPr>
            <p:cNvPr id="174" name=""/>
            <p:cNvSpPr/>
            <p:nvPr/>
          </p:nvSpPr>
          <p:spPr>
            <a:xfrm>
              <a:off x="7054920" y="2188800"/>
              <a:ext cx="1828800" cy="533520"/>
            </a:xfrm>
            <a:prstGeom prst="parallelogram">
              <a:avLst>
                <a:gd name="adj" fmla="val 10548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620120" y="201924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7679880" y="1571760"/>
            <a:ext cx="7290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554200" y="1862280"/>
            <a:ext cx="1941480" cy="648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35640" y="1512720"/>
            <a:ext cx="896760" cy="78444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list" descr=""/>
          <p:cNvPicPr/>
          <p:nvPr/>
        </p:nvPicPr>
        <p:blipFill>
          <a:blip r:embed="rId2"/>
          <a:stretch/>
        </p:blipFill>
        <p:spPr>
          <a:xfrm>
            <a:off x="949320" y="1911240"/>
            <a:ext cx="1281240" cy="1284480"/>
          </a:xfrm>
          <a:prstGeom prst="rect">
            <a:avLst/>
          </a:prstGeom>
          <a:ln w="0">
            <a:noFill/>
          </a:ln>
        </p:spPr>
      </p:pic>
      <p:grpSp>
        <p:nvGrpSpPr>
          <p:cNvPr id="180" name=""/>
          <p:cNvGrpSpPr/>
          <p:nvPr/>
        </p:nvGrpSpPr>
        <p:grpSpPr>
          <a:xfrm>
            <a:off x="7124760" y="849240"/>
            <a:ext cx="1828800" cy="703080"/>
            <a:chOff x="7124760" y="849240"/>
            <a:chExt cx="1828800" cy="703080"/>
          </a:xfrm>
        </p:grpSpPr>
        <p:sp>
          <p:nvSpPr>
            <p:cNvPr id="181" name=""/>
            <p:cNvSpPr/>
            <p:nvPr/>
          </p:nvSpPr>
          <p:spPr>
            <a:xfrm>
              <a:off x="7124760" y="101916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689960" y="84924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6735600" y="2724120"/>
            <a:ext cx="229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Higher-level database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5361120" y="1184040"/>
            <a:ext cx="2523960" cy="6267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5560" y="1930320"/>
            <a:ext cx="2535120" cy="44928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09960" y="120168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Queu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276960" y="151128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Queu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smart" descr=""/>
          <p:cNvPicPr/>
          <p:nvPr/>
        </p:nvPicPr>
        <p:blipFill>
          <a:blip r:embed="rId3"/>
          <a:stretch/>
        </p:blipFill>
        <p:spPr>
          <a:xfrm>
            <a:off x="222120" y="4114800"/>
            <a:ext cx="2246400" cy="15699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948120" y="491004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02080" y="5396040"/>
            <a:ext cx="254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ro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6999120" y="5003640"/>
            <a:ext cx="1828800" cy="703080"/>
            <a:chOff x="6999120" y="5003640"/>
            <a:chExt cx="1828800" cy="703080"/>
          </a:xfrm>
        </p:grpSpPr>
        <p:sp>
          <p:nvSpPr>
            <p:cNvPr id="192" name=""/>
            <p:cNvSpPr/>
            <p:nvPr/>
          </p:nvSpPr>
          <p:spPr>
            <a:xfrm>
              <a:off x="6999120" y="5173200"/>
              <a:ext cx="1828800" cy="533520"/>
            </a:xfrm>
            <a:prstGeom prst="parallelogram">
              <a:avLst>
                <a:gd name="adj" fmla="val 10548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64320" y="500364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7624440" y="4556160"/>
            <a:ext cx="7290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79840" y="4497480"/>
            <a:ext cx="897120" cy="78408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list" descr=""/>
          <p:cNvPicPr/>
          <p:nvPr/>
        </p:nvPicPr>
        <p:blipFill>
          <a:blip r:embed="rId4"/>
          <a:stretch/>
        </p:blipFill>
        <p:spPr>
          <a:xfrm>
            <a:off x="893880" y="4917960"/>
            <a:ext cx="1280880" cy="1284480"/>
          </a:xfrm>
          <a:prstGeom prst="rect">
            <a:avLst/>
          </a:prstGeom>
          <a:ln w="0">
            <a:noFill/>
          </a:ln>
        </p:spPr>
      </p:pic>
      <p:grpSp>
        <p:nvGrpSpPr>
          <p:cNvPr id="197" name=""/>
          <p:cNvGrpSpPr/>
          <p:nvPr/>
        </p:nvGrpSpPr>
        <p:grpSpPr>
          <a:xfrm>
            <a:off x="7068960" y="3833640"/>
            <a:ext cx="1828800" cy="703080"/>
            <a:chOff x="7068960" y="3833640"/>
            <a:chExt cx="1828800" cy="703080"/>
          </a:xfrm>
        </p:grpSpPr>
        <p:sp>
          <p:nvSpPr>
            <p:cNvPr id="198" name=""/>
            <p:cNvSpPr/>
            <p:nvPr/>
          </p:nvSpPr>
          <p:spPr>
            <a:xfrm>
              <a:off x="7068960" y="400356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34160" y="383364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 flipV="1">
            <a:off x="2563920" y="4974840"/>
            <a:ext cx="1638360" cy="126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54480" y="4824360"/>
            <a:ext cx="677880" cy="5349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297560" y="3933720"/>
            <a:ext cx="677880" cy="5349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259760" y="5105520"/>
            <a:ext cx="677880" cy="5349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5300640" y="4184640"/>
            <a:ext cx="1974960" cy="63648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15040" y="5005440"/>
            <a:ext cx="1896840" cy="30312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54160" y="3686040"/>
            <a:ext cx="698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Much less work, but now try extending the TR ap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4040" y="700200"/>
            <a:ext cx="179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Lot of wor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811240" y="432288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Queue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13440" y="453240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Queue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takes several techni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81520" y="1635120"/>
            <a:ext cx="677520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t is, the research community is develop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ral different approaches to deal with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efficiency, robustness, adaptability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exibility for distributed computing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ormation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 propose a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singl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ology, mobile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ed on strong code mobility, to solve m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s in a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unified framewor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5T20:38:20Z</dcterms:created>
  <dc:creator>David Kotz</dc:creator>
  <dc:description/>
  <dc:language>en-US</dc:language>
  <cp:lastModifiedBy>David Kotz</cp:lastModifiedBy>
  <dcterms:modified xsi:type="dcterms:W3CDTF">1999-09-05T20:44:51Z</dcterms:modified>
  <cp:revision>1</cp:revision>
  <dc:subject/>
  <dc:title>Alternatives to Mobile Agents</dc:title>
</cp:coreProperties>
</file>