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1D5B-EA42-459E-A6D3-7DB3CA11C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1FA2B-C0AB-4801-A44C-AAD65F604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95903-6947-435E-B1A5-8A4B19C7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342F2-C96E-412C-AF37-6D580134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510B2-F3AF-4D99-B5E4-215D13993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99860-2DF3-4274-B032-A1B2CACC0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3989-973A-40A1-AB35-617FF548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7449-751A-4245-9083-4A230D912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640F-A70A-4E5F-A34A-6A6E04967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3401-41CC-4797-B340-234CC0E3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27F1-BF68-40C3-ABFF-99EFEE5F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DFEF-08DA-4A83-B8D3-45323185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BB9B-EBDF-48C3-B695-E2E42B0B2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A4C1-4637-4D56-A360-5559A46D9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B7922EA-84CD-492C-96A3-FEFFF3C2DC4A}"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10DB06-371B-41B3-B36D-FF134005DFF2}"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6961D87-57C4-4CC7-8999-92ED6012382B}"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AD81B4-2D8A-4592-A08F-73E03B31CA11}"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9FEA16D-B4B0-4930-AA17-125051C3A734}"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51927A9-F8B3-440A-82CE-6A3BED8B7C49}"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B476EC0-7EA4-40E7-8F06-1A5B36D20A92}"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FC9C5CA-F89B-4993-A487-670D561AC11B}"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1755047-7296-4370-BE27-37CAE6AF8C35}"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CDE5B3E-8237-4E19-B9C1-A690CBE3B813}"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19CE64E-CA36-4522-92D7-65D105309E7A}"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52F98D-F5CA-41B1-A6EE-F6ABDEF6C6D9}"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F141FD4-3034-4AAD-8019-74960D2F241C}"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EF64096-91AB-4E89-8CB0-AC1BB17B033B}"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77AAC51-450F-477F-A8E9-F64132A40403}"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A4A360D-8E13-4574-A3C1-B6AF1B997D2E}"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8CB465D-F092-4E04-BA89-BB1B5FD82747}"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74282E7-6BBF-410F-B496-9D37F2FA067B}"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EE72A43-84FE-4F4B-A8CA-93F44975A9AA}"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3394886-3A5E-426B-8FF4-4A0D2E047A9E}"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770ABD8-25EA-4E8F-A37F-D22A1096421A}"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6E4B2CE-CDAB-416D-A768-3EB0B1A97F01}"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0A41305-4146-49E9-B230-44B68F2DCEFF}"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8AC2C1A-908A-4019-82A4-97CE2490FA57}"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0E130EE-859F-47E2-8899-DB4DBED1B307}"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68C59F9-5D60-41D7-87BB-069EBAFAE063}"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0FD726F-6791-4AFC-9E7A-2BC3871325D0}"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018B28A-8F3F-403C-99AD-07E92D33ECDC}"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03EFB7B-CC69-4BBF-A7C4-65C4D98E727A}"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B71E9D1-FB66-4C75-ABAD-DC1A603E4635}"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D261D3-3A56-4D88-9F52-75B5BFE82899}"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FB4F16-BF65-4149-9A76-40707D3ED141}"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5A1600B-0875-44C2-935D-D8C9C6A9E210}"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075D9BC-A0CB-4619-A0F4-8D309390D38D}"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7DC4E7D-8388-426F-986F-84C8BDF03A28}"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60D2C3D-373F-4C87-8B18-A0FDE04FA9FE}"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109173E-A4FA-404A-87EF-34AFEB9E9110}"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E87EC78-DB21-445F-8D3C-AB7B0248E51A}"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0119596-E156-41DF-99DB-6DB080154FF4}"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392063-519F-4E18-A3B2-F8790DB65EBB}"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6ADF44C-86C1-4DA7-A5E4-67328C97ABB5}"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2E73A4C-31FF-4860-B415-5C65C77028E6}"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C8BA96D-5EDF-4D6B-9E6C-525015E745AD}"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CC8A024-3117-4089-98AC-06D52117375B}"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540DE22-5284-4E1D-9F29-81E280BFD8C6}"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2D569BD-AB87-49B2-9A15-F4E18462C488}"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B47D98D-F667-435D-9A78-97CF0607B29E}"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9BDCB1F-24DB-4543-B516-0DF09064999F}"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20D2A3A-8523-40D8-9BEA-6BE449FFED47}"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60B8D24-60DA-44FB-BB83-E6956FFEB1A4}"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F0BDBDF-C689-4B70-89B0-CEE25FE39FAD}"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30B175A-BA95-47B1-B0C6-2ABC684DEAEA}"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941482A-49A3-4F44-8ACA-3D25737E5E2E}"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E5B66B1-3420-42A1-A2D2-8ADCE769592F}"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24B853A-F9D7-4791-A03D-E3A99B40EE3E}"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2DE6E72-97AF-45A0-A381-E3F3612DCC1A}"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2944FFA-AFE5-454C-AB04-E4693111555A}"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BDC118F-E3F0-4EC3-A900-B6D6097BD656}"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E35D50C-64AB-4466-8029-8E7C58A99918}"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6B1C728-F420-4C4A-9650-3A6F55474F94}"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3D4E21D-415D-450F-9A93-3924FACBF5A8}"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A601F8A-C7DD-4DFB-9AEF-C573510FA1BC}"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93D004F-4111-47D5-B1AD-11FB76328ACA}"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00F6AA8-74AE-44AA-9CF1-B04D7E684A45}"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B72445A-2576-4B41-93D3-792FC702AD47}"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9589035-D9B2-4587-9BDC-B1E935FD202A}"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B321DCE-ED55-470A-A281-97B2F23ED509}"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C024BF1-97CE-48CE-955A-650696DDE325}"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B7AA9D-BD27-419A-8310-93CDCD36A84D}"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876EEF-D2FE-4E8A-A3FE-4ED680E6B8E0}"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2789B02-0BFD-4DBE-98FE-A07F751AEAE6}"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437B51E-AE04-4215-A39E-C2720D07B41C}"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9795704-0F33-45F3-A62C-52E9D14050CD}"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C8A5C11-BD76-49C0-8B21-C107162063FF}"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87E5959-5AC3-4710-B6E0-90178B6CBC56}"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228D9DB-31ED-4E90-8F92-FFE4B4558D0D}"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B687A8B-6E82-49F0-BE6B-5E6A3C320418}"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C15E855-4256-4939-983E-A8C67F41BE0E}"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3120DC-3219-47D6-97F4-F537A2F9718F}"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F5B7CFE-B8AF-44BD-A411-3091C12E167D}"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52D5DCC-DAE3-48A5-93A0-39A8E95A4A77}"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370E497-A082-4579-9E47-A5BFD947EFE8}"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253405C-A5DE-4259-8049-FDE4C76DF122}"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C183ECB-30D0-47EF-8907-2E2636B99CB4}"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35F7927-387F-4B25-A492-F6D82CC7CB71}"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C223809-4ECC-4B2E-9AFB-CF4BF6EBEABF}"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F4AC52B-2E81-4678-814D-A3B8DD13BBDE}"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50F32D0-BA5B-4EED-92D5-8A274D513585}"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DEF2BF7-1830-42D4-BDBA-9F38D868EB4D}"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F4D4F05-D89C-44FA-9714-E6BDDA8663FF}"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6AD46F0-A4F4-46C6-ABDA-CB7BE9D8F4CE}"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2E9DFEE-A53B-4D0D-BCD4-F968AD17B252}"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3AA284C-3B2D-47CB-8A0B-1390E5630A4E}"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8864086-96E1-44AD-91ED-6C357CA19F19}"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CEBAF36-5C12-4487-A4EF-D687DF77CFED}"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80BB720-79BD-4737-8AEA-E487554FE050}"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C0AB3AE-8006-45C3-847B-4270F61DDE59}"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663C821-9612-44B7-ACE1-E6F4332CB498}"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960CC18-3172-4096-8D10-21F43E4D7197}"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2FBE212-D65B-4662-B35C-A56D7CA7A761}"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E763919-BAA8-494B-8F1C-ECB1088031C3}"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71A4ED3-5332-4A88-8563-5E9DC5CC31BA}"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61DC886-5E89-46EB-B520-3DE411DB3859}"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8FC86D8-926C-42EE-BED7-916D89E6CC6C}"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8E44488-CBEA-4AFF-8994-53B4F3FF9D34}"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74DF04E-E1FE-4B78-846D-4ACF79EC01E8}"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E2DEFF8-442A-420B-A3AD-BA7B8439F0CE}"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E933442-384B-447D-B479-BE9519C8F31C}"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26F31F7-7683-4D7F-99E4-0D67419686BD}"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507886E-4ED7-41D7-B35F-299994002C66}"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DF367D2-0613-40ED-8CDB-89AD35EB128F}"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049357B-1CE7-4476-9122-A4AB38287C3F}"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85CCCBE-B591-41A1-A1FC-150E0F2CB433}"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72E536A-8CA4-44B6-95EB-2E4B5E857437}"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419EBF5-D990-4164-9DC0-77AAB8DC593B}"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DD82BCB-0E88-4EB6-83AA-30ECB8DEE492}"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A2E335E-2A3E-4EC3-8366-D8B95002757A}"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C8FF4D1-DAFA-4F70-A9A7-04E1FCB1826B}"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9F21E57-095B-4E7E-8ABB-56240355C7A9}"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2485398-8836-4D2D-BC83-3FC37B1CD9B3}"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7F2E09F-6E55-4670-A4A2-63D8848C1900}"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